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AC300F-D601-465F-87B6-8F7EC114D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FD0A97-E566-43A6-B8C5-A002CD5B0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DAA10F-8E4D-4378-89E9-A0D448301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8683D5-DB44-405F-ACA3-8D3291B69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1497DE-FF42-4C79-8873-96188C2EF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98F-C70A-4875-892F-F84E6FDA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C1D-CC2A-4077-9F22-7798DE40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217-2431-43FD-9CA3-0C6177E2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F66-6037-4C57-B8A3-F3F845A7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2ED-96D1-4F25-8841-263F7D75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7FB-8559-4F49-A012-AC2333AD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A4D-8B8F-4B8C-A934-7B7CCF7F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36B-46AA-45CA-A125-7E20A7A8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248-0936-4A7D-BAE1-EC15E866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1B4-6C09-46D9-BDDC-7127C602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16A-8395-4511-A74F-BDA43BE0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DF4-B14F-4EE4-A9AE-155F77BB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8C36-4623-4758-B7A4-5572FA5D8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ynew@fasab.gov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. S. Federal Accounting Standards Advisory Boar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for 2012 OECD Accrual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dy Payne, Executiv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ASAB Blue Logo"/>
          <p:cNvPicPr/>
          <p:nvPr/>
        </p:nvPicPr>
        <p:blipFill>
          <a:blip r:embed="rId1"/>
          <a:stretch/>
        </p:blipFill>
        <p:spPr>
          <a:xfrm>
            <a:off x="7010280" y="22860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E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AB established concepts in mid-9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now being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 include (all entities “established by” the federal government or a subset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present information (all consolidated, some separately displayed or disclose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stinguishes “related” parties from parties included in governmental repo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9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Entity – Draft Propo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entities budgeted for, controlled with potential for risk or reward, or ow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between core and non-core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entities are taxpayer supported and on-going decision making is more clearly linked to elected officials. Information for core entities is to be consolidated in financial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ore entities are somewhat independent from elected officials and may be financial self-sustaining. Information regarding non-core entities is to be disclosed in n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hip expl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vant financial activity during the period revea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ks discussed and quantified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83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ssu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s in non-federal secu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Private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87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and Websit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quiries can be directed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ndy Pay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ynew@fasab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 202 512-73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FASAB Blue Logo"/>
          <p:cNvPicPr/>
          <p:nvPr/>
        </p:nvPicPr>
        <p:blipFill>
          <a:blip r:embed="rId4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expressed are those of the speaker. 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ASAB Blue Logo"/>
          <p:cNvPicPr/>
          <p:nvPr/>
        </p:nvPicPr>
        <p:blipFill>
          <a:blip r:embed="rId1"/>
          <a:stretch/>
        </p:blipFill>
        <p:spPr>
          <a:xfrm>
            <a:off x="6934320" y="15228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Completed Project on Prospectiv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oing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Financial Report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ASAB Blue Logo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spective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’s Discussion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ssible future effects on the entity of existing, currently-known demands, risks, uncertainties, events, conditions and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tement of Long-Term Fiscal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of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tement of Changes in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ASAB Blue Logo"/>
          <p:cNvPicPr/>
          <p:nvPr/>
        </p:nvPicPr>
        <p:blipFill>
          <a:blip r:embed="rId1"/>
          <a:stretch/>
        </p:blipFill>
        <p:spPr>
          <a:xfrm>
            <a:off x="6858000" y="495288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FAS 37 - Social Insurance – Additional Require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’s discussion and analysis – requirement for a singular presentation of accrual, budgetary and prospective information to ensure context and encourag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social insurance required to display both open and closed group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tement of Changes in Social Insurance Amou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esent the reasons for changes in the open group measure (the bottom line of the statement of social insu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ASAB Blue Logo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Changes in 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33520" y="938160"/>
            <a:ext cx="76197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On-going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ASAB Blue Logo"/>
          <p:cNvPicPr/>
          <p:nvPr/>
        </p:nvPicPr>
        <p:blipFill>
          <a:blip r:embed="rId1"/>
          <a:stretch/>
        </p:blipFill>
        <p:spPr>
          <a:xfrm>
            <a:off x="6934320" y="15228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Report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exist regarding the benefits of accrual basis financial statements relative to the cost of preparing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AB user needs study (citizen focus groups and surve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CD assisted survey regarding users of government-wide reports (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Chief Financial Officers (CFO) Council report on results of CFO Act (financial statement audits at component entity level) (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CD assisted survey of country practices regarding component entity reports (201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AB Task Force on Government-wide Financial Reports (Dec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FASAB Blue Logo"/>
          <p:cNvPicPr/>
          <p:nvPr/>
        </p:nvPicPr>
        <p:blipFill>
          <a:blip r:embed="rId1"/>
          <a:stretch/>
        </p:blipFill>
        <p:spPr>
          <a:xfrm>
            <a:off x="7924680" y="579132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1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Reporting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-wide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eliver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Government-wide performan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Net cost and spending b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Statement of spend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Intergovernmental financial dependenc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Improved reconciliation of deficit and operat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Reclassify the reconciliation of cash and deb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orient the balance sheet and improve stakehold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difference between net liabilities and fiscal 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a web-site for reports and raise awareness in the near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5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5:25:45Z</dcterms:created>
  <dc:creator>Wendy Payne</dc:creator>
  <dc:description/>
  <dc:language>en-US</dc:language>
  <cp:lastModifiedBy>GAO</cp:lastModifiedBy>
  <dcterms:modified xsi:type="dcterms:W3CDTF">2012-03-20T15:24:16Z</dcterms:modified>
  <cp:revision>78</cp:revision>
  <dc:subject/>
  <dc:title>Changing World of the CFO: FASAB and the Future of GAAP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53763102</vt:r8>
  </property>
  <property fmtid="{D5CDD505-2E9C-101B-9397-08002B2CF9AE}" pid="3" name="_AuthorEmail">
    <vt:lpwstr>JacksonCW1@fasab.gov</vt:lpwstr>
  </property>
  <property fmtid="{D5CDD505-2E9C-101B-9397-08002B2CF9AE}" pid="4" name="_AuthorEmailDisplayName">
    <vt:lpwstr>Jackson, Charles W</vt:lpwstr>
  </property>
  <property fmtid="{D5CDD505-2E9C-101B-9397-08002B2CF9AE}" pid="5" name="_EmailSubject">
    <vt:lpwstr>Web Postings   PRIORITY:  HIGH</vt:lpwstr>
  </property>
  <property fmtid="{D5CDD505-2E9C-101B-9397-08002B2CF9AE}" pid="6" name="_NewReviewCycle">
    <vt:lpwstr/>
  </property>
</Properties>
</file>