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DFBA680-A50D-4198-BF6C-366C8F7C6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6F4AD52-5DB0-4E9F-A721-37296A7F0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93CBBF2-FD59-4E4B-9716-CBF0356E9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1D3D938-0383-4E49-BA18-DDECF5A0C3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ad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al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Zea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wa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u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d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ed King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C53DFFC-A232-47E8-B6D0-B0AB2AF4EA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ad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al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Zea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wa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u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d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ed King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8F76-B172-4F83-BE84-8FD0CCFF2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ADD4-2379-4CB9-BEBE-480D0221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AEC1-97E4-4B94-8F22-F99763B02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C289-4D8C-4065-8CDC-857807A98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EA72-AFCB-48CB-83B0-759B5DBE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E909-EFAB-4DA8-AC9D-FCF8D3E6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BEB5-42B9-4152-93B3-314246FC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BC66-F0EC-42D6-A3C8-6217CEE6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1396-5FF5-409E-B781-80200F11B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15B5-D7CA-4F99-A879-FBEE78E1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CE26-1341-4185-997D-36BA135E9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0841-E87B-49B1-A28F-92D1DC09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CE368-D678-41AA-A8F0-FC3BEF264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fasab@fasab.gov" TargetMode="External"/><Relationship Id="rId2" Type="http://schemas.openxmlformats.org/officeDocument/2006/relationships/hyperlink" Target="http://www.fasab.gov/" TargetMode="External"/><Relationship Id="rId3" Type="http://schemas.openxmlformats.org/officeDocument/2006/relationships/hyperlink" Target="mailto:paynew@fasab.gov" TargetMode="External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. S. Federal Accounting Standards Advisory Board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 for 2012 OECD Accruals Sympos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ndy Payne, Executive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FASAB Blue Logo"/>
          <p:cNvPicPr/>
          <p:nvPr/>
        </p:nvPicPr>
        <p:blipFill>
          <a:blip r:embed="rId1"/>
          <a:stretch/>
        </p:blipFill>
        <p:spPr>
          <a:xfrm>
            <a:off x="7010280" y="228600"/>
            <a:ext cx="190512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ederal Ent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AB established concepts in mid-90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s now being develo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o include (all entities “established by” the federal government or a subset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present information (all consolidated, some separately displayed or disclosed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stinguishes “related” parties from parties included in governmental repor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FASAB Blue Logo"/>
          <p:cNvPicPr/>
          <p:nvPr/>
        </p:nvPicPr>
        <p:blipFill>
          <a:blip r:embed="rId1"/>
          <a:stretch/>
        </p:blipFill>
        <p:spPr>
          <a:xfrm>
            <a:off x="7696080" y="5715000"/>
            <a:ext cx="1219320" cy="892080"/>
          </a:xfrm>
          <a:prstGeom prst="rect">
            <a:avLst/>
          </a:prstGeom>
          <a:ln w="0">
            <a:noFill/>
          </a:ln>
        </p:spPr>
      </p:pic>
      <p:sp>
        <p:nvSpPr>
          <p:cNvPr id="79" name="Line 5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ederal Entity – Draft Propos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 all entities budgeted for, controlled with potential for risk or reward, or ow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guish between core and non-core ent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e entities are taxpayer supported and on-going decision making is more clearly linked to elected officials. Information for core entities is to be consolidated in financial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core entities are somewhat independent from elected officials and may be financial self-sustaining. Information regarding non-core entities is to be disclosed in no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ationship explai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levant financial activity during the period revea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sks discussed and quantified if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FASAB Blue Logo"/>
          <p:cNvPicPr/>
          <p:nvPr/>
        </p:nvPicPr>
        <p:blipFill>
          <a:blip r:embed="rId1"/>
          <a:stretch/>
        </p:blipFill>
        <p:spPr>
          <a:xfrm>
            <a:off x="7696080" y="5715000"/>
            <a:ext cx="1219320" cy="892080"/>
          </a:xfrm>
          <a:prstGeom prst="rect">
            <a:avLst/>
          </a:prstGeom>
          <a:ln w="0">
            <a:noFill/>
          </a:ln>
        </p:spPr>
      </p:pic>
      <p:sp>
        <p:nvSpPr>
          <p:cNvPr id="83" name="Line 5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erging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Assu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stments in non-federal secu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Private Partner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FASAB Blue Logo"/>
          <p:cNvPicPr/>
          <p:nvPr/>
        </p:nvPicPr>
        <p:blipFill>
          <a:blip r:embed="rId1"/>
          <a:stretch/>
        </p:blipFill>
        <p:spPr>
          <a:xfrm>
            <a:off x="7696080" y="5715000"/>
            <a:ext cx="1219320" cy="892080"/>
          </a:xfrm>
          <a:prstGeom prst="rect">
            <a:avLst/>
          </a:prstGeom>
          <a:ln w="0">
            <a:noFill/>
          </a:ln>
        </p:spPr>
      </p:pic>
      <p:sp>
        <p:nvSpPr>
          <p:cNvPr id="87" name="Line 5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act and Website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inquiries can be directed to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asab@fasab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: 202 512-73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ASAB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ser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ure Dra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ndy Pay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aynew@fasab.go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 202 512-73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FASAB Blue Logo"/>
          <p:cNvPicPr/>
          <p:nvPr/>
        </p:nvPicPr>
        <p:blipFill>
          <a:blip r:embed="rId4"/>
          <a:stretch/>
        </p:blipFill>
        <p:spPr>
          <a:xfrm>
            <a:off x="7696080" y="5715000"/>
            <a:ext cx="1219320" cy="892080"/>
          </a:xfrm>
          <a:prstGeom prst="rect">
            <a:avLst/>
          </a:prstGeom>
          <a:ln w="0">
            <a:noFill/>
          </a:ln>
        </p:spPr>
      </p:pic>
      <p:sp>
        <p:nvSpPr>
          <p:cNvPr id="91" name="Line 5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lai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s expressed are those of the speaker. The Board expresses its views in official pub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FASAB Blue Logo"/>
          <p:cNvPicPr/>
          <p:nvPr/>
        </p:nvPicPr>
        <p:blipFill>
          <a:blip r:embed="rId1"/>
          <a:stretch/>
        </p:blipFill>
        <p:spPr>
          <a:xfrm>
            <a:off x="6934320" y="152280"/>
            <a:ext cx="190476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view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ntly Completed Project on Prospectiv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oing Projec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deral Financial Reporting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deral 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FASAB Blue Logo"/>
          <p:cNvPicPr/>
          <p:nvPr/>
        </p:nvPicPr>
        <p:blipFill>
          <a:blip r:embed="rId1"/>
          <a:stretch/>
        </p:blipFill>
        <p:spPr>
          <a:xfrm>
            <a:off x="6934320" y="5257800"/>
            <a:ext cx="190476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spective Inform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’s Discussion an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ossible future effects on the entity of existing, currently-known demands, risks, uncertainties, events, conditions and tre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ncial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tatement of Long-Term Fiscal Proj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ment of Social Ins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tatement of Changes in Social Insu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FASAB Blue Logo"/>
          <p:cNvPicPr/>
          <p:nvPr/>
        </p:nvPicPr>
        <p:blipFill>
          <a:blip r:embed="rId1"/>
          <a:stretch/>
        </p:blipFill>
        <p:spPr>
          <a:xfrm>
            <a:off x="6858000" y="4952880"/>
            <a:ext cx="190512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FFAS 37 - Social Insurance – Additional Requiremen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’s discussion and analysis – requirement for a singular presentation of accrual, budgetary and prospective information to ensure context and encourage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 of social insurance required to display both open and closed group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atement of Changes in Social Insurance Amou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esent the reasons for changes in the open group measure (the bottom line of the statement of social insur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FASAB Blue Logo"/>
          <p:cNvPicPr/>
          <p:nvPr/>
        </p:nvPicPr>
        <p:blipFill>
          <a:blip r:embed="rId1"/>
          <a:stretch/>
        </p:blipFill>
        <p:spPr>
          <a:xfrm>
            <a:off x="6934320" y="5257800"/>
            <a:ext cx="190476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ment of Changes in 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533520" y="938160"/>
            <a:ext cx="761976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ed On-going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FASAB Blue Logo"/>
          <p:cNvPicPr/>
          <p:nvPr/>
        </p:nvPicPr>
        <p:blipFill>
          <a:blip r:embed="rId1"/>
          <a:stretch/>
        </p:blipFill>
        <p:spPr>
          <a:xfrm>
            <a:off x="6934320" y="152280"/>
            <a:ext cx="190476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ederal Reporti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rns exist regarding the benefits of accrual basis financial statements relative to the cost of preparing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AB user needs study (citizen focus groups and surve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ECD assisted survey regarding users of government-wide reports (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deral Chief Financial Officers (CFO) Council report on results of CFO Act (financial statement audits at component entity level) (20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ECD assisted survey of country practices regarding component entity reports (2011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AB Task Force on Government-wide Financial Reports (Dec 20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FASAB Blue Logo"/>
          <p:cNvPicPr/>
          <p:nvPr/>
        </p:nvPicPr>
        <p:blipFill>
          <a:blip r:embed="rId1"/>
          <a:stretch/>
        </p:blipFill>
        <p:spPr>
          <a:xfrm>
            <a:off x="7924680" y="5791320"/>
            <a:ext cx="1219320" cy="892080"/>
          </a:xfrm>
          <a:prstGeom prst="rect">
            <a:avLst/>
          </a:prstGeom>
          <a:ln w="0">
            <a:noFill/>
          </a:ln>
        </p:spPr>
      </p:pic>
      <p:sp>
        <p:nvSpPr>
          <p:cNvPr id="71" name="Line 5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deral Reporting Mode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-wide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delivery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Government-wide performanc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c8c93"/>
                </a:solidFill>
                <a:latin typeface="Arial"/>
              </a:rPr>
              <a:t>Net cost and spending by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c8c93"/>
                </a:solidFill>
                <a:latin typeface="Arial"/>
              </a:rPr>
              <a:t>Statement of spend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c8c93"/>
                </a:solidFill>
                <a:latin typeface="Arial"/>
              </a:rPr>
              <a:t>Intergovernmental financial dependenc</a:t>
            </a: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Improved reconciliation of deficit and operating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c8c9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c8c93"/>
                </a:solidFill>
                <a:latin typeface="Arial"/>
              </a:rPr>
              <a:t>Reclassify the reconciliation of cash and debt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orient the balance sheet and improve stakeholder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difference between net liabilities and fiscal g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 a web-site for reports and raise awareness in the near-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FASAB Blue Logo"/>
          <p:cNvPicPr/>
          <p:nvPr/>
        </p:nvPicPr>
        <p:blipFill>
          <a:blip r:embed="rId1"/>
          <a:stretch/>
        </p:blipFill>
        <p:spPr>
          <a:xfrm>
            <a:off x="7696080" y="5715000"/>
            <a:ext cx="1219320" cy="892080"/>
          </a:xfrm>
          <a:prstGeom prst="rect">
            <a:avLst/>
          </a:prstGeom>
          <a:ln w="0">
            <a:noFill/>
          </a:ln>
        </p:spPr>
      </p:pic>
      <p:sp>
        <p:nvSpPr>
          <p:cNvPr id="75" name="Line 5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15:25:45Z</dcterms:created>
  <dc:creator>Wendy Payne</dc:creator>
  <dc:description/>
  <dc:language>en-US</dc:language>
  <cp:lastModifiedBy>GAO</cp:lastModifiedBy>
  <dcterms:modified xsi:type="dcterms:W3CDTF">2012-03-20T15:24:16Z</dcterms:modified>
  <cp:revision>78</cp:revision>
  <dc:subject/>
  <dc:title>Changing World of the CFO: FASAB and the Future of GAAP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53763102</vt:r8>
  </property>
  <property fmtid="{D5CDD505-2E9C-101B-9397-08002B2CF9AE}" pid="3" name="_AuthorEmail">
    <vt:lpwstr>JacksonCW1@fasab.gov</vt:lpwstr>
  </property>
  <property fmtid="{D5CDD505-2E9C-101B-9397-08002B2CF9AE}" pid="4" name="_AuthorEmailDisplayName">
    <vt:lpwstr>Jackson, Charles W</vt:lpwstr>
  </property>
  <property fmtid="{D5CDD505-2E9C-101B-9397-08002B2CF9AE}" pid="5" name="_EmailSubject">
    <vt:lpwstr>Web Postings   PRIORITY:  HIGH</vt:lpwstr>
  </property>
  <property fmtid="{D5CDD505-2E9C-101B-9397-08002B2CF9AE}" pid="6" name="_NewReviewCycle">
    <vt:lpwstr/>
  </property>
</Properties>
</file>