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259AC1-87F3-4A18-B618-D1792DE78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d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w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d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w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d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w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ad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al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wa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ed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48CD-4914-4995-B99E-6AFF1655A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4BD6-8E03-4AA1-8A19-83D5E122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F80-8AE4-4719-96C7-12F26371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EA79-B834-4E28-A4AE-950EDD17F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A389-8FE2-4C49-95D8-1B3F402B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0714-02CB-488C-BE23-51CCF647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0044-7A11-4F40-8A54-69D269247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4677-84EA-4045-81D0-46E923DA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319B-DD0E-41C3-A8DC-693CA8BFB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7882-A367-4378-9770-2B58F898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79B3-FB63-40F9-82C1-322CA08AC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A8A-2623-40BF-AC3A-E4660AFD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4197-C494-4208-9FD8-C12784896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asab.gov/conceptsfinan.html" TargetMode="Externa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fasab@fasab.gov" TargetMode="External"/><Relationship Id="rId2" Type="http://schemas.openxmlformats.org/officeDocument/2006/relationships/hyperlink" Target="http://www.fasab.gov/" TargetMode="External"/><Relationship Id="rId3" Type="http://schemas.openxmlformats.org/officeDocument/2006/relationships/hyperlink" Target="mailto:paynew@fasab.gov" TargetMode="External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SAB Updat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IGIE/GAO Financial Statement Audit Confere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ndy Pay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ve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30,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10280" y="228600"/>
            <a:ext cx="190512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934320" y="15228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ement Attribu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tement of concepts to assist the board in establishing standards – Exposure Draft issued 9/13/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es how ‘initial amounts’ and ‘re-measured amounts’ contribute to meeting reporting 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 suite of measurement attrib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ing unique information needs in the federal environment, 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ue in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 dollar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deral Reporti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rns exist regarding the benefits of accrual basis financial statements relative to the cost of preparing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SAB conducting a user needs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deral CFO Council preparing a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ly developed a report on experiences in other countries with the assistance of OECD and its members (report will be available soon at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asab.gov/conceptsfinan.html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AB Task Force report issued December 22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deral Reporting Mod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FR Recommend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deliver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-wide performance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 cost and spending by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of spending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governmental financial depend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reconciliation of deficit and operating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lassify the reconciliation of cash and debt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orient the balance sheet and improve stakeholder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difference between net liabilities and fiscal g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ablish a web-site for reports and raise awareness in the near-te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deral Reporting Mod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implications of user needs study and task force recommendations for existing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of component entity reporting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deral Ent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AB established concepts in mid-90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s now being develop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o include in CFR (all entities “established by” the federal government or a subset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present information (all consolidated, some separately displayed or disclosed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between “related” parties, core and non-core ent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erred Maintenance and Asset Impair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rred maintenance viewed as critical management iss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reporting has been underway since 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 – revised definition and title (deferred maintenance and repai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Issu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techn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evant metrics to report (dollars and/or cond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force of facilities managers, accountants, and auditors formed to as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ng Existing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/benefit issu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c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reach to preparers, auditors and “user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of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ty, plant an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issue unres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replacement cost a better go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marked funds – assessing implementation and adjusting reporting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merging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Us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Assu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challenges in a more constrained environmen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tact and Website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nquiries can be directed to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asab@fasab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ne: 202 512-73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SAB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ser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ure Dra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 Proje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can be reached at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aynew@fasab.gov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2 512-7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claim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30592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ws expressed are those of the speaker. The Board expresses its views in official pub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934320" y="15228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ly Completed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hensive Long-Term Fiscal Projections (SFFAS 36 – Sept 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ial Insurance – Additional Requirements (SFFAS 37 - April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Resources (SFFAS 38 - April 20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equent Events (SFFS 39 – August 2010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rred Maintenance (SFFAS 40 – Late Spring 20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Projec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l Financial Reporting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deral E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erred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ng Existing Stand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erty, plant &amp; 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rmarked f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FAS 36  - Comprehensiv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-term Fiscal Projections</a:t>
            </a:r>
            <a:br>
              <a:rPr sz="4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Information (audi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esent value of projected receipts and non-interest spending under current policy without change including its relationship to projected 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 in the present value of projected receipts and non-interest spending from the prio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ssumptions underlying the pro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tors influencing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ificant changes in the projections from period to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FAS 36  - Comprehensiv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ng-term Fiscal Projections, cont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Supplement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jected trends 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lationship between receipts and spe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cits or surpl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sury debt held by the public as a share of 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e results using alternative scen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kely impact of delaying corrective action when a fiscal gap exists (“cost of delay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FAS 37 - Social Insurance – Additional Requirem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ether in one section in management’s discussion and analysis -- critical information about costs, assets and liabilities, social insurance commitments, budget flows, and the long-term fiscal proj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summary section within the statement of social insurance displaying open and closed group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basic financial statement to present the reasons for changes during the reporting period in the open group measure reported on the statement of social in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FAS 38 - Natural Resourc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7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chedule of estimated federal oil and gas petroleum royal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 val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future federal royalty receipts on proved reserves known to exist as of the reporting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s to be distributed to others (state govern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Supplemental Information for 3 years beginning in FY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rral has been request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934320" y="5257800"/>
            <a:ext cx="19047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FFAS 39 - Subsequent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CPA Audit standards included in accounting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t standards not includ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par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FFAS 40 – Deferred Maintenance and Repai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ended the definition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airs – clarify that deferred repairs are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– clarify that deferred capital improvements are not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notion that management determines acceptable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96080" y="5715000"/>
            <a:ext cx="1219320" cy="8920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H="1">
            <a:off x="380880" y="137160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15:25:45Z</dcterms:created>
  <dc:creator>Wendy Payne</dc:creator>
  <dc:description/>
  <dc:language>en-US</dc:language>
  <cp:lastModifiedBy>GAO</cp:lastModifiedBy>
  <dcterms:modified xsi:type="dcterms:W3CDTF">2011-04-18T17:27:04Z</dcterms:modified>
  <cp:revision>60</cp:revision>
  <dc:subject/>
  <dc:title>Changing World of the CFO: FASAB and the Future of GAAP </dc:title>
</cp:coreProperties>
</file>