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8DB32D-BAC4-4D04-BA42-183E19EFB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155-357B-470A-BA1C-2F8F4F37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E32-ADCB-4A19-B116-8A332365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164-D3BC-42D7-AC80-0F52F843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468-B37A-414B-A390-3360B18E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2E3-7B79-4BC1-88D3-A261672D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9CA-73A8-406B-B9F7-8B018959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E16-9812-4C92-A97C-FAA40BBA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8A5-B12C-4A93-9F13-E96D1A04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5D3-C32D-4DF0-8376-F4B7EE36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D4C-CF82-4D7C-8770-F508ACA7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14A-DFF6-47F9-9F49-2A62DF83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304-CE29-4695-B67D-C757CD02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6863-F41D-4B50-8875-54B27F37F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asab.gov/conceptsfinan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ynew@fasab.gov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SAB Updat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GIE/GAO Financial Statement Audit Confer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dy Pa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30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ement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ment of concepts to assist the board in establishing standards – Exposure Draft issued 9/13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how ‘initial amounts’ and ‘re-measured amounts’ contribute to meeting report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uite of measurement attrib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ing unique information needs in the federal environment,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dollar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Report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exist regarding the benefits of accrual basis financial statements relative to the cost of preparing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AB conducting a user needs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CFO Council preparing a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ly developed a report on experiences in other countries with the assistance of OECD and its members (report will be available soon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asab.gov/conceptsfinan.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AB Task Force report issued December 22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Reporting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FR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eliver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-wide performan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cost and spending b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of spend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governmental financial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reconciliation of deficit and operat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lassify the reconciliation of cash and deb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orient the balance sheet and improve stakehold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difference between net liabilities and fiscal 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a web-site for reports and raise awareness in the near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Reporting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implications of user needs study and task force recommendations for existing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component entity report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E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AB established concepts in mid-9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now being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 include in CFR (all entities “established by” the federal government or a subset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present information (all consolidated, some separately displayed or disclose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between “related” parties, core and non-core ent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red Maintenance and Asset Impair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red maintenance viewed as critical management 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porting has been underway since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– revised definition and title (deferred maintenance and repai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ss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metrics to report (dollars and/or cond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force of facilities managers, accountants, and auditors formed to as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Exist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/benefit iss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each to preparers, auditors and “us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, plant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issue un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replacement cost a better go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marked funds – assessing implementation and adjusting repor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Us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ssu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challenges in a more constrained environm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and Websit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quiries can be directed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be reached 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ynew@fasab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2 512-7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expressed are those of the speaker. 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ly Complete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ve Long-Term Fiscal Projections (SFFAS 36 – Sept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Insurance – Additional Requirements (SFFAS 37 - April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Resources (SFFAS 38 - April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equent Events (SFFS 39 – August 20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red Maintenance (SFFAS 40 – Late Spring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ro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Financial Report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red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ng Existing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y, plant &amp;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marked f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FAS 36  - Comprehensi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-term Fiscal Projections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nformation (audi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nt value of projected receipts and non-interest spending under current policy without change including its relationship to projected 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the present value of projected receipts and non-interest spending from the prio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umptions underlying the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s influencing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changes in the projections from period to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FAS 36  - Comprehensi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-term Fiscal Projections, con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Supplement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ed trend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eceipts and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cits or surpl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sury debt held by the public as a share of 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results using alternativ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kely impact of delaying corrective action when a fiscal gap exists (“cost of dela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FAS 37 - Social Insurance – Additional Require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 in one section in management’s discussion and analysis -- critical information about costs, assets and liabilities, social insurance commitments, budget flows, and the long-term fiscal proj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summary section within the statement of social insurance displaying open and closed group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basic financial statement to present the reasons for changes during the reporting period in the open group measure reported on the statement of social 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FAS 38 - Natural Resour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dule of estimated federal oil and gas petroleum royal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val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future federal royalty receipts on proved reserves known to exist as of the reporting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to be distributed to others (state govern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Supplemental Information for 3 years beginning in FY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ral has been reques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FAS 39 - Subsequ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CPA Audit standards included in account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 standards not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FAS 40 – Deferred Maintenance and Repa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nded the definition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rs – clarify that deferred repairs ar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– clarify that deferred capital improvements are not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notion that management determines acceptabl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5:25:45Z</dcterms:created>
  <dc:creator>Wendy Payne</dc:creator>
  <dc:description/>
  <dc:language>en-US</dc:language>
  <cp:lastModifiedBy>GAO</cp:lastModifiedBy>
  <dcterms:modified xsi:type="dcterms:W3CDTF">2011-04-18T17:27:04Z</dcterms:modified>
  <cp:revision>60</cp:revision>
  <dc:subject/>
  <dc:title>Changing World of the CFO: FASAB and the Future of GAAP </dc:title>
</cp:coreProperties>
</file>