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2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4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8E320F1-E5EF-43E9-A5AB-59542C33E2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GIE – formerly the President’s Council on Integrity and Efficiency (PCI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APC addresses issues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ise in implement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specifically or fully discussed in Federal accounting standar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our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MB memo to CFO Council dated March 3, 2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vited to Roundtab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jor grant-making agencies (listed in the Budge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4 Fi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firms active in the CFO Council’s Grants Mgmt Counc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st of Agencies and Firms: See Appendix E page 25 of hand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APC meets on March 18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APC meets on March 18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7F2EE26-47ED-44B8-AB93-88AF98C92B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B615-A125-4F84-BCD9-F61B609F6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86000" y="3978360"/>
            <a:ext cx="685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9B2B-0A18-4E2E-BFEE-A0F4D430E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800320" y="182880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6000" y="397836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800320" y="397836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308C-FA81-43D0-898C-D3F7D4E3E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04760" y="182880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923160" y="182880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86000" y="397836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604760" y="397836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923160" y="397836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D246-0A52-495E-92A8-40BB831E5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86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0E13-B443-48B0-9AF3-71EB11F05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F89E-C755-4E8E-8A95-A9118F5BD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800320" y="182880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5442-0592-42A8-9430-B1A093724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5FF9-8324-4453-8481-A8F8B2A32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28600" y="228240"/>
            <a:ext cx="6858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016B-DB18-4216-8491-D987CFD08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800320" y="182880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6000" y="397836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FF2B-AD53-4D4F-A96F-2B99EF97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800320" y="182880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800320" y="397836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0086-8BAC-4BAE-9699-82DE5889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800320" y="182880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0" y="3978360"/>
            <a:ext cx="685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42C3-A4CD-45F9-87AB-B02FADC00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9047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858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C7E07-4DEE-4379-B568-84F51085D1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00200"/>
            <a:ext cx="9144000" cy="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600200"/>
            <a:ext cx="9144000" cy="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1600200"/>
            <a:ext cx="22860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0" y="1676520"/>
            <a:ext cx="2286000" cy="518148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7086600" y="152280"/>
            <a:ext cx="1905120" cy="1395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hyperlink" Target="http://www.fasab.gov/" TargetMode="External"/><Relationship Id="rId2" Type="http://schemas.openxmlformats.org/officeDocument/2006/relationships/hyperlink" Target="http://www.fasab.gov/" TargetMode="External"/><Relationship Id="rId3" Type="http://schemas.openxmlformats.org/officeDocument/2006/relationships/hyperlink" Target="mailto:ParlowE@fasab.gov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7010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Federal Accounting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tandards Advisory Board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133360" y="1752120"/>
            <a:ext cx="7010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Comic Sans MS"/>
              </a:rPr>
              <a:t>A Call to Action</a:t>
            </a:r>
            <a:endParaRPr b="1" lang="en-US" sz="7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w You Can Help to Advance Efficient and Effective Reporting on Federal Grant Program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ational Grants Management Association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rch 10, 2010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ASAB- Roster of Members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6324480" y="6400800"/>
            <a:ext cx="266724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ios available at www.fasab.go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09680" y="6553080"/>
            <a:ext cx="2514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Current as of March 10, 201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200400"/>
            <a:ext cx="1828800" cy="57960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9160" y="3249720"/>
            <a:ext cx="1463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ncy Fleetwo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86800" y="3487680"/>
            <a:ext cx="602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657600" y="3200400"/>
            <a:ext cx="1828800" cy="5796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59280" y="3173400"/>
            <a:ext cx="1828800" cy="57960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4440" y="3276720"/>
            <a:ext cx="1008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bra B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76760" y="348768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59280" y="3173400"/>
            <a:ext cx="1828800" cy="5796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91320" y="3962520"/>
            <a:ext cx="1828800" cy="57924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170400" y="4038480"/>
            <a:ext cx="91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b Dac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476760" y="4267080"/>
            <a:ext cx="3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91320" y="3962520"/>
            <a:ext cx="1828800" cy="57924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3962520"/>
            <a:ext cx="1828800" cy="57924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l Steinbe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962520"/>
            <a:ext cx="1828800" cy="57924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91320" y="4724280"/>
            <a:ext cx="1828800" cy="57960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940720" y="4876920"/>
            <a:ext cx="1504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lan Schumac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4724280"/>
            <a:ext cx="1828800" cy="5796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657600" y="4724280"/>
            <a:ext cx="1828800" cy="57960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733920" y="4876920"/>
            <a:ext cx="1600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rwood Jack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657600" y="4724280"/>
            <a:ext cx="1828800" cy="5796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1320" y="5486400"/>
            <a:ext cx="1828800" cy="57960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15960" y="5638680"/>
            <a:ext cx="1347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tt Showa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791320" y="5486400"/>
            <a:ext cx="1828800" cy="5796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657600" y="5486400"/>
            <a:ext cx="1828800" cy="57960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31200" y="5638680"/>
            <a:ext cx="1288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Gran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657600" y="5486400"/>
            <a:ext cx="1828800" cy="57960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5680" y="1981080"/>
            <a:ext cx="2179800" cy="1020960"/>
          </a:xfrm>
          <a:prstGeom prst="rect">
            <a:avLst/>
          </a:prstGeom>
          <a:solidFill>
            <a:srgbClr val="dddddd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73200" y="2151000"/>
            <a:ext cx="861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m All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255640" y="2406600"/>
            <a:ext cx="662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ir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75480" y="2590920"/>
            <a:ext cx="1466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ormer GASB Chai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en does FASAB meet?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ally six times a year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"/>
          <p:cNvSpPr/>
          <p:nvPr/>
        </p:nvSpPr>
        <p:spPr>
          <a:xfrm>
            <a:off x="3048120" y="2438280"/>
            <a:ext cx="2971800" cy="2590920"/>
          </a:xfrm>
          <a:prstGeom prst="rect">
            <a:avLst/>
          </a:prstGeom>
          <a:noFill/>
          <a:ln w="507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2010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bruary 24 – 25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ril 28 – 2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une 23 – 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gust 25 – 26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ctober 27 – 28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cember 16 – 17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0" y="5105520"/>
            <a:ext cx="6858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pen to the publ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0" y="5715000"/>
            <a:ext cx="6858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genda and briefing materials o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www.fasab.g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at is the AAPC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(Accounting and Auditing Policy Committee)?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ermanent Committee of FASAB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rganized in May 1997 by: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partment of the Treasu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M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A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FO Counci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ncil of the Inspectors General on Integrity and Efficiency (CIGI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at is the AAPC?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ission: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o identify and recommend solutions to 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ccounting and auditing issues 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Relating to the specific application of existing authoritative guidance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o are the AAPC members?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1 member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 representative each from Treasury, OMB and GAO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 representatives from the CFO community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 representatives from the Inspector General Community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 “At-Large” member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 non-voting FASAB staff member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APC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Roster of Member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"/>
          <p:cNvSpPr/>
          <p:nvPr/>
        </p:nvSpPr>
        <p:spPr>
          <a:xfrm>
            <a:off x="4114800" y="1752480"/>
            <a:ext cx="2209680" cy="762120"/>
          </a:xfrm>
          <a:prstGeom prst="rect">
            <a:avLst/>
          </a:prstGeom>
          <a:solidFill>
            <a:srgbClr val="dddddd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ndy Pay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ASAB Executive Direc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48120" y="2743200"/>
            <a:ext cx="2209680" cy="609480"/>
          </a:xfrm>
          <a:prstGeom prst="rect">
            <a:avLst/>
          </a:prstGeom>
          <a:solidFill>
            <a:srgbClr val="dddddd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[Vacant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artment of the Treasu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562720" y="2743200"/>
            <a:ext cx="2209680" cy="685800"/>
          </a:xfrm>
          <a:prstGeom prst="rect">
            <a:avLst/>
          </a:prstGeom>
          <a:solidFill>
            <a:srgbClr val="dddddd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gina Kearn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ffice of Management and Budge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562720" y="3657600"/>
            <a:ext cx="2209680" cy="685800"/>
          </a:xfrm>
          <a:prstGeom prst="rect">
            <a:avLst/>
          </a:prstGeom>
          <a:solidFill>
            <a:srgbClr val="dddddd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ank Synowiec, J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Government Accountability Offi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048120" y="3657600"/>
            <a:ext cx="2209680" cy="609480"/>
          </a:xfrm>
          <a:prstGeom prst="rect">
            <a:avLst/>
          </a:prstGeom>
          <a:solidFill>
            <a:srgbClr val="dddddd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uther Brag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val Audit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8120" y="4572000"/>
            <a:ext cx="2209680" cy="533520"/>
          </a:xfrm>
          <a:prstGeom prst="rect">
            <a:avLst/>
          </a:prstGeom>
          <a:solidFill>
            <a:srgbClr val="dddddd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ohn Bre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artment of Agri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562720" y="4572000"/>
            <a:ext cx="2209680" cy="609480"/>
          </a:xfrm>
          <a:prstGeom prst="rect">
            <a:avLst/>
          </a:prstGeom>
          <a:solidFill>
            <a:srgbClr val="dddddd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ice Car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D OI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48120" y="5410080"/>
            <a:ext cx="2209680" cy="533520"/>
          </a:xfrm>
          <a:prstGeom prst="rect">
            <a:avLst/>
          </a:prstGeom>
          <a:solidFill>
            <a:srgbClr val="dddddd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[Vacant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-L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562720" y="5410080"/>
            <a:ext cx="2209680" cy="533520"/>
          </a:xfrm>
          <a:prstGeom prst="rect">
            <a:avLst/>
          </a:prstGeom>
          <a:solidFill>
            <a:srgbClr val="dddddd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niel Fle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artment of the In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8120" y="6095880"/>
            <a:ext cx="2209680" cy="609840"/>
          </a:xfrm>
          <a:prstGeom prst="rect">
            <a:avLst/>
          </a:prstGeom>
          <a:solidFill>
            <a:srgbClr val="dddddd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onjette L. Gil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artment of Defe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62720" y="6095880"/>
            <a:ext cx="2209680" cy="609840"/>
          </a:xfrm>
          <a:prstGeom prst="rect">
            <a:avLst/>
          </a:prstGeom>
          <a:solidFill>
            <a:srgbClr val="dddddd"/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Joseph Marchows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BGC OI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en does the AAPC meet?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ally six times a year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"/>
          <p:cNvSpPr/>
          <p:nvPr/>
        </p:nvSpPr>
        <p:spPr>
          <a:xfrm>
            <a:off x="3048120" y="2438280"/>
            <a:ext cx="2971800" cy="2590920"/>
          </a:xfrm>
          <a:prstGeom prst="rect">
            <a:avLst/>
          </a:prstGeom>
          <a:noFill/>
          <a:ln w="507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2010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anuary 2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ch 18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y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uly 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tember 16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vember 18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0" y="5105520"/>
            <a:ext cx="6858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pen to the publ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0" y="5715000"/>
            <a:ext cx="6858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genda and briefing materials o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www.fasab.g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ere do the FASAB and the AAPC meet?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09680" y="3885840"/>
            <a:ext cx="69343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Government Accountability Office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441 G Street, NW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ashington, DC 20548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om 7C13 (Staats Briefing Room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362320" y="1932120"/>
            <a:ext cx="6095880" cy="187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How does FASAB inform?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www.fasab.gov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2286000" y="2666880"/>
            <a:ext cx="6858000" cy="1758960"/>
            <a:chOff x="2286000" y="2666880"/>
            <a:chExt cx="6858000" cy="1758960"/>
          </a:xfrm>
        </p:grpSpPr>
        <p:sp>
          <p:nvSpPr>
            <p:cNvPr id="167" name=""/>
            <p:cNvSpPr/>
            <p:nvPr/>
          </p:nvSpPr>
          <p:spPr>
            <a:xfrm>
              <a:off x="2286000" y="2666880"/>
              <a:ext cx="68580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FASAB E-Mail Servic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286000" y="3276720"/>
              <a:ext cx="6858000" cy="11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lvl="1" marL="363960" indent="-1400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Helvetic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i-monthly FASAB newslett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363960" indent="-1400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Helvetic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quests for com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363960" indent="-1400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Helvetic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ress relea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363960" indent="-1400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Helvetic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gend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363960" indent="-1400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Helvetic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nvitations to serve on task forc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2286000" y="571500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ublic meet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-216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ederal Register Annou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ASAB On-Line Resources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6250" r="14063" b="0"/>
          <a:stretch/>
        </p:blipFill>
        <p:spPr>
          <a:xfrm>
            <a:off x="2819520" y="2514600"/>
            <a:ext cx="5790960" cy="40384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590920" y="1905120"/>
            <a:ext cx="6172200" cy="457200"/>
          </a:xfrm>
          <a:prstGeom prst="rect">
            <a:avLst/>
          </a:prstGeom>
          <a:solidFill>
            <a:srgbClr val="ff99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ww.fasab.go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isclaimer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2286000" y="2362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Views expressed are those of the speaker. The Board expresses its views in official publications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ASAB Community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2438280" y="2057400"/>
            <a:ext cx="6553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reparer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uditor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0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User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tern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ommunity Involvement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0" y="2133720"/>
            <a:ext cx="68580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or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ing on the AA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ding to Requests for Com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aking at Public Hear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ommunity Involvement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contd.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0" y="2133720"/>
            <a:ext cx="68580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for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ing on Task Fo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ding to Surve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9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ing Field T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Generally Accepted Accounting Principles”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ignificance of “GAAP”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 1999, the AICPA designated FASAB as the authoritative source of GAAP for the Federal government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ow does FASAB issue authoritative GAAP guidance?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ASAB Statements of Federal Financial Accounting Standards and Interpretations (Level A GAAP)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ASAB Technical Bulletins (Level B)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APC Technical Releases (Level C)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ASAB Staff Implementation Guidance (Level D)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ASAB Statements of Federal Financial Accounting Concepts (“Other Accounting Literature”)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at are Grant Accrual Estimates?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gencies must report amounts due to or from grantees based upon estimates of eligible expenses that grantees have incurred as of the reporting date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at are Grant Accrual Estimates?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dvances: Amounts issued as advances must be adjusted, even if grantees have not yet reported expenses incurred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ccounts Payable: Where there is no advance, agencies must estimate amounts payable to grantees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y do we need accrual estimates for federal programs?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23800" indent="-523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perating Performance—Information to evaluate: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1011240" indent="-4856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ervice efforts, costs and accomplishments of govern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11240" indent="-4856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anner in which these are financ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11240" indent="-4856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agement of the entity’s assets and liabilit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11240" indent="0">
              <a:spcBef>
                <a:spcPts val="6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11240" indent="0">
              <a:spcBef>
                <a:spcPts val="6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spcBef>
                <a:spcPts val="7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ow do grant accrual estimates affect agency financial statements?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82680" indent="-382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tatement of Net Cos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826920" indent="-31716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t to the taxpayer by program and responsibility seg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Balance Sheet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826920" indent="-31716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es what is owned versus what  is ow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Grants Project History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0" y="1828440"/>
            <a:ext cx="6477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cope of this project: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52600" indent="-552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nnual Federal grants to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1011240" indent="-485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, local &amp; tribal governments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11240" indent="-485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leges and universit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11240" indent="-485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non-profit organiz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ver $500 billion annually, about 1/6 of the annual Federal budget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52600" indent="-552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 2009, ARRA added an additional $400 billion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1011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52600" indent="0">
              <a:lnSpc>
                <a:spcPct val="90000"/>
              </a:lnSpc>
              <a:spcBef>
                <a:spcPts val="27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552600" indent="0">
              <a:lnSpc>
                <a:spcPct val="90000"/>
              </a:lnSpc>
              <a:spcBef>
                <a:spcPts val="299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lvl="1" marL="10112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earning Objective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o are the FASAB and the AAPC?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ow is the FASAB’s AAPC working to assist federal agencies on cost-effective methods for developing and validating reasonable estimates of amounts due to and from grantees?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at agencies and firms are working with the AAPC on this project?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y do we need your help?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Grants Project History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6000" y="1828440"/>
            <a:ext cx="6477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ASAB Staff held 3 roundtables in April 2009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1011240" indent="-48564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deral Agency Financial Statement Prepar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11240" indent="-48564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deral Agency Auditors (OIG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11240" indent="-48564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ependent Public Accounting and Consulting Fir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rmed a volunteer Task Force to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1011240" indent="-48564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entify areas where guidance is need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11240" indent="-48564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p FASAB staff to develop guid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2600" indent="0">
              <a:spcBef>
                <a:spcPts val="24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52600" indent="0">
              <a:spcBef>
                <a:spcPts val="27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1011240" indent="0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Grants Project History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rimary Issue Identified: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Guidance to support cost-effective development of reasonable estimates for grant accruals for: 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dvance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ccounts Payabl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Grant Project History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allenges: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gencies generally have to report grant-related accruals before grantee reports are due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Grantee reports are often cash-based, not accrual-based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w or revised grant programs have no historical data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Grants Project History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ask Force Working Group and FASAB staff developed draft Exposure Draft for a proposed AAAPC Technical Release (TR)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R is authoritative GAAP (Level C GAAP)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ubject to “due process”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roject Milestone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roject Milestones: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pril 2009: Roundtables held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ugust 2009: Task Force Kickoff Meeting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ecember 2009: Proposed Draft ED to AAPC Agenda Committe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January 2010: AAPC approved projec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roject Milestone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lanned Future Milestones: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arch 2010: Issue Exposure Draft for Public Comment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pril 2010: Comments Due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June 2010: Final TR to FASAB for review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July 2010: Issue TR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Grants Project Goal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rimary Goal for this project: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uthoritative guidance (formal FASAB/AAPC issuance) that supports: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st-effective method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Reasonable” estimate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Grants Project Goal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y do we need your help?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ole purpose of this guidance is to help preparers and auditor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ASAB staff are acting as facilitators, not subject-matter experts on grants management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review of Exposure Draft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276"/>
              </a:spcBef>
              <a:spcAft>
                <a:spcPts val="12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Preview of Exposure Draft</a:t>
            </a:r>
            <a:endParaRPr b="1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276"/>
              </a:spcBef>
              <a:spcAft>
                <a:spcPts val="1276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Scope: grants (as defined in 31 USC 6304)</a:t>
            </a:r>
            <a:endParaRPr b="1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1276"/>
              </a:spcBef>
              <a:spcAft>
                <a:spcPts val="1276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Effective Date: Would be effective immediately upon issuance</a:t>
            </a:r>
            <a:endParaRPr b="1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review of Exposure Draft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opics addressed in the ED: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reparing accrual estimate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Validating accrual estimate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alance Sheet display of advances and payable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nternal control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raining and monitoring of grantee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ateriality consideration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2209680" y="1752120"/>
            <a:ext cx="6934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.S. Federal Government Accounting Prior to FASAB: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ragmented Approach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98400" indent="-268560">
              <a:spcBef>
                <a:spcPts val="15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partment of the Treasury (Treasury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1125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ancial report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29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ffice of Management and Budget (OMB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1125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dgetary report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29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vernment Accountability Office (GAO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1125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ounting standards and princip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o are the FASAB and the AAPC?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review of Exposure Draft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reparing accrual estimates: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roposed guidance for two different situations: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r established grant programs with sufficient relevant and reliable historical data, and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n the absence of sufficient relevant and reliable historical data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review of Exposure Draft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reparing accrual estimates for grant program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ive Decision Tree (Figure 1, Appendix B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raft ED provides guidance listing specific documentation, includ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dures used (including sampling proces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sumptions us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storical data us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end analys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dures for error check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dures for subsequent valid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son: facilitate both agency review and auditor validation of estima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review of Exposure Draft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hat can agencies do in the absence of sufficient reliable historical data?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roposed guidance: Use the best available data at the time the estimates are made. Suggested sources include: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vant experience from other agenci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polation from programs with similar grante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formation from program manag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inion of qualified expert(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review of Exposure Draft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Validating accrual estimates for grant programs (“look-back”)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cessary part of internal contro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es not require data from 100% of grante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dgment is nee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imates are inherently uncertai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lustrative Decision Tree (Figure 2 of Appendix B) for validation pro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review of Exposure Draft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isplay: “to net or not to net”?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roposal: When estimates are prepared on an aggregate (“top-down”) level,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gencies may display a net amount on the balance sheet, but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ust report the breakout of advances and payables in a not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llustrative example note in Appendix C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review of Exposure Draft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ternal Control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ecommended procedures and documentation, for example: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at are the sources of data used?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at is the rationale for selecting the model(s) used in calculating the estimates?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o is responsible for each step of calculation and review?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review of Exposure Draft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raining and Monitoring of Grantee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uggested (not required) methods for training grantees such as: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gency-sponsored conference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orkshops and/or seminar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ustomer service centers and help desk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mputer-based sources such as webcast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review of Exposure Draft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ateriality Consideration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ateriality decisions require judgment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ateriality is not strictly defined in the accounting community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roposal: Agencies should consider the materiality of the grant programs relative to the agency’s statement of net cos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ow will you know when the Exposure Draft is Released for Public Comment?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ree possible options: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eck the FASAB website at </a:t>
            </a:r>
            <a:r>
              <a:rPr b="1" lang="en-US" sz="3200" spc="-1" strike="noStrike" u="sng">
                <a:solidFill>
                  <a:srgbClr val="4d4d4d"/>
                </a:solidFill>
                <a:uFillTx/>
                <a:latin typeface="Comic Sans MS"/>
                <a:hlinkClick r:id="rId1"/>
              </a:rPr>
              <a:t>www.fasab.gov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ign up for FASAB’s e-mail notification, also at </a:t>
            </a:r>
            <a:r>
              <a:rPr b="1" lang="en-US" sz="3200" spc="-1" strike="noStrike" u="sng">
                <a:solidFill>
                  <a:srgbClr val="4d4d4d"/>
                </a:solidFill>
                <a:uFillTx/>
                <a:latin typeface="Comic Sans MS"/>
                <a:hlinkClick r:id="rId2"/>
              </a:rPr>
              <a:t>www.fasab.gov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end an e-mail to me,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 u="sng">
                <a:solidFill>
                  <a:srgbClr val="4d4d4d"/>
                </a:solidFill>
                <a:uFillTx/>
                <a:latin typeface="Comic Sans MS"/>
                <a:hlinkClick r:id="rId3"/>
              </a:rPr>
              <a:t>ParlowE@fasab.gov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ow do I know who at my federal agency/ private-sector firm has been involved in this project?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ook at the list of participating agencies and firms on pages 25 and 26 of the draft ED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f your agency or firm is a member of the TF but not the Working Group, send me an e-mail and I will provide contact info for your agency/firm’s participants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f your organization is not listed in the ED, your org. has not yet been involved, and your comments and suggestions are most welcome!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o are the FASAB and the AAPC?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209680" y="1752120"/>
            <a:ext cx="6934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0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ASAB Formed by Memorandum of Understanding (October 1990) 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0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ief Financial Officers Act of 1990 (November 1990)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ablished Chief Financial Officer posi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d audited financial statements  for selected agenci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ontact Information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ileen W. Parlow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ssistant Director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02.512.7356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ParlowE@fasab.gov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www.fasab.gov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Questions?</a:t>
            </a:r>
            <a:endParaRPr b="1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o are the FASAB and the AAPC?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828800" y="1752120"/>
            <a:ext cx="7315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0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Government Management Reform Act of 1994 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anded the CFO Act to more agenc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d governmentwide audited financial state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32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ccountability of Tax Dollars Act of 2002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tended the requirement for audited financial statements to most federal entities (low-dollar, low-risk exemption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Organizations Overseeing Federal Financial Management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523880" y="1752480"/>
            <a:ext cx="7362720" cy="4038840"/>
            <a:chOff x="1523880" y="1752480"/>
            <a:chExt cx="7362720" cy="4038840"/>
          </a:xfrm>
        </p:grpSpPr>
        <p:grpSp>
          <p:nvGrpSpPr>
            <p:cNvPr id="67" name=""/>
            <p:cNvGrpSpPr/>
            <p:nvPr/>
          </p:nvGrpSpPr>
          <p:grpSpPr>
            <a:xfrm>
              <a:off x="1523880" y="2590920"/>
              <a:ext cx="7362720" cy="1562040"/>
              <a:chOff x="1523880" y="2590920"/>
              <a:chExt cx="7362720" cy="1562040"/>
            </a:xfrm>
          </p:grpSpPr>
          <p:cxnSp>
            <p:nvCxnSpPr>
              <p:cNvPr id="68" name="_s362567"/>
              <p:cNvCxnSpPr>
                <a:stCxn id="69" idx="0"/>
                <a:endCxn id="70" idx="2"/>
              </p:cNvCxnSpPr>
              <p:nvPr/>
            </p:nvCxnSpPr>
            <p:spPr>
              <a:xfrm flipV="1" rot="16200000">
                <a:off x="6351480" y="1900440"/>
                <a:ext cx="229320" cy="2522880"/>
              </a:xfrm>
              <a:prstGeom prst="bentConnector3">
                <a:avLst>
                  <a:gd name="adj1" fmla="val 50000"/>
                </a:avLst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71" name="_s362566"/>
              <p:cNvCxnSpPr>
                <a:stCxn id="72" idx="0"/>
                <a:endCxn id="70" idx="2"/>
              </p:cNvCxnSpPr>
              <p:nvPr/>
            </p:nvCxnSpPr>
            <p:spPr>
              <a:xfrm flipV="1">
                <a:off x="5205240" y="3047400"/>
                <a:ext cx="2160" cy="22932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73" name="_s362565"/>
              <p:cNvCxnSpPr>
                <a:stCxn id="74" idx="0"/>
                <a:endCxn id="70" idx="2"/>
              </p:cNvCxnSpPr>
              <p:nvPr/>
            </p:nvCxnSpPr>
            <p:spPr>
              <a:xfrm flipH="1" flipV="1" rot="5400000">
                <a:off x="3830400" y="1901520"/>
                <a:ext cx="229320" cy="2521440"/>
              </a:xfrm>
              <a:prstGeom prst="bentConnector3">
                <a:avLst>
                  <a:gd name="adj1" fmla="val 50000"/>
                </a:avLst>
              </a:prstGeom>
              <a:ln w="28440">
                <a:solidFill>
                  <a:srgbClr val="000000"/>
                </a:solidFill>
                <a:miter/>
              </a:ln>
            </p:spPr>
          </p:cxnSp>
          <p:sp>
            <p:nvSpPr>
              <p:cNvPr id="70" name="_s362561"/>
              <p:cNvSpPr/>
              <p:nvPr/>
            </p:nvSpPr>
            <p:spPr>
              <a:xfrm>
                <a:off x="3903120" y="2590920"/>
                <a:ext cx="2604600" cy="457200"/>
              </a:xfrm>
              <a:prstGeom prst="roundRect">
                <a:avLst>
                  <a:gd name="adj" fmla="val 16667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6880" rIns="56880" tIns="28440" bIns="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rincipals with Oversigh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_s362562"/>
              <p:cNvSpPr/>
              <p:nvPr/>
            </p:nvSpPr>
            <p:spPr>
              <a:xfrm>
                <a:off x="1523880" y="3276720"/>
                <a:ext cx="2318760" cy="876240"/>
              </a:xfrm>
              <a:prstGeom prst="roundRect">
                <a:avLst>
                  <a:gd name="adj" fmla="val 16667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6880" rIns="56880" tIns="28440" bIns="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Treasury Departm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ecreta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Executive Branch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_s362563"/>
              <p:cNvSpPr/>
              <p:nvPr/>
            </p:nvSpPr>
            <p:spPr>
              <a:xfrm>
                <a:off x="4046040" y="3276720"/>
                <a:ext cx="2318760" cy="876240"/>
              </a:xfrm>
              <a:prstGeom prst="roundRect">
                <a:avLst>
                  <a:gd name="adj" fmla="val 16667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6880" rIns="56880" tIns="28440" bIns="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Office of Management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and Budget (OMB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Dire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Executive Branch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_s362564"/>
              <p:cNvSpPr/>
              <p:nvPr/>
            </p:nvSpPr>
            <p:spPr>
              <a:xfrm>
                <a:off x="6567840" y="3276720"/>
                <a:ext cx="2318760" cy="876240"/>
              </a:xfrm>
              <a:prstGeom prst="roundRect">
                <a:avLst>
                  <a:gd name="adj" fmla="val 16667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6880" rIns="56880" tIns="28440" bIns="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Government Accountabilit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Office (GAO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omptroller Gener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Legislative Branch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" name=""/>
            <p:cNvSpPr/>
            <p:nvPr/>
          </p:nvSpPr>
          <p:spPr>
            <a:xfrm>
              <a:off x="4343400" y="5334120"/>
              <a:ext cx="2286000" cy="4572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ccounting and Audi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olicy Committee (AAPC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886200" y="4495680"/>
              <a:ext cx="2743200" cy="5335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ederal Accounting Standard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dvisory Board (FASA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" name=""/>
            <p:cNvGrpSpPr/>
            <p:nvPr/>
          </p:nvGrpSpPr>
          <p:grpSpPr>
            <a:xfrm>
              <a:off x="2666880" y="4114800"/>
              <a:ext cx="5105520" cy="380880"/>
              <a:chOff x="2666880" y="4114800"/>
              <a:chExt cx="5105520" cy="380880"/>
            </a:xfrm>
          </p:grpSpPr>
          <p:grpSp>
            <p:nvGrpSpPr>
              <p:cNvPr id="78" name=""/>
              <p:cNvGrpSpPr/>
              <p:nvPr/>
            </p:nvGrpSpPr>
            <p:grpSpPr>
              <a:xfrm>
                <a:off x="2666880" y="4114800"/>
                <a:ext cx="5105520" cy="152280"/>
                <a:chOff x="2666880" y="4114800"/>
                <a:chExt cx="5105520" cy="15228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2666880" y="4267080"/>
                  <a:ext cx="51055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2666880" y="411480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7772400" y="411480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" name=""/>
              <p:cNvSpPr/>
              <p:nvPr/>
            </p:nvSpPr>
            <p:spPr>
              <a:xfrm>
                <a:off x="5181480" y="426708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4114800" y="502920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114800" y="556272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666880" y="1752480"/>
              <a:ext cx="510552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Federal Financial Manage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U.S. Accounting Standards-Setting Organizations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09480" y="1828800"/>
            <a:ext cx="8329320" cy="2657520"/>
            <a:chOff x="609480" y="1828800"/>
            <a:chExt cx="8329320" cy="2657520"/>
          </a:xfrm>
        </p:grpSpPr>
        <p:grpSp>
          <p:nvGrpSpPr>
            <p:cNvPr id="88" name=""/>
            <p:cNvGrpSpPr/>
            <p:nvPr/>
          </p:nvGrpSpPr>
          <p:grpSpPr>
            <a:xfrm>
              <a:off x="609480" y="2489400"/>
              <a:ext cx="8329320" cy="1996920"/>
              <a:chOff x="609480" y="2489400"/>
              <a:chExt cx="8329320" cy="1996920"/>
            </a:xfrm>
          </p:grpSpPr>
          <p:cxnSp>
            <p:nvCxnSpPr>
              <p:cNvPr id="89" name="_s358421"/>
              <p:cNvCxnSpPr>
                <a:stCxn id="90" idx="0"/>
                <a:endCxn id="91" idx="2"/>
              </p:cNvCxnSpPr>
              <p:nvPr/>
            </p:nvCxnSpPr>
            <p:spPr>
              <a:xfrm flipV="1" rot="16200000">
                <a:off x="6084720" y="1712160"/>
                <a:ext cx="229320" cy="2848320"/>
              </a:xfrm>
              <a:prstGeom prst="bentConnector3">
                <a:avLst>
                  <a:gd name="adj1" fmla="val 50000"/>
                </a:avLst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92" name="_s358420"/>
              <p:cNvCxnSpPr>
                <a:stCxn id="93" idx="0"/>
                <a:endCxn id="91" idx="2"/>
              </p:cNvCxnSpPr>
              <p:nvPr/>
            </p:nvCxnSpPr>
            <p:spPr>
              <a:xfrm flipV="1">
                <a:off x="4775400" y="3021840"/>
                <a:ext cx="1800" cy="229320"/>
              </a:xfrm>
              <a:prstGeom prst="bentConnector2">
                <a:avLst/>
              </a:prstGeom>
              <a:ln w="28440">
                <a:solidFill>
                  <a:srgbClr val="000000"/>
                </a:solidFill>
                <a:miter/>
              </a:ln>
            </p:spPr>
          </p:cxnSp>
          <p:cxnSp>
            <p:nvCxnSpPr>
              <p:cNvPr id="94" name="_s358419"/>
              <p:cNvCxnSpPr>
                <a:stCxn id="95" idx="0"/>
                <a:endCxn id="91" idx="2"/>
              </p:cNvCxnSpPr>
              <p:nvPr/>
            </p:nvCxnSpPr>
            <p:spPr>
              <a:xfrm flipH="1" flipV="1" rot="5400000">
                <a:off x="3236400" y="1711800"/>
                <a:ext cx="229320" cy="2849760"/>
              </a:xfrm>
              <a:prstGeom prst="bentConnector3">
                <a:avLst>
                  <a:gd name="adj1" fmla="val 50000"/>
                </a:avLst>
              </a:prstGeom>
              <a:ln w="28440">
                <a:solidFill>
                  <a:srgbClr val="000000"/>
                </a:solidFill>
                <a:miter/>
              </a:ln>
            </p:spPr>
          </p:cxnSp>
          <p:sp>
            <p:nvSpPr>
              <p:cNvPr id="91" name="_s358415"/>
              <p:cNvSpPr/>
              <p:nvPr/>
            </p:nvSpPr>
            <p:spPr>
              <a:xfrm>
                <a:off x="3351600" y="2489400"/>
                <a:ext cx="2844720" cy="533160"/>
              </a:xfrm>
              <a:prstGeom prst="roundRect">
                <a:avLst>
                  <a:gd name="adj" fmla="val 16667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3560" rIns="43560" tIns="21600" bIns="21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ccounting Standards-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etter Organization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_s358416"/>
              <p:cNvSpPr/>
              <p:nvPr/>
            </p:nvSpPr>
            <p:spPr>
              <a:xfrm>
                <a:off x="609480" y="3251160"/>
                <a:ext cx="2633760" cy="1235160"/>
              </a:xfrm>
              <a:prstGeom prst="roundRect">
                <a:avLst>
                  <a:gd name="adj" fmla="val 16667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3560" rIns="43560" tIns="21600" bIns="21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Financial Accountin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tandards Board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(FASB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(Private Sector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Business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_s358417"/>
              <p:cNvSpPr/>
              <p:nvPr/>
            </p:nvSpPr>
            <p:spPr>
              <a:xfrm>
                <a:off x="3457080" y="3251160"/>
                <a:ext cx="2633760" cy="1235160"/>
              </a:xfrm>
              <a:prstGeom prst="roundRect">
                <a:avLst>
                  <a:gd name="adj" fmla="val 16667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3560" rIns="43560" tIns="21600" bIns="21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Governmental Accountin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tandards Board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(GASB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(State &amp; Local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Governments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_s358418"/>
              <p:cNvSpPr/>
              <p:nvPr/>
            </p:nvSpPr>
            <p:spPr>
              <a:xfrm>
                <a:off x="6305040" y="3251160"/>
                <a:ext cx="2633760" cy="1235160"/>
              </a:xfrm>
              <a:prstGeom prst="roundRect">
                <a:avLst>
                  <a:gd name="adj" fmla="val 16667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3560" rIns="43560" tIns="21600" bIns="216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Federal Accounting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tandards Advisory Board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(FASAB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(Federal Agencies &amp;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Governmentwide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2133720" y="1828800"/>
              <a:ext cx="5079960" cy="372960"/>
            </a:xfrm>
            <a:prstGeom prst="rect">
              <a:avLst/>
            </a:prstGeom>
            <a:noFill/>
            <a:ln w="9360">
              <a:solidFill>
                <a:srgbClr val="000000">
                  <a:alpha val="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2200" spc="-1" strike="noStrike">
                  <a:solidFill>
                    <a:srgbClr val="996633"/>
                  </a:solidFill>
                  <a:latin typeface="Arial"/>
                </a:rPr>
                <a:t>United Stat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o is FASAB?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9 member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 member each from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partment of the Treasu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M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A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6 non-Federal member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 the financial, accounting and auditing communities and academ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1T16:33:06Z</dcterms:created>
  <dc:creator>GAO</dc:creator>
  <dc:description/>
  <dc:language>en-US</dc:language>
  <cp:lastModifiedBy>GAO</cp:lastModifiedBy>
  <dcterms:modified xsi:type="dcterms:W3CDTF">2011-04-18T17:28:40Z</dcterms:modified>
  <cp:revision>278</cp:revision>
  <dc:subject/>
  <dc:title>Presentation  April 1, 2004</dc:title>
</cp:coreProperties>
</file>