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8A9D4C-4BF9-4688-80E4-5FE179D94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IE – formerly the President’s Council on Integrity and Efficiency (PC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PC addresses issues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 in imple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pecifically or fully discussed in Federal accounting stand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MB memo to CFO Council dated March 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ited to Roundt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grant-making agencies (listed in the Budg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4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firms active in the CFO Council’s Grants Mgm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st of Agencies and Firms: See Appendix E page 25 of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PC meets on March 1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PC meets on March 1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E70F13-B496-4941-811E-1FC05FAEB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BF1-27E9-4BCF-9026-FF921DF6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67E-FB63-42A2-911E-2B904B90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89D-C35D-435B-9F0D-F4E2D9F6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47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231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6047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231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965-ECB1-4881-B215-5C983963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3E8-BB7C-4878-855F-F217E19F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9A3-9392-42C5-99C1-5768DAB7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F16-FDB9-4C32-AE95-10DD512D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A3E-CF31-43F7-AA91-3C9F16E0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7E3-3662-4A46-B054-BA1ECE05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249-979C-467B-B56C-3F074D7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918-3CC1-49F4-A49E-926B3C2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ADE-132A-496D-A663-2BFA508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2329-EEE1-4009-9963-9AC8AEF34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600200"/>
            <a:ext cx="228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fasab.gov/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rlowE@fasab.gov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Federal Ac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ards Advisory Boar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360" y="175212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A Call to Action</a:t>
            </a:r>
            <a:endParaRPr b="1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You Can Help to Advance Efficient and Effective Reporting on Federal Grant Pro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ional Grants Management Associatio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ch 10, 2010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SAB- Roster of Member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6400800"/>
            <a:ext cx="266724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os available at www.fasab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urrent as of March 10, 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20040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160" y="3249720"/>
            <a:ext cx="146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cy Fleetw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86800" y="348768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20040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9280" y="317340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440" y="327672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bra B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6760" y="3487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59280" y="317340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962520"/>
            <a:ext cx="1828800" cy="5792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0400" y="40384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 Dac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6760" y="4267080"/>
            <a:ext cx="3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3962520"/>
            <a:ext cx="1828800" cy="57924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962520"/>
            <a:ext cx="1828800" cy="5792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 Stein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962520"/>
            <a:ext cx="1828800" cy="57924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72428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0720" y="4876920"/>
            <a:ext cx="150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n Schuma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72428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72428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87692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 Jack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472428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548640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5960" y="5638680"/>
            <a:ext cx="13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tt Showa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548640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548640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31200" y="5638680"/>
            <a:ext cx="128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Gran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548640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981080"/>
            <a:ext cx="2179800" cy="102096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73200" y="2151000"/>
            <a:ext cx="86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m 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5640" y="240660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5480" y="2590920"/>
            <a:ext cx="146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 GASB Ch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does FASAB mee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ly six times a ye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438280"/>
            <a:ext cx="2971800" cy="2590920"/>
          </a:xfrm>
          <a:prstGeom prst="rect">
            <a:avLst/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201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24 – 2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8 –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3 –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5 – 2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7 – 2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6 –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51055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o the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7150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enda and briefing materials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the AAP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Accounting and Auditing Policy Committee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anent Committee of FASAB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ganized in May 1997 by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the Treas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O Counc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cil of the Inspectors General on Integrity and Efficiency (CIG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the AAPC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ssion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identify and recommend solutions to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ounting and auditing issues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lating to the specific application of existing authoritative guidan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o are the AAPC member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 memb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representative each from Treasury, OMB and GA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representatives from the CFO commun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representatives from the Inspector General Commun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“At-Large” memb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non-voting FASAB staff memb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AP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ster of Memb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752480"/>
            <a:ext cx="2209680" cy="76212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ndy P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AB Executive Dir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2743200"/>
            <a:ext cx="2209680" cy="60948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Vacan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743200"/>
            <a:ext cx="2209680" cy="68580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na Kea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ffice of Management and Budg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657600"/>
            <a:ext cx="2209680" cy="68580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 Synowiec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overnment Accountability Off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3657600"/>
            <a:ext cx="2209680" cy="60948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ther Bra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l Audi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4572000"/>
            <a:ext cx="2209680" cy="53352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hn Bre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Agri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572000"/>
            <a:ext cx="2209680" cy="60948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 Ca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D O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410080"/>
            <a:ext cx="2209680" cy="53352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Vacan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410080"/>
            <a:ext cx="2209680" cy="53352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iel Fle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the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6095880"/>
            <a:ext cx="2209680" cy="60984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njette L. Gil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Def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6095880"/>
            <a:ext cx="2209680" cy="60984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seph Marchow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GC O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does the AAPC mee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ly six times a ye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438280"/>
            <a:ext cx="2971800" cy="2590920"/>
          </a:xfrm>
          <a:prstGeom prst="rect">
            <a:avLst/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201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1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51055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o the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57150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enda and briefing materials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the FASAB and the AAPC meet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09680" y="38858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vernment Accountability Offi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41 G Street, N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hington, DC 20548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m 7C13 (Staats Briefing Room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1932120"/>
            <a:ext cx="609588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 does FASAB inform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0" y="2666880"/>
            <a:ext cx="6858000" cy="1758960"/>
            <a:chOff x="2286000" y="2666880"/>
            <a:chExt cx="6858000" cy="1758960"/>
          </a:xfrm>
        </p:grpSpPr>
        <p:sp>
          <p:nvSpPr>
            <p:cNvPr id="167" name=""/>
            <p:cNvSpPr/>
            <p:nvPr/>
          </p:nvSpPr>
          <p:spPr>
            <a:xfrm>
              <a:off x="2286000" y="2666880"/>
              <a:ext cx="6858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FASAB E-Mail Servi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0" y="3276720"/>
              <a:ext cx="6858000" cy="11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-monthly FASAB newslet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quests for com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ss rele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en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vitations to serve on task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286000" y="57150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blic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deral Register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SAB On-Line Resource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6250" r="14063" b="0"/>
          <a:stretch/>
        </p:blipFill>
        <p:spPr>
          <a:xfrm>
            <a:off x="2819520" y="2514600"/>
            <a:ext cx="579096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590920" y="1905120"/>
            <a:ext cx="6172200" cy="45720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fasab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sclaimer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ews expressed are those of the speaker. The Board expresses its views in official publica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SAB Communit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38280" y="20574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par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dito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munity Involvemen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21337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ng on the AA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ing to Requests for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aking at Public H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munity Involvement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ontd.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1337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ng on Task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ing to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ing Field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ly Accepted Accounting Principles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gnificance of “GAAP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999, the AICPA designated FASAB as the authoritative source of GAAP for the Federal governmen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does FASAB issue authoritative GAAP guidance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 Statements of Federal Financial Accounting Standards and Interpretations (Level A GAA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 Technical Bulletins (Level B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APC Technical Releases (Level C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 Staff Implementation Guidance (Level D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 Statements of Federal Financial Accounting Concepts (“Other Accounting Literature”)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are Grant Accrual Estimate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gencies must report amounts due to or from grantees based upon estimates of eligible expenses that grantees have incurred as of the reporting date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are Grant Accrual Estimate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vances: Amounts issued as advances must be adjusted, even if grantees have not yet reported expenses incurred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ounts Payable: Where there is no advance, agencies must estimate amounts payable to grantee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 do we need accrual estimates for federal program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perating Performance—Information to evaluat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-4856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rvice efforts, costs and accomplishments of gover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nner in which these are finan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of the entity’s assets and li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grant accrual estimates affect agency financial statements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82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ment of Net Cos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to the taxpayer by program and responsibility seg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lance Shee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s what is owned versus what  is 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ants Project Histo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0" y="18284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cope of this project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nual Federal grants t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-48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, local &amp; tribal government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ges and univers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non-profit organ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$500 billion annually, about 1/6 of the annual Federal budge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2009, ARRA added an additional $400 bill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5260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are the FASAB and the AAPC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is the FASAB’s AAPC working to assist federal agencies on cost-effective methods for developing and validating reasonable estimates of amounts due to and from grantees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gencies and firms are working with the AAPC on this project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o we need your help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ants Project Histo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0" y="18284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SAB Staff held 3 roundtables in April 2009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Agency Financial Statement Prepar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Agency Auditors (OIG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Public Accounting and Consulting Fi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med a volunteer Task Force t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areas where guidance i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 FASAB staff to develop guid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spcBef>
                <a:spcPts val="24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52600" indent="0">
              <a:spcBef>
                <a:spcPts val="27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s Project Histor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mary Issue Identified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uidance to support cost-effective development of reasonable estimates for grant accruals for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van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ounts Payab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 Project Histor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gencies generally have to report grant-related accruals before grantee reports are du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ee reports are often cash-based, not accrual-base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or revised grant programs have no historical dat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s Project Histor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sk Force Working Group and FASAB staff developed draft Exposure Draft for a proposed AAAPC Technical Release (TR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 is authoritative GAAP (Level C GAAP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ject to “due process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ject Mileston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ject Milestone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il 2009: Roundtables hel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gust 2009: Task Force Kickoff Meet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cember 2009: Proposed Draft ED to AAPC Agenda Committe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anuary 2010: AAPC approved projec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ject Mileston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ned Future Milestone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rch 2010: Issue Exposure Draft for Public Commen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ril 2010: Comments Du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une 2010: Final TR to FASAB for revie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uly 2010: Issue T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s Project Goa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mary Goal for this project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thoritative guidance (formal FASAB/AAPC issuance) that support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t-effective method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sonable” estimat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s Project Goa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 do we need your help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le purpose of this guidance is to help preparers and audito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SAB staff are acting as facilitators, not subject-matter experts on grants managemen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Scope: grants (as defined in 31 USC 6304)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ffective Date: Would be effective immediately upon issuance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pics addressed in the ED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aring accrual estimat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idating accrual estimat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lance Sheet display of advances and payab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nal contro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ining and monitoring of grante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ity consider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09680" y="17521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.S. Federal Government Accounting Prior to FASAB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agmented Approa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15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the Treasury (Treasur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 of Management and Budget (OM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getary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Accountability Office (GA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 standards and princi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are the FASAB and the AAPC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aring accrual estimates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ed guidance for two different situations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established grant programs with sufficient relevant and reliable historical data, an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the absence of sufficient relevant and reliable historical dat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aring accrual estimates for grant program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ive Decision Tree (Figure 1, Appendix B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aft ED provides guidance listing specific documentation, inclu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 used (including sampling proces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mptions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ical data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nd analy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 for error check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 for subsequent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: facilitate both agency review and auditor validation of estim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can agencies do in the absence of sufficient reliable historical data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ed guidance: Use the best available data at the time the estimates are made. Suggested sources includ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t experience from other ag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polation from programs with similar grant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from program manag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inion of qualified expert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alidating accrual estimates for grant programs (“look-back”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ary part of internal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require data from 100% of grant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dgment i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s are inherently uncerta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ve Decision Tree (Figure 2 of Appendix B) for validati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play: “to net or not to net”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al: When estimates are prepared on an aggregate (“top-down”) level,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encies may display a net amount on the balance sheet, but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t report the breakout of advances and payables in a not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lustrative example note in Appendix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nal Control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ommended procedures and documentation, for exampl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are the sources of data used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the rationale for selecting the model(s) used in calculating the estimates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is responsible for each step of calculation and review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ining and Monitoring of Grante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ggested (not required) methods for training grantees such a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ncy-sponsored conferenc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kshops and/or semina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stomer service centers and help desk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er-based sources such as webcas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ity Consider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ity decisions require judgment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ity is not strictly defined in the accounting commun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al: Agencies should consider the materiality of the grant programs relative to the agency’s statement of net co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will you know when the Exposure Draft is Released for Public Comment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possible option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ck the FASAB website at </a:t>
            </a:r>
            <a:r>
              <a:rPr b="1" lang="en-US" sz="3200" spc="-1" strike="noStrike" u="sng">
                <a:solidFill>
                  <a:srgbClr val="4d4d4d"/>
                </a:solidFill>
                <a:uFillTx/>
                <a:latin typeface="Comic Sans MS"/>
                <a:hlinkClick r:id="rId1"/>
              </a:rPr>
              <a:t>www.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gn up for FASAB’s e-mail notification, also at </a:t>
            </a:r>
            <a:r>
              <a:rPr b="1" lang="en-US" sz="3200" spc="-1" strike="noStrike" u="sng">
                <a:solidFill>
                  <a:srgbClr val="4d4d4d"/>
                </a:solidFill>
                <a:uFillTx/>
                <a:latin typeface="Comic Sans MS"/>
                <a:hlinkClick r:id="rId2"/>
              </a:rPr>
              <a:t>www.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nd an e-mail to me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 u="sng">
                <a:solidFill>
                  <a:srgbClr val="4d4d4d"/>
                </a:solidFill>
                <a:uFillTx/>
                <a:latin typeface="Comic Sans MS"/>
                <a:hlinkClick r:id="rId3"/>
              </a:rPr>
              <a:t>ParlowE@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I know who at my federal agency/ private-sector firm has been involved in this project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k at the list of participating agencies and firms on pages 25 and 26 of the draft 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your agency or firm is a member of the TF but not the Working Group, send me an e-mail and I will provide contact info for your agency/firm’s participant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your organization is not listed in the ED, your org. has not yet been involved, and your comments and suggestions are most welcome!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are the FASAB and the AAPC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09680" y="17521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SAB Formed by Memorandum of Understanding (October 1990)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ief Financial Officers Act of 1990 (November 1990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Chief Financial Officer pos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audited financial statements  for selected agenc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tact Inform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ileen W. Par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sistant Directo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02.512.7356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lowE@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ww.fasab.gov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Questions?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are the FASAB and the AAPC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vernment Management Reform Act of 1994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ed the CFO Act to more ag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governmentwide audited financial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2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ountability of Tax Dollars Act of 200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the requirement for audited financial statements to most federal entities (low-dollar, low-risk exemp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zations Overseeing Federal Financial Managemen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23880" y="1752480"/>
            <a:ext cx="7362720" cy="4038840"/>
            <a:chOff x="1523880" y="1752480"/>
            <a:chExt cx="7362720" cy="4038840"/>
          </a:xfrm>
        </p:grpSpPr>
        <p:grpSp>
          <p:nvGrpSpPr>
            <p:cNvPr id="67" name=""/>
            <p:cNvGrpSpPr/>
            <p:nvPr/>
          </p:nvGrpSpPr>
          <p:grpSpPr>
            <a:xfrm>
              <a:off x="1523880" y="2590920"/>
              <a:ext cx="7362720" cy="1562040"/>
              <a:chOff x="1523880" y="2590920"/>
              <a:chExt cx="7362720" cy="1562040"/>
            </a:xfrm>
          </p:grpSpPr>
          <p:cxnSp>
            <p:nvCxnSpPr>
              <p:cNvPr id="68" name="_s362567"/>
              <p:cNvCxnSpPr>
                <a:stCxn id="69" idx="0"/>
                <a:endCxn id="70" idx="2"/>
              </p:cNvCxnSpPr>
              <p:nvPr/>
            </p:nvCxnSpPr>
            <p:spPr>
              <a:xfrm flipV="1" rot="16200000">
                <a:off x="6351480" y="1900440"/>
                <a:ext cx="229320" cy="252288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71" name="_s362566"/>
              <p:cNvCxnSpPr>
                <a:stCxn id="72" idx="0"/>
                <a:endCxn id="70" idx="2"/>
              </p:cNvCxnSpPr>
              <p:nvPr/>
            </p:nvCxnSpPr>
            <p:spPr>
              <a:xfrm flipV="1">
                <a:off x="5205240" y="3047400"/>
                <a:ext cx="2160" cy="2293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73" name="_s362565"/>
              <p:cNvCxnSpPr>
                <a:stCxn id="74" idx="0"/>
                <a:endCxn id="70" idx="2"/>
              </p:cNvCxnSpPr>
              <p:nvPr/>
            </p:nvCxnSpPr>
            <p:spPr>
              <a:xfrm flipH="1" flipV="1" rot="5400000">
                <a:off x="3830400" y="1901520"/>
                <a:ext cx="229320" cy="252144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70" name="_s362561"/>
              <p:cNvSpPr/>
              <p:nvPr/>
            </p:nvSpPr>
            <p:spPr>
              <a:xfrm>
                <a:off x="3903120" y="2590920"/>
                <a:ext cx="260460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6880" rIns="5688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incipals with Overs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_s362562"/>
              <p:cNvSpPr/>
              <p:nvPr/>
            </p:nvSpPr>
            <p:spPr>
              <a:xfrm>
                <a:off x="1523880" y="3276720"/>
                <a:ext cx="2318760" cy="87624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6880" rIns="5688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easury Depart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cret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xecutive Branch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_s362563"/>
              <p:cNvSpPr/>
              <p:nvPr/>
            </p:nvSpPr>
            <p:spPr>
              <a:xfrm>
                <a:off x="4046040" y="3276720"/>
                <a:ext cx="2318760" cy="87624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6880" rIns="5688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ffice of Manageme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d Budget (OM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ire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xecutive Branch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_s362564"/>
              <p:cNvSpPr/>
              <p:nvPr/>
            </p:nvSpPr>
            <p:spPr>
              <a:xfrm>
                <a:off x="6567840" y="3276720"/>
                <a:ext cx="2318760" cy="87624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6880" rIns="5688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overnment Accountabil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ffice (GAO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mptroller Gene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Legislative Branch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343400" y="5334120"/>
              <a:ext cx="2286000" cy="4572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ounting and Audi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icy Committee (AAP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4495680"/>
              <a:ext cx="2743200" cy="533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deral Accounting Standar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isory Board (FASA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666880" y="4114800"/>
              <a:ext cx="5105520" cy="380880"/>
              <a:chOff x="2666880" y="4114800"/>
              <a:chExt cx="5105520" cy="3808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2666880" y="4114800"/>
                <a:ext cx="5105520" cy="152280"/>
                <a:chOff x="2666880" y="4114800"/>
                <a:chExt cx="5105520" cy="152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666880" y="4267080"/>
                  <a:ext cx="5105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666880" y="411480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772400" y="411480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5181480" y="42670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114800" y="5029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14800" y="55627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1752480"/>
              <a:ext cx="5105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ederal Financial 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.S. Accounting Standards-Setting Organization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1828800"/>
            <a:ext cx="8329320" cy="2657520"/>
            <a:chOff x="609480" y="1828800"/>
            <a:chExt cx="8329320" cy="2657520"/>
          </a:xfrm>
        </p:grpSpPr>
        <p:grpSp>
          <p:nvGrpSpPr>
            <p:cNvPr id="88" name=""/>
            <p:cNvGrpSpPr/>
            <p:nvPr/>
          </p:nvGrpSpPr>
          <p:grpSpPr>
            <a:xfrm>
              <a:off x="609480" y="2489400"/>
              <a:ext cx="8329320" cy="1996920"/>
              <a:chOff x="609480" y="2489400"/>
              <a:chExt cx="8329320" cy="1996920"/>
            </a:xfrm>
          </p:grpSpPr>
          <p:cxnSp>
            <p:nvCxnSpPr>
              <p:cNvPr id="89" name="_s358421"/>
              <p:cNvCxnSpPr>
                <a:stCxn id="90" idx="0"/>
                <a:endCxn id="91" idx="2"/>
              </p:cNvCxnSpPr>
              <p:nvPr/>
            </p:nvCxnSpPr>
            <p:spPr>
              <a:xfrm flipV="1" rot="16200000">
                <a:off x="6084720" y="1712160"/>
                <a:ext cx="229320" cy="28483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92" name="_s358420"/>
              <p:cNvCxnSpPr>
                <a:stCxn id="93" idx="0"/>
                <a:endCxn id="91" idx="2"/>
              </p:cNvCxnSpPr>
              <p:nvPr/>
            </p:nvCxnSpPr>
            <p:spPr>
              <a:xfrm flipV="1">
                <a:off x="4775400" y="3021840"/>
                <a:ext cx="1800" cy="2293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94" name="_s358419"/>
              <p:cNvCxnSpPr>
                <a:stCxn id="95" idx="0"/>
                <a:endCxn id="91" idx="2"/>
              </p:cNvCxnSpPr>
              <p:nvPr/>
            </p:nvCxnSpPr>
            <p:spPr>
              <a:xfrm flipH="1" flipV="1" rot="5400000">
                <a:off x="3236400" y="1711800"/>
                <a:ext cx="229320" cy="284976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91" name="_s358415"/>
              <p:cNvSpPr/>
              <p:nvPr/>
            </p:nvSpPr>
            <p:spPr>
              <a:xfrm>
                <a:off x="3351600" y="2489400"/>
                <a:ext cx="28447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560" rIns="4356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counting Standards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tter Organiz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_s358416"/>
              <p:cNvSpPr/>
              <p:nvPr/>
            </p:nvSpPr>
            <p:spPr>
              <a:xfrm>
                <a:off x="609480" y="3251160"/>
                <a:ext cx="2633760" cy="123516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560" rIns="4356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nancial Account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andards Boar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FAS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Private Secto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sines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_s358417"/>
              <p:cNvSpPr/>
              <p:nvPr/>
            </p:nvSpPr>
            <p:spPr>
              <a:xfrm>
                <a:off x="3457080" y="3251160"/>
                <a:ext cx="2633760" cy="123516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560" rIns="4356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overnmental Account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andards Boar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GAS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State &amp; Local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overnment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_s358418"/>
              <p:cNvSpPr/>
              <p:nvPr/>
            </p:nvSpPr>
            <p:spPr>
              <a:xfrm>
                <a:off x="6305040" y="3251160"/>
                <a:ext cx="2633760" cy="123516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560" rIns="4356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ederal Accounting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andards Advisory Boar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FASA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Federal Agencies &amp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overnmentwide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133720" y="1828800"/>
              <a:ext cx="5079960" cy="372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996633"/>
                  </a:solidFill>
                  <a:latin typeface="Arial"/>
                </a:rPr>
                <a:t>United Sta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o is FASAB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 memb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member each from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the Treas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 non-Federal memb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financial, accounting and auditing communities and academ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6:33:06Z</dcterms:created>
  <dc:creator>GAO</dc:creator>
  <dc:description/>
  <dc:language>en-US</dc:language>
  <cp:lastModifiedBy>GAO</cp:lastModifiedBy>
  <dcterms:modified xsi:type="dcterms:W3CDTF">2011-04-18T17:28:40Z</dcterms:modified>
  <cp:revision>278</cp:revision>
  <dc:subject/>
  <dc:title>Presentation  April 1, 2004</dc:title>
</cp:coreProperties>
</file>