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CB02-1BE8-41BC-BA82-513D77F9E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DF8A-CBDE-4765-BA46-EBD01403B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EB9B-B67C-47C4-BC24-D6AB0AF1D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5CCD-CC7C-4C6A-BC40-AB3080FD5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CA85-3B5F-43CB-AE1B-F82C373A0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D1EB-8C53-461B-8BBC-30BF9A7D94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81D3-77CD-4962-8A91-F21FFCA486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AAE3-1254-4005-9A84-6216B7C6E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4A48-B4D5-464D-8AA1-5BA56C40D7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E938-907A-4D88-B389-A2B1770921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F804-EFA9-4E9E-981D-DB128D78FB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3C89-4CE4-45DB-B330-65F059E80B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F2DF-CC65-44CC-BC34-46C985368E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67F5-65F5-4C3F-A83F-C15BD2E72D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468A-7FB0-49AC-85AD-958BB03B0D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3BD6-D3D0-4965-B956-D6EE1D22C6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798C-0BDB-45EF-B7CE-2AC0CF0A9B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130F-8163-44B2-A7FD-09A4661087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B355-880D-41F7-A536-66AB0E0A9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EF71-EA17-4134-9579-6BE39E41F0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5414-FA2A-4075-9AA6-F5CE72FF4B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F293-8928-4263-AEA8-13B88B4CD7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FB82-157B-4FF4-A9D5-677346D2A6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C11-B8BC-4616-BA40-348EB710D7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A76E-B08F-43B6-BA40-93605AD1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285640" y="18284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0" t="74930" r="0" b="0"/>
          <a:stretch/>
        </p:blipFill>
        <p:spPr>
          <a:xfrm>
            <a:off x="76320" y="6480000"/>
            <a:ext cx="20574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979E-A572-4837-B663-2C23B691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85120" y="5529240"/>
            <a:ext cx="159048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448400" y="5529240"/>
            <a:ext cx="165276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485120" y="5529240"/>
            <a:ext cx="160812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ederal Accoun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ndards Advisory Boar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234880" y="1676520"/>
            <a:ext cx="670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FASAB Research on Managerial Cost Accounting in the Federal Gover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’s 5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nual Professional Development Con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33520" y="380880"/>
            <a:ext cx="7924680" cy="6143760"/>
            <a:chOff x="533520" y="380880"/>
            <a:chExt cx="7924680" cy="6143760"/>
          </a:xfrm>
        </p:grpSpPr>
        <p:grpSp>
          <p:nvGrpSpPr>
            <p:cNvPr id="341" name=""/>
            <p:cNvGrpSpPr/>
            <p:nvPr/>
          </p:nvGrpSpPr>
          <p:grpSpPr>
            <a:xfrm>
              <a:off x="3657600" y="1981080"/>
              <a:ext cx="1676520" cy="2133360"/>
              <a:chOff x="3657600" y="1981080"/>
              <a:chExt cx="1676520" cy="2133360"/>
            </a:xfrm>
          </p:grpSpPr>
          <p:sp>
            <p:nvSpPr>
              <p:cNvPr id="342" name=""/>
              <p:cNvSpPr/>
              <p:nvPr/>
            </p:nvSpPr>
            <p:spPr>
              <a:xfrm>
                <a:off x="3657600" y="1981080"/>
                <a:ext cx="1676520" cy="2133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estionnai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3920" y="2057040"/>
                <a:ext cx="7617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3733920" y="320004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43280" y="335268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38600" y="350496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33920" y="365724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28880" y="3809880"/>
                <a:ext cx="152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38680" y="38088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1680" y="205740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7120" y="3962520"/>
              <a:ext cx="1676160" cy="144756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1960" y="507672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odology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2666880"/>
              <a:ext cx="167616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ple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47720" y="45720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lture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titu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334120" y="1676160"/>
              <a:ext cx="609480" cy="685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4120" y="2895480"/>
              <a:ext cx="1447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4120" y="3733920"/>
              <a:ext cx="1295280" cy="533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95680" y="4114800"/>
              <a:ext cx="228600" cy="99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09680" y="3429000"/>
              <a:ext cx="1447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1800" y="1752480"/>
              <a:ext cx="685800" cy="685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419720"/>
              <a:ext cx="2438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ms / Committ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lot T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-implementation perio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ditor Involv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838400">
              <a:off x="1687680" y="3240720"/>
              <a:ext cx="533520" cy="21826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7640 h 2182680"/>
                <a:gd name="textAreaBottom" fmla="*/ 2075040 h 21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03"/>
                    <a:pt x="10800" y="3405"/>
                  </a:cubicBezTo>
                  <a:lnTo>
                    <a:pt x="10800" y="7108"/>
                  </a:lnTo>
                  <a:cubicBezTo>
                    <a:pt x="10800" y="8811"/>
                    <a:pt x="5400" y="10513"/>
                    <a:pt x="0" y="10513"/>
                  </a:cubicBezTo>
                  <a:cubicBezTo>
                    <a:pt x="5400" y="10513"/>
                    <a:pt x="10800" y="12216"/>
                    <a:pt x="10800" y="13918"/>
                  </a:cubicBezTo>
                  <a:lnTo>
                    <a:pt x="10800" y="18195"/>
                  </a:lnTo>
                  <a:cubicBezTo>
                    <a:pt x="10800" y="1989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naire Results – General Backgroun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said cost accounting implemented for entire agency or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% had not received audit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% plan to do more cos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86560" y="5527800"/>
            <a:ext cx="15908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Uses of Cost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s of services and user fees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repor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load analysi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n working capital fund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ses of cost information for decision-ma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align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(better transparency of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5640" y="1612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more accurate cost recovery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upport budget requests and cost benefit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establish cost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billings are more def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ransparency of constru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5720" y="164160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data across responsibility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managers to actually use the data fo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influence budgets /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trols over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7580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and educate all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takeholders in decision-mak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executive-level buy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pilot before taking on the whol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quirements / user needs up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38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costs within and across age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and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ost changes over time and identify their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osts of similar activities and find causes for cos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fficiencies and determine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petition, incentives to find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7840" y="1595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costs within and across age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 or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andardized methodology across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willingness to share information or chang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among agencies (e.g.,    regulatory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naire Results – Cost Accounting Syst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2% have automated cost accountin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1% of those use Activity-Based C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ly every respondent uses a differ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include Access databases and Excel 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% of respondents had not considered XBR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485120" y="5529240"/>
            <a:ext cx="1590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553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expressed are those of the speaker. Official positions of the FASAB are determined only after extensive due process and delib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sistency in defining responsibility seg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 /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s of 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ices / operating units / branches / div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sistency in defining cost objec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and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, services and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said they have implemented full c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5% of those allocate a portion of administrative costs to mission-related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1% do not have costs unassigned to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3% use direct tracing, cause and effect, and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44% use direct tracing and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2% of respondents said they use labor data reporting to assign personne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CA-Related Teams or Committ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% during development an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% for MCA-related polic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% to develop details of the MC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to obtain and dissemin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00200" y="1695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MCA-Related Teams or Committees (contd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7% of the teams included different levels of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9% said one person was common to all teams or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4% included user-level staff like project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4% had clearly defined objectives or  char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MCA-Related Teams or Committees (contd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ons learned or challe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ying levels of understanding of the process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staff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s should not be too large or have too many competing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takeholders should be included in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hould be disseminated as              early and as often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Pilot Tes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4% started with a pilot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ose, majority started by piloting the system in one business line or 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ity found pilot test to be very help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14320" y="1680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2% had clearly defined agency gu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7% said they had frequent outreach to support the gu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9% asked for feedback to identify needs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3% held training sessions to educate as many people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mostly provided just prior to and dur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Implementation Perio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1% used pre-imp period to help encourage buy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9% used pre-imp period for experi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 Involve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8% said auditor involved in the development and implementa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of involvement varied significa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auditor involvement considered benefi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/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naire Results – Agency Culture and Attitu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% said management supports attempts to implement cost accou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stated that they have an MCA “champ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% have developed an organization-wide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said the strategy for achieving the MCA objectives was shared with all levels of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7485120" y="5529240"/>
            <a:ext cx="1617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2133720"/>
            <a:ext cx="784872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bservations / 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variance in the nature and type of cost information that is captured, used, and repor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onsistency in defining responsibility segmen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bility to make meaningful comparisons of statements of ne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reporting on output costs and per un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link between cost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integration between budget and co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data – obligations – is the primary source of data for management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lture is based on managing by ‘obligations’ rather than ‘expense’ data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aire respo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pliance with FFMIA of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at federal financial management systems comply with federal accounting standa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transaction 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 sessions,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partnership with CFO Council and / or 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ccepting questionnaires / conducting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reporting model user needs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results into reporting model, if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y Informe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088720" y="1600200"/>
            <a:ext cx="621684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2286000"/>
            <a:ext cx="6019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AB lis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-monthly FASAB 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or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s to serve on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3670200"/>
            <a:ext cx="68580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57913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0" t="0" r="9375" b="7500"/>
          <a:stretch/>
        </p:blipFill>
        <p:spPr>
          <a:xfrm>
            <a:off x="1523880" y="1295280"/>
            <a:ext cx="6732720" cy="5119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43000" y="1143000"/>
            <a:ext cx="7391520" cy="609480"/>
          </a:xfrm>
          <a:prstGeom prst="rect">
            <a:avLst/>
          </a:prstGeom>
          <a:gradFill rotWithShape="0">
            <a:gsLst>
              <a:gs pos="0">
                <a:srgbClr val="832b00"/>
              </a:gs>
              <a:gs pos="50000">
                <a:srgbClr val="993300"/>
              </a:gs>
              <a:gs pos="100000">
                <a:srgbClr val="832b00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209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18750" t="43750" r="38438" b="6250"/>
          <a:stretch/>
        </p:blipFill>
        <p:spPr>
          <a:xfrm>
            <a:off x="6248520" y="3352680"/>
            <a:ext cx="2701800" cy="2114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25" name=""/>
          <p:cNvSpPr/>
          <p:nvPr/>
        </p:nvSpPr>
        <p:spPr>
          <a:xfrm flipV="1">
            <a:off x="5562720" y="548604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62720" y="548604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023920"/>
            <a:ext cx="114300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 Ranagan, CGFM, C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.512.73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aganj@fasab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www.fasab.gov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621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2133720"/>
            <a:ext cx="777240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cost to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to compare costs acros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porting Model Project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47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st Accounting Project Objective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effectiveness of existing managerial cost accoun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feder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abou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inking cost to performance and efforts to encourage that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2133720"/>
            <a:ext cx="769608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ults of Resea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search to D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CFO Round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Financi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55:17Z</dcterms:created>
  <dc:creator>Julia Ranagan</dc:creator>
  <dc:description/>
  <dc:language>en-US</dc:language>
  <cp:lastModifiedBy>GAO</cp:lastModifiedBy>
  <dcterms:modified xsi:type="dcterms:W3CDTF">2011-04-18T17:28:23Z</dcterms:modified>
  <cp:revision>144</cp:revision>
  <dc:subject/>
  <dc:title>Slide 1</dc:title>
</cp:coreProperties>
</file>