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C4D95-232A-4849-B714-CA349BF9F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6C05C-18D4-430D-BDAE-41F8C2DFB2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20A2E-EBB4-4EF0-B325-490BDA3D29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51108-0F0D-4860-A81E-86F484B5C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0ED0-66BB-4B32-9D42-A25FAFE752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9243D-ED46-4B9E-B6CD-21D17FFEAB6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FF1B1-6F34-4201-88EB-CC51F79848B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F496B-389C-442D-B2BC-8F12D0C0B9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0700E-8BBB-4BB2-AE81-5AF8AD1F1CC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8AF82-F93C-4557-9240-B81CE23E9D6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C2D0D-D25D-4A9A-BB4E-BAD6CB0B214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FAE5D-C90B-4605-931B-7C151CB8D4E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246A2-C00C-469B-A7CD-7AE6E36FB60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A706B-C970-42C3-9189-2DB744CE7A1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9B26D-7D77-4117-81A7-A7904D3DBDE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554B6-AB96-4066-B18D-BF78728B88F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5E12E-B90E-4F81-B52F-F93D86C61DE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C80B3-0BC3-4967-AFA3-96107670DD6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B423E-972F-43EB-9B12-047C0DEBB7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D0759-A85A-44C7-91B4-7CC0F051483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3C6D7-F8A8-495B-BA82-6BC2795A98D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CCC64-ABFF-4724-9371-8542EFFC159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796B9-2612-48E8-A3EF-DAC90E9FAD9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A7385-893E-4AF8-B191-7E0EB1C88C7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3967-3B2D-43C5-9656-80EB2CF01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152280" y="5791320"/>
            <a:ext cx="1219320" cy="89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2285640" y="1828440"/>
            <a:ext cx="6553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600200"/>
            <a:ext cx="2286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1676520"/>
            <a:ext cx="2286000" cy="5181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rcRect l="0" t="74930" r="0" b="0"/>
          <a:stretch/>
        </p:blipFill>
        <p:spPr>
          <a:xfrm>
            <a:off x="76320" y="6480000"/>
            <a:ext cx="2057400" cy="3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01A4-2EC7-4048-BC99-676C9E3758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52280" y="5791320"/>
            <a:ext cx="1219320" cy="89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152280" y="5791320"/>
            <a:ext cx="1219320" cy="8920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7485120" y="5529240"/>
            <a:ext cx="1590480" cy="1236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52280" y="5791320"/>
            <a:ext cx="1219320" cy="8920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7448400" y="5529240"/>
            <a:ext cx="1652760" cy="124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52280" y="5791320"/>
            <a:ext cx="1219320" cy="89208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3"/>
          <a:stretch/>
        </p:blipFill>
        <p:spPr>
          <a:xfrm>
            <a:off x="7485120" y="5529240"/>
            <a:ext cx="1608120" cy="124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Federal Account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ndards Advisory Boar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2234880" y="1676520"/>
            <a:ext cx="6705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FASAB Research on Managerial Cost Accounting in the Federal Govern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A’s 5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nual Professional Development Conferen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11, 201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"/>
          <p:cNvGrpSpPr/>
          <p:nvPr/>
        </p:nvGrpSpPr>
        <p:grpSpPr>
          <a:xfrm>
            <a:off x="533520" y="380880"/>
            <a:ext cx="7924680" cy="6143760"/>
            <a:chOff x="533520" y="380880"/>
            <a:chExt cx="7924680" cy="6143760"/>
          </a:xfrm>
        </p:grpSpPr>
        <p:grpSp>
          <p:nvGrpSpPr>
            <p:cNvPr id="341" name=""/>
            <p:cNvGrpSpPr/>
            <p:nvPr/>
          </p:nvGrpSpPr>
          <p:grpSpPr>
            <a:xfrm>
              <a:off x="3657600" y="1981080"/>
              <a:ext cx="1676520" cy="2133360"/>
              <a:chOff x="3657600" y="1981080"/>
              <a:chExt cx="1676520" cy="2133360"/>
            </a:xfrm>
          </p:grpSpPr>
          <p:sp>
            <p:nvSpPr>
              <p:cNvPr id="342" name=""/>
              <p:cNvSpPr/>
              <p:nvPr/>
            </p:nvSpPr>
            <p:spPr>
              <a:xfrm>
                <a:off x="3657600" y="1981080"/>
                <a:ext cx="1676520" cy="2133360"/>
              </a:xfrm>
              <a:prstGeom prst="foldedCorner">
                <a:avLst>
                  <a:gd name="adj" fmla="val 12500"/>
                </a:avLst>
              </a:prstGeom>
              <a:solidFill>
                <a:srgbClr val="ffff99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Questionnair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733920" y="2057040"/>
                <a:ext cx="76176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4" name=""/>
              <p:cNvSpPr/>
              <p:nvPr/>
            </p:nvSpPr>
            <p:spPr>
              <a:xfrm>
                <a:off x="3733920" y="3200040"/>
                <a:ext cx="1523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743280" y="3352680"/>
                <a:ext cx="1523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738600" y="3504960"/>
                <a:ext cx="1523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733920" y="3657240"/>
                <a:ext cx="1523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28880" y="3809880"/>
                <a:ext cx="1524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5638680" y="380880"/>
              <a:ext cx="1676520" cy="1447920"/>
            </a:xfrm>
            <a:prstGeom prst="ellipse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Backgrou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81680" y="2057400"/>
              <a:ext cx="1676520" cy="1447920"/>
            </a:xfrm>
            <a:prstGeom prst="ellipse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77120" y="3962520"/>
              <a:ext cx="1676160" cy="1447560"/>
            </a:xfrm>
            <a:prstGeom prst="ellipse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71960" y="5076720"/>
              <a:ext cx="1676520" cy="1447920"/>
            </a:xfrm>
            <a:prstGeom prst="ellipse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thodology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ssig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3520" y="2666880"/>
              <a:ext cx="1676160" cy="1447920"/>
            </a:xfrm>
            <a:prstGeom prst="ellipse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mplemen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act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647720" y="457200"/>
              <a:ext cx="1676520" cy="1447920"/>
            </a:xfrm>
            <a:prstGeom prst="ellipse">
              <a:avLst/>
            </a:prstGeom>
            <a:solidFill>
              <a:srgbClr val="ffff9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gen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ulture 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titu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5334120" y="1676160"/>
              <a:ext cx="609480" cy="685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334120" y="2895480"/>
              <a:ext cx="144756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334120" y="3733920"/>
              <a:ext cx="1295280" cy="53316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95680" y="4114800"/>
              <a:ext cx="228600" cy="9907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09680" y="3429000"/>
              <a:ext cx="144792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971800" y="1752480"/>
              <a:ext cx="685800" cy="68580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66680" y="4419720"/>
              <a:ext cx="243864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eams / Committe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ilot Te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re-implementation perio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uditor Involve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4838400">
              <a:off x="1687680" y="3240720"/>
              <a:ext cx="533520" cy="2182680"/>
            </a:xfrm>
            <a:custGeom>
              <a:avLst/>
              <a:gdLst>
                <a:gd name="textAreaLeft" fmla="*/ 340920 w 533520"/>
                <a:gd name="textAreaRight" fmla="*/ 533880 w 533520"/>
                <a:gd name="textAreaTop" fmla="*/ 107640 h 2182680"/>
                <a:gd name="textAreaBottom" fmla="*/ 2075040 h 2182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703"/>
                    <a:pt x="10800" y="3405"/>
                  </a:cubicBezTo>
                  <a:lnTo>
                    <a:pt x="10800" y="7108"/>
                  </a:lnTo>
                  <a:cubicBezTo>
                    <a:pt x="10800" y="8811"/>
                    <a:pt x="5400" y="10513"/>
                    <a:pt x="0" y="10513"/>
                  </a:cubicBezTo>
                  <a:cubicBezTo>
                    <a:pt x="5400" y="10513"/>
                    <a:pt x="10800" y="12216"/>
                    <a:pt x="10800" y="13918"/>
                  </a:cubicBezTo>
                  <a:lnTo>
                    <a:pt x="10800" y="18195"/>
                  </a:lnTo>
                  <a:cubicBezTo>
                    <a:pt x="10800" y="19898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estionnaire Results – General Background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 respo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0% said cost accounting implemented for entire agency or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8% had not received audit fi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7% plan to do more cost accoun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7486560" y="5527800"/>
            <a:ext cx="1590840" cy="12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Use of Managerial Cost Inform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077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Uses of Cost Inform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costs of services and user fees 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ial reporting 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ing 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load analysis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reporting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 information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ing on working capital fund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Use of Managerial Cost Inform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contd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uses of cost information for decision-mak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al realignment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sourcing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otiating contr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management (better transparency of cos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6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Use of Managerial Cost Inform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d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85640" y="1612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cesses in using M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for more accurate cost recovery and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support budget requests and cost benefit analy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le to establish cost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stomer billings are more defen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transparency of construc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23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Use of Managerial Cost Inform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d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215720" y="164160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s in using M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and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ization of data across responsibility seg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ting managers to actually use the data for decision-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ability to influence budgets / resource al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controls over data 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3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Use of Managerial Cost Inform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d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75800" y="175212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 Learned in using M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 and educate all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stakeholders in decision-making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executive-level buy-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a pilot before taking on the whole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requirements / user needs up f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23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Use of Managerial Cost Inform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d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95000" y="1638000"/>
            <a:ext cx="7620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ng costs within and across agenc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ts and 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cost changes over time and identify their ca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costs of similar activities and find causes for cost dif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efficiencies and determine best pract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competition, incentives to find cost 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23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Use of Managerial Cost Inform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d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7840" y="15955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ng costs within and across agenc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iers or obsta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standardized methodology across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sisten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willingness to share information or chang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among agencies (e.g.,    regulatory require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naire Results – Cost Accounting System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2% have automated cost accounting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1% of those use Activity-Based Co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arly every respondent uses a different syst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ternatives include Access databases and Excel spreadshe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9% of respondents had not considered XBR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7485120" y="5529240"/>
            <a:ext cx="159048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5534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s expressed are those of the speaker. Official positions of the FASAB are determined only after extensive due process and delibera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Disclaimer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23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Cost Accounting Methodolog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nsistency in defining responsibility segment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ategic go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jor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s /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nes of busin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fices / operating units / branches / divi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0" y="23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Cost Accounting Methodolog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d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nsistency in defining cost object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jects and tas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ts, services and custom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23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Cost Accounting Methodolog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d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2% said they have implemented full cos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5% of those allocate a portion of administrative costs to mission-related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61% do not have costs unassigned to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0" y="23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Cost Accounting Methodolog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d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3% use direct tracing, cause and effect, and al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other 44% use direct tracing and allo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2% of respondents said they use labor data reporting to assign personnel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23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Project Implementation Practi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238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MCA-Related Teams or Committe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3% during development and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% for MCA-related policy deci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% to develop details of the MCA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5% to obtain and dissemina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3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Project Implementation Practic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d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00200" y="169560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of MCA-Related Teams or Committees (contd.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7% of the teams included different levels of sta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9% said one person was common to all teams or committe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4% included user-level staff like project manag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4% had clearly defined objectives or  char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0" y="23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Project Implementation Practic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d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7164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of MCA-Related Teams or Committees (contd.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ons learned or challeng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rying levels of understanding of the process as a who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ck of staff resour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ms should not be too large or have too many competing prior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stakeholders should be included in the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formation should be disseminated as              early and as often as poss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0" y="23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Project Implementation Practic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d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of Pilot Tes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4% started with a pilot t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 those, majority started by piloting the system in one business line or div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jority found pilot test to be very helpf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0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0" y="23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Project Implementation Practic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d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14320" y="1680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2% had clearly defined agency guid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7% said they had frequent outreach to support the guid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9% asked for feedback to identify needs from manag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3% held training sessions to educate as many people as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ing mostly provided just prior to and dur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23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stionnaire Results – Project Implementation Practic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d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1430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-Implementation Perio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1% used pre-imp period to help encourage buy-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9% used pre-imp period for experi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uditor Involvemen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28% said auditor involved in the development and implementation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l of involvement varied significa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 auditor involvement considered benefi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0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43000" y="1904760"/>
            <a:ext cx="73915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spcAft>
                <a:spcPts val="16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spcAft>
                <a:spcPts val="16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spcAft>
                <a:spcPts val="16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 / 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naire Results – Agency Culture and Attitud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89% said management supports attempts to implement cost account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2% stated that they have an MCA “champion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5% have developed an organization-wide polic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70% said the strategy for achieving the MCA objectives was shared with all levels of staf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7485120" y="5529240"/>
            <a:ext cx="1617480" cy="12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0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2133720"/>
            <a:ext cx="7848720" cy="22860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Observations / Next Ste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liminary Observation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3818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variance in the nature and type of cost information that is captured, used, and report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consistency in defining responsibility segments an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bility to make meaningful comparisons of statements of net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reporting on output costs and per unit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 of link between cost an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liminary Observation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ontd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integration between budget and cost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ary data – obligations – is the primary source of data for management decision-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ulture is based on managing by ‘obligations’ rather than ‘expense’ data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naire respon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Preliminary Observation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contd.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compliance with FFMIA of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that federal financial management systems comply with federal accounting standard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the transaction lev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9246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information sessions,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k partnership with CFO Council and / or O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 accepting questionnaires / conducting inter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reporting model user needs 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rporate results into reporting model, if appli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Stay Informed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2088720" y="1600200"/>
            <a:ext cx="6216840" cy="8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ww.fasab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057400" y="2286000"/>
            <a:ext cx="6019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AB listser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-monthly FASAB news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ests for com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rel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itations to serve on task fo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286000" y="3670200"/>
            <a:ext cx="685800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057400" y="579132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  <p:animClr clrSpc="rgb">
                                <p:cBhvr>
                                  <p:cTn id="6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  <p:animClr clrSpc="rgb">
                                <p:cBhvr>
                                  <p:cTn id="6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  <p:animClr clrSpc="rgb">
                                <p:cBhvr>
                                  <p:cTn id="6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7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rcRect l="0" t="0" r="9375" b="7500"/>
          <a:stretch/>
        </p:blipFill>
        <p:spPr>
          <a:xfrm>
            <a:off x="1523880" y="1295280"/>
            <a:ext cx="6732720" cy="51199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143000" y="1143000"/>
            <a:ext cx="7391520" cy="609480"/>
          </a:xfrm>
          <a:prstGeom prst="rect">
            <a:avLst/>
          </a:prstGeom>
          <a:gradFill rotWithShape="0">
            <a:gsLst>
              <a:gs pos="0">
                <a:srgbClr val="832b00"/>
              </a:gs>
              <a:gs pos="50000">
                <a:srgbClr val="993300"/>
              </a:gs>
              <a:gs pos="100000">
                <a:srgbClr val="832b00"/>
              </a:gs>
            </a:gsLst>
            <a:lin ang="5400000"/>
          </a:gra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ww.fasab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62120" y="22096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2"/>
          <a:srcRect l="18750" t="43750" r="38438" b="6250"/>
          <a:stretch/>
        </p:blipFill>
        <p:spPr>
          <a:xfrm>
            <a:off x="6248520" y="3352680"/>
            <a:ext cx="2701800" cy="2114640"/>
          </a:xfrm>
          <a:prstGeom prst="rect">
            <a:avLst/>
          </a:prstGeom>
          <a:ln w="15840">
            <a:solidFill>
              <a:srgbClr val="000000"/>
            </a:solidFill>
            <a:miter/>
          </a:ln>
        </p:spPr>
      </p:pic>
      <p:sp>
        <p:nvSpPr>
          <p:cNvPr id="425" name=""/>
          <p:cNvSpPr/>
          <p:nvPr/>
        </p:nvSpPr>
        <p:spPr>
          <a:xfrm flipV="1">
            <a:off x="5562720" y="5486040"/>
            <a:ext cx="16761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562720" y="5486040"/>
            <a:ext cx="137160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2023920"/>
            <a:ext cx="1143000" cy="53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ia Ranagan, CGFM, C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ant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2.512.737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naganj@fasab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3300"/>
                </a:solidFill>
                <a:latin typeface="Arial"/>
              </a:rPr>
              <a:t>www.fasab.gov</a:t>
            </a:r>
            <a:r>
              <a:rPr b="1" lang="en-US" sz="40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2209680" y="1523880"/>
            <a:ext cx="4621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2133720"/>
            <a:ext cx="7772400" cy="22860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Reas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s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ing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ing cost to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of existing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 to compare costs across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eporting Model Project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7472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ost Accounting Project Objectives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the effectiveness of existing managerial cost accounting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ey federal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 more about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best pract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 on linking cost to performance and efforts to encourage that link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762120" y="2133720"/>
            <a:ext cx="7696080" cy="2286000"/>
          </a:xfrm>
          <a:prstGeom prst="rect">
            <a:avLst/>
          </a:prstGeom>
          <a:solidFill>
            <a:srgbClr val="9933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Results of Resear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Research to Dat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 of Lit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 CFO Round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-Surv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n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ency Financial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7T14:55:17Z</dcterms:created>
  <dc:creator>Julia Ranagan</dc:creator>
  <dc:description/>
  <dc:language>en-US</dc:language>
  <cp:lastModifiedBy>GAO</cp:lastModifiedBy>
  <dcterms:modified xsi:type="dcterms:W3CDTF">2011-04-18T17:28:23Z</dcterms:modified>
  <cp:revision>144</cp:revision>
  <dc:subject/>
  <dc:title>Slide 1</dc:title>
</cp:coreProperties>
</file>