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GAO" initials="G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9-02-19T15:42:12.381000000" idx="1">
    <p:pos x="10" y="10"/>
    <p:text>DM 2440290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CCC-0C80-4C3B-B1D2-AA5A4A8D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13A-151A-4536-8297-37B4553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F0F-D0D0-40EF-809D-B29D6E62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4C6-E04B-46E8-9E2F-309D7CE2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C22-4822-4E4C-BE3C-1B241EBC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305-D72C-454F-9C04-96ED822F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666-C936-4E54-A28B-81C822B6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743-2A0A-406E-940B-F1C09A4A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57E-4506-4243-A86F-CAB19B99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B6E-532E-42C8-9220-EEFFE60B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D1F-42F5-4B7E-A156-3ABF8F9B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B1F-4427-4DE4-83F8-0650BC3A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E0EC-0729-4392-8AD1-B26E2C6A7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deral Accountability - Evol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dy Pa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ve Statement of Fiscal Sustaina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GAO’s Alternative Simul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Year Projec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1676520"/>
          <a:ext cx="8416800" cy="4000320"/>
        </p:xfrm>
        <a:graphic>
          <a:graphicData uri="http://schemas.openxmlformats.org/drawingml/2006/table">
            <a:tbl>
              <a:tblPr/>
              <a:tblGrid>
                <a:gridCol w="1908000"/>
                <a:gridCol w="1138320"/>
                <a:gridCol w="900000"/>
                <a:gridCol w="1349640"/>
                <a:gridCol w="857160"/>
                <a:gridCol w="1450800"/>
                <a:gridCol w="812880"/>
              </a:tblGrid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 2008-208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 2007-20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 dollar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trillion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PV of GD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 dollar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trillion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PV of GD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 dollar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trillion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PV of GD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eipts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150.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8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131.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8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18.4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0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nd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51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47.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4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.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25.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23.8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1.4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.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 Secur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46.3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 41.9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4.4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.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 of Federal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vern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 79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68.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10.8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0.1%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Spend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201.7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4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181.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5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 20.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0.5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nding in excess of receip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(51.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6.4)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(49.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6.9)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 (2.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0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26880" y="5923080"/>
            <a:ext cx="8579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fic illustration does not include a breakdown of receipts as these amounts are not broken out in GAO’s model. However, disaggregated amounts for Social Security and Medicare would be reported under the 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GAO’s April 2008 and April 2007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Numbers may not add to totals due to rou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Disclosures and R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ive discussion of fiscal sustainability concepts and caveats— “Plain Engli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and projected annual cash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scenarios/sensi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annual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91520" y="5592600"/>
            <a:ext cx="14475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aining Issu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/In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Financial Reporting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eeds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s or Over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 audit and internal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tabilization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s Issues Regar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ation of assets and liabilities, particularly in illiquid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ility of Credit Reform accounting and appropriate discoun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of federal reporting – Federal Reserve, GSEs, AI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AB believes the hierarchy can resolve immediate issues. Long-term these issues will be addressed in relat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PP&amp;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to extend guidance in SFFAS 23 regarding the use of estimates for general PP&amp;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and Auditing Policy Committee task force developing implementation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 of PP&amp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PP&amp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up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Re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Existin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C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red Maintenance and Asset Impai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ed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FFAS 6 as amended results in RSI - experi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red maintenance viewed as critical management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forc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Impai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FFAS 6 covers complete impai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deferred maintenance relat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r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t Impai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Websit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quiries can be directed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expressed are those of the speaker. 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Financial Report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Stabiliza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PP&amp;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ed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unting for Social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924680" y="571500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does a liability exist for future social insurance benef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bility: a present obligation of the federal government to provide assets or services to another entity at a determinable date, when a specified event occurs, or on demand. (SFFAC 5, par. 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bility debate centers on whether an obligation ex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work in covered employment occ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ully insured status is reached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ayment becomes due and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bility debate impacts costs recog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rise as a result of work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rise as benefits are d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ing disclosure of information over the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9246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rving and Enhancing Current SI Information – A Compromise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information in management’s discussion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 group measure on the balance sheet but not tota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section for the statement of social insurance presenting the closed and open group summary tot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basic financial statement explaining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lose the accrued benefit obligation (future benefits attributable to work completed as of the balance sheet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96080" y="5759280"/>
            <a:ext cx="12193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st Develop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sus suppor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Changes in Social Insu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&amp;A emphasis on critical information from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spects of the compromise not well received. Debate regarding relationships between the balance sheet and projections remain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cal Sustainability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to help users assess the likelihood that future budgetary resources will be sufficient to sustain public services and meet obligations as they come d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25:45Z</dcterms:created>
  <dc:creator>Wendy Payne</dc:creator>
  <dc:description/>
  <dc:language>en-US</dc:language>
  <cp:lastModifiedBy>GAO</cp:lastModifiedBy>
  <dcterms:modified xsi:type="dcterms:W3CDTF">2011-04-18T17:29:22Z</dcterms:modified>
  <cp:revision>38</cp:revision>
  <dc:subject/>
  <dc:title>Changing World of the CFO: FASAB and the Future of GAAP </dc:title>
</cp:coreProperties>
</file>