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GAO" initials="G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<Relationship Id="rId21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9-02-19T15:42:12.381000000" idx="1">
    <p:pos x="10" y="10"/>
    <p:text>DM 2440290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8A92-A987-4844-AADC-86605D977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968C-F821-4D88-8A2D-63823C7C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213F-EF78-4CB4-8C06-A68930741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6F91-11CA-49E9-8EE5-C400EC7F2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1E53-85CD-4F0F-867B-B4AA1977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A010-4A95-49BE-AAFC-D46674B1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B386-A658-4EDE-9915-779155FF2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393-9B32-44F7-8D41-17BC9ED95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9B76-E955-4431-AA00-63C8AD06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EE89-5C41-4519-996A-90A73C72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903F-6444-4119-894C-3CFCF568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78C0-E2CA-48B7-B634-B9B2499D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1588-F7C3-42F4-B3EA-556AFD093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fasab@fasab.gov" TargetMode="External"/><Relationship Id="rId2" Type="http://schemas.openxmlformats.org/officeDocument/2006/relationships/hyperlink" Target="http://www.fasab.gov/" TargetMode="External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deral Accountability - Evolu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dy Pa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051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ive Statement of Fiscal Sustainabili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GAO’s Alternative Simulation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 Year Projection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1676520"/>
          <a:ext cx="8416800" cy="4000320"/>
        </p:xfrm>
        <a:graphic>
          <a:graphicData uri="http://schemas.openxmlformats.org/drawingml/2006/table">
            <a:tbl>
              <a:tblPr/>
              <a:tblGrid>
                <a:gridCol w="1908000"/>
                <a:gridCol w="1138320"/>
                <a:gridCol w="900000"/>
                <a:gridCol w="1349640"/>
                <a:gridCol w="857160"/>
                <a:gridCol w="1450800"/>
                <a:gridCol w="812880"/>
              </a:tblGrid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 2008-208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Y 2007-208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ng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V dollars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 trillion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of PV of GD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V dollars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 trillion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of PV of GD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V dollars</a:t>
                      </a:r>
                      <a:br>
                        <a:rPr sz="1700"/>
                      </a:b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in trillion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of PV of GD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eipts</a:t>
                      </a:r>
                      <a:r>
                        <a:rPr b="1" lang="en-US" sz="17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150.0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8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131.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18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18.4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0.0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nd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r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51.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47.1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4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.3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c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25.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1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23.8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3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1.4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.2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cial Securit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46.3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 41.9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$ 4.4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0.2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t of Federal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</a:t>
                      </a: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vern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 79.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9.7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68.2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9.6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10.8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0.1%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Spend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201.7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4.9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181.1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25.4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 20.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(0.5%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75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7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nding in excess of receipt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(51.7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(6.4)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(49.5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(6.9)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$  (2.2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0.5%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326880" y="5923080"/>
            <a:ext cx="85791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pecific illustration does not include a breakdown of receipts as these amounts are not broken out in GAO’s model. However, disaggregated amounts for Social Security and Medicare would be reported under the 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 GAO’s April 2008 and April 2007 simul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Numbers may not add to totals due to rou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osed Disclosures and RS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670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ative discussion of fiscal sustainability concepts and caveats— “Plain English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ac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 and projected annual cash f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 of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scenarios/sensi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sis of annual chang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391520" y="5592600"/>
            <a:ext cx="1447560" cy="10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aining Issu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/Infin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Financial Reporting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needs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ds or Overk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to audit and internal 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 Stabilization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ses Issues Regar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ation of assets and liabilities, particularly in illiquid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ing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bility of Credit Reform accounting and appropriate discount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 of federal reporting – Federal Reserve, GSEs, AI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AB believes the hierarchy can resolve immediate issues. Long-term these issues will be addressed in related proj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PP&amp;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al to extend guidance in SFFAS 23 regarding the use of estimates for general PP&amp;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and Auditing Policy Committee task force developing implementation gu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sition of PP&amp;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PP&amp;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up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rd Re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Existing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ment C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rred Maintenance and Asset Impair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red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FFAS 6 as amended results in RSI - experimen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rred maintenance viewed as critical management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force for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et Impair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FFAS 6 covers complete impair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deferred maintenance relat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re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t Impair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and Websit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nquiries can be directed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sab@fasab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202 512-7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SAB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ur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expressed are those of the speaker. The Board expresses its views in official pub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sc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Financial Report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Stabilization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PP&amp;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red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ounting for Social In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924680" y="571500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n does a liability exist for future social insurance benefi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ability: a present obligation of the federal government to provide assets or services to another entity at a determinable date, when a specified event occurs, or on demand. (SFFAC 5, par. 3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cal Controvers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ability debate centers on whether an obligation exis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work in covered employment occ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fully insured status is reached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payment becomes due and pay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ability debate impacts costs recog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arise as a result of work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arise as benefits are d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ing disclosure of information over the yea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9246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serving and Enhancing Current SI Information – A Compromise</a:t>
            </a:r>
            <a:br>
              <a:rPr sz="36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information in management’s discussion 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d group measure on the balance sheet but not tota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 section for the statement of social insurance presenting the closed and open group summary tot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basic financial statement explaining chan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close the accrued benefit obligation (future benefits attributable to work completed as of the balance sheet 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96080" y="5759280"/>
            <a:ext cx="121932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test Develop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ensus support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Changes in Social Insur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&amp;A emphasis on critical information from stat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aspects of the compromise not well received. Debate regarding relationships between the balance sheet and projections remains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cal Sustainability Repor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to help users assess the likelihood that future budgetary resources will be sufficient to sustain public services and meet obligations as they come d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5:25:45Z</dcterms:created>
  <dc:creator>Wendy Payne</dc:creator>
  <dc:description/>
  <dc:language>en-US</dc:language>
  <cp:lastModifiedBy>GAO</cp:lastModifiedBy>
  <dcterms:modified xsi:type="dcterms:W3CDTF">2011-04-18T17:29:22Z</dcterms:modified>
  <cp:revision>38</cp:revision>
  <dc:subject/>
  <dc:title>Changing World of the CFO: FASAB and the Future of GAAP </dc:title>
</cp:coreProperties>
</file>