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89A7-B496-44E0-8EDA-F5AE2DC6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0" y="397836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B3F0-334E-4EEE-98F7-B9635B66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0032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2B4-601D-449C-AC25-09014B0A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0476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2316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60476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2316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12C-D645-4CA7-8815-ACA57209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F8F-E32A-414D-AC8A-38FD17E5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0FB-BAFF-49B2-906E-3E4A5E14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FFF-F252-4E46-A228-962AB4C0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9FC-488D-42EF-9A56-ABC5FE9A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2584-5E90-4A03-92C5-1B74886B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E983-9FA6-4E3B-9830-685BE302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80032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E9B-FF9D-477F-9E19-ABEE0C7E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A78-B5EA-4DB7-9982-8A558D9E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47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58D9-D361-46E5-BF97-AF5AC39E7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600200"/>
            <a:ext cx="2286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2286000" cy="51814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086600" y="152280"/>
            <a:ext cx="1905120" cy="13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Federal Account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andards Advisory Board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33360" y="1752120"/>
            <a:ext cx="7010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Is the Federal Entity and Shouldn’t We All Use the Same GAAP?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ICPA National Governmenta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ounting and Auditing Updat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gust 18, 2008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amples of Current Practic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14600" y="1981080"/>
          <a:ext cx="6324120" cy="4114440"/>
        </p:xfrm>
        <a:graphic>
          <a:graphicData uri="http://schemas.openxmlformats.org/drawingml/2006/table">
            <a:tbl>
              <a:tblPr/>
              <a:tblGrid>
                <a:gridCol w="2015280"/>
                <a:gridCol w="2154600"/>
                <a:gridCol w="2154240"/>
              </a:tblGrid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ASA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AS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ther*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1981080" y="62485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* GASB or some mixture of the three sources of GAA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s/Cons of Convers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0" y="190512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stency, completeness, and accoun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olid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d two sets of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d year-end manual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s/Cons of Convers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s to conve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s passed on to u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bility to sector (e.g., utilit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S differ from SEC submi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ived benefit only at CFR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s/Cons of Convers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0" y="182844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s (contd.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rect impact on legislative and judicial bran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for OCBOA or less than unqualified opin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comparison to historical repor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stance from agenc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rce of GAAP Active Project Statu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rvey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orkgrou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ntative Decisio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entities required to convert to  FASAB at this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FR can include two 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governmental elimin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can I stay informed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isi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ww.fasab.gov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27432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gn up for FASAB listser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3657600"/>
            <a:ext cx="685800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ad bi-monthly FASAB newsletter and active project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54864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tend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Question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5120" y="533412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ww.fasab.gov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3276720"/>
            <a:ext cx="198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lissa Lough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ssistant Dir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2.512.59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loughanm@fasab.g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Federal Ent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81680" y="1752480"/>
            <a:ext cx="2133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Wendy Pay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xecutive Dir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2.512.73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paynew@fasab.g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4952880"/>
            <a:ext cx="2286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ulia Ranag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ssistant Dir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2.512.73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ranaganj@fasab.g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Source of GAA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laimer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iews expressed are those of the speakers. The Board expresses its views in official publication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is FASAB’s role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209680"/>
            <a:ext cx="6172200" cy="228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2666880"/>
            <a:ext cx="1600200" cy="1295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46483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2743200"/>
            <a:ext cx="137160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4800600"/>
            <a:ext cx="1371600" cy="121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S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2666880"/>
            <a:ext cx="16002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5334120"/>
            <a:ext cx="16002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90920" y="2209680"/>
            <a:ext cx="6172200" cy="2362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is FASAB’s role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2666880"/>
            <a:ext cx="1600200" cy="1295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2743200"/>
            <a:ext cx="137160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1905120"/>
            <a:ext cx="25909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A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4800600"/>
            <a:ext cx="5715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enerally Accep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ounting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2666880"/>
            <a:ext cx="16002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2666880"/>
            <a:ext cx="16002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2666880"/>
            <a:ext cx="1600200" cy="1295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2743200"/>
            <a:ext cx="1371600" cy="121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S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is the Federal Entity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fined in SFFAC 2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ve criter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ative cri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visit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able or unique ent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stency, completeness, and accoun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 weak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is the Federal Entity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bjectives of entity proj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rify bounda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alleng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iculty in defining bounda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of “contro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ing view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o’s In and Who’s Out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38280" y="2362320"/>
          <a:ext cx="6400800" cy="3581280"/>
        </p:xfrm>
        <a:graphic>
          <a:graphicData uri="http://schemas.openxmlformats.org/drawingml/2006/table">
            <a:tbl>
              <a:tblPr/>
              <a:tblGrid>
                <a:gridCol w="3124080"/>
                <a:gridCol w="32767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cluded in CF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cluded from CF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ederal Entity Active Project Statu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sk Forc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rvey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FRD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rce of GAAP Background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ICPA Rule 203 Statu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urrent practic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visiting newsletter guidanc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stency, completeness, and accountabilit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olidation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6:33:06Z</dcterms:created>
  <dc:creator>GAO</dc:creator>
  <dc:description/>
  <dc:language>en-US</dc:language>
  <cp:lastModifiedBy>GAO</cp:lastModifiedBy>
  <dcterms:modified xsi:type="dcterms:W3CDTF">2011-04-18T17:30:15Z</dcterms:modified>
  <cp:revision>173</cp:revision>
  <dc:subject/>
  <dc:title>Presentation  April 1, 2004</dc:title>
</cp:coreProperties>
</file>