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D9D-F07A-4CCE-9540-AB49304EB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8087-E27C-48E7-B7F5-C3F9B2FB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0F77-35E4-4165-9B71-43B96A5B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FDF5-7393-4D3B-937C-49F5739E4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098A-E095-440F-A498-09BA63562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AF74-A663-48B7-9942-B4009046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4B9B-C3AC-45D1-A68B-C9BFEA99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245B-9B30-4C8D-BB99-98B63D7B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6858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F583-0CC6-49AD-A43B-18A36F74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828E-9D97-43FB-B74B-C68B7CDD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B818-2094-4393-9D13-C68C2622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8E91-A939-4CE8-A17E-A3BF5606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116C-02B9-4779-BECE-56B60C508E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7086600" y="1522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Federal Accountin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ndards Advisory Boar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133360" y="1752120"/>
            <a:ext cx="7010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What Is the Federal Entity and Shouldn’t We All Use the Same GAAP?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ICPA National Governmental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ounting and Auditing Upd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gust 18, 2008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ples of Current Pract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514600" y="1981080"/>
          <a:ext cx="6324120" cy="4114440"/>
        </p:xfrm>
        <a:graphic>
          <a:graphicData uri="http://schemas.openxmlformats.org/drawingml/2006/table">
            <a:tbl>
              <a:tblPr/>
              <a:tblGrid>
                <a:gridCol w="2015280"/>
                <a:gridCol w="2154600"/>
                <a:gridCol w="215424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SA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FASB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ther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1981080" y="624852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* GASB or some mixture of the three sources of GAA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0" y="190512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two sets of inform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oid year-end manual proce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to conve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s passed on to us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ability to sector (e.g., utilit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S differ from SEC submi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ceived benefit only at CFR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s/Cons of Conversion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ns (contd.)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rect impact on legislative and judicial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tial for OCBOA or less than unqualified opin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s of comparison to historical repor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istance from agenc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of GAAP Active Project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0" y="1828440"/>
            <a:ext cx="6858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rve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rkgroup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ntative Decis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entities required to convert to  FASAB at this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R can include two 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governmental elimin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How can I stay informed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76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si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ww.fasab.gov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"/>
          <p:cNvSpPr/>
          <p:nvPr/>
        </p:nvSpPr>
        <p:spPr>
          <a:xfrm>
            <a:off x="2286000" y="274320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ign up for FASAB listser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0" y="3657600"/>
            <a:ext cx="6858000" cy="11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bi-monthly FASAB newsletter and active project p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0" y="548640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ttend 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Questions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5334120"/>
            <a:ext cx="6248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ww.fasab.gov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3276720"/>
            <a:ext cx="1981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Melissa Lough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59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loughanm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Federal Ent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781680" y="1752480"/>
            <a:ext cx="2133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Wendy Pay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Executive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73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paynew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495288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Julia Ranag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ssistant Dir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202.512.73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ranaganj@fasab.go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(Source of GAA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isclaimer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Views expressed are those of the speakers. The Board expresses its views in official publica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FASAB’s rol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"/>
          <p:cNvSpPr/>
          <p:nvPr/>
        </p:nvSpPr>
        <p:spPr>
          <a:xfrm>
            <a:off x="2590920" y="2209680"/>
            <a:ext cx="6172200" cy="2286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4648320"/>
            <a:ext cx="160020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4800600"/>
            <a:ext cx="1371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2666880"/>
            <a:ext cx="1600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76920" y="5334120"/>
            <a:ext cx="16002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90920" y="2209680"/>
            <a:ext cx="6172200" cy="236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FASAB’s rol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1905120"/>
            <a:ext cx="2590920" cy="533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GA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71800" y="4800600"/>
            <a:ext cx="5715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enerally Accep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ccounting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666880"/>
            <a:ext cx="1600200" cy="13716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2666880"/>
            <a:ext cx="1600200" cy="1371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2666880"/>
            <a:ext cx="1600200" cy="129564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A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934320" y="2743200"/>
            <a:ext cx="1371600" cy="12193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S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Federal Entity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fined in SFFAC 2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ve criter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icative crite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siting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ionable or unique entit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terial weakn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the Federal Entity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bjectives of entity proj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arify bound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guid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alleng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iculty in defining bounda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“contro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ering view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is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o’s In and Who’s Out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38280" y="2362320"/>
          <a:ext cx="6400800" cy="3581280"/>
        </p:xfrm>
        <a:graphic>
          <a:graphicData uri="http://schemas.openxmlformats.org/drawingml/2006/table">
            <a:tbl>
              <a:tblPr/>
              <a:tblGrid>
                <a:gridCol w="3124080"/>
                <a:gridCol w="327672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cluded in CF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cluded from CFR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ederal Entity Active Project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sk For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urvey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F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FRD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ource of GAAP Background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ICPA Rule 203 Statu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urrent practi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siting newsletter guidanc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stency, completeness, and accountabil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olidation iss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0:15Z</dcterms:modified>
  <cp:revision>173</cp:revision>
  <dc:subject/>
  <dc:title>Presentation  April 1, 2004</dc:title>
</cp:coreProperties>
</file>