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9F8-88FC-4A5B-BFEF-1F195A34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99B-BB5C-4D90-875D-AFF08AE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EA8-88CE-4E4F-BC34-865DAF70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BAF-E88F-412A-949B-2999CF4F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B4B-26FC-412C-B043-1E13575C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176-4CFC-43F4-A96A-2FF01DFE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93A-6751-45D9-944C-34D2CD0B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565-2119-4330-A85E-DAAB762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4572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EC6-BEC7-48E3-932F-C5367416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5DD-12AF-4AEB-928F-32E288E7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97F-2A7F-4F28-B6F1-DDB7895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6F6-C356-4706-BF4F-C8D900F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8400" cy="511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2920" y="128520"/>
            <a:ext cx="1904760" cy="13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D2E-AF4B-411E-8B02-C2DD6C66B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ederal Accounting Standards Advisory Boa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971440" y="19810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SAB Updat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7 PCIE / GAO Financial Statement Audit Roundt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bruary 28, 2007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ndy Comes, CGFM, CP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ews expressed are those of the speaker. The Board expresses its views in official publication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Activity – Stand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d in FY 2005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er-entity costing (FY 2009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ewardship Land and Heritage Assets (FY 2009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armarked Funds (FY 2006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d in FY 2006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duciary Activities (FY 2009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olidated Financial Report Requirements (FY 2006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chnical Bulletin on Asbestos-Related Cleanup Cost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 Review –interpretation regarding remanufactured as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t Requests for Com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of Accrual-Basis Financial Stat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counting for Social Insurance, Preliminary View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APC – Clarifying Accounting for Space Exploration Equip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 to Be Expo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osure Drafts currently in progress: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tural Resources (Oil and Gas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APC – Inter-entity Cos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APC – Stewardship Land and Heritage As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AB On-Line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ww.fasab.gov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exposure drafts and final pronouncemen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ctronic mailing list for updates including newsletter and requests for com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project pages including briefing material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30:57Z</dcterms:modified>
  <cp:revision>43</cp:revision>
  <dc:subject/>
  <dc:title>Presentation  April 1, 2004</dc:title>
</cp:coreProperties>
</file>