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E372-D2BC-48F6-9C72-36432AFA2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86B2-5265-428B-9560-53397587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F445-A816-4EEA-862B-FF9126B7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A35-9EC2-4750-965B-4A386925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3613-5E1F-4A3C-B8D9-6D695543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3050-D4DD-41A2-A86A-1891A13DF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4941-9014-4394-A9C8-BD7702A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3BC-C8A2-49FB-B9C3-5E245DD7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4572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1D7-7398-4F9A-8CB8-5DF4C3E9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81C7-D300-478A-AEA2-E6FF1838A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22E-8039-4563-9AE6-A039A5CD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DF47-0CF4-463F-ABE1-36EC5134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8400" cy="511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2920" y="128520"/>
            <a:ext cx="1904760" cy="13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1845-6D21-4DDF-9D4A-C013B83607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ederal Accounting Standards Advisory Boar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971440" y="19810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FASAB Update</a:t>
            </a:r>
            <a:endParaRPr b="1" lang="en-US" sz="60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2007 PCIE / GAO Financial Statement Audit Roundt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ebruary 28, 2007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ndy Comes, CGFM, CP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ews expressed are those of the speaker. The Board expresses its views in official publication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Activity – Standard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d in FY 2005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ter-entity costing (FY 2009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ewardship Land and Heritage Assets (FY 2009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Earmarked Funds (FY 2006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mpleted in FY 2006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duciary Activities (FY 2009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solidated Financial Report Requirements (FY 2006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echnical Bulletin on Asbestos-Related Cleanup Cost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nder Review –interpretation regarding remanufactured as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cent Requests for Com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of Accrual-Basis Financial Stat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ccounting for Social Insurance, Preliminary View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APC – Clarifying Accounting for Space Exploration Equip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on to Be Expose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xposure Drafts currently in progress: 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tural Resources (Oil and Gas)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APC – Inter-entity Cos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APC – Stewardship Land and Heritage Asse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AB On-Line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ww.fasab.gov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exposure drafts and final pronouncemen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ctronic mailing list for updates including newsletter and requests for com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project pages including briefing material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30:57Z</dcterms:modified>
  <cp:revision>43</cp:revision>
  <dc:subject/>
  <dc:title>Presentation  April 1, 2004</dc:title>
</cp:coreProperties>
</file>