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621-4C5D-4499-A22C-081C9A0C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82B-AEA5-460B-A9E0-F524572D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A7E-AFF8-4A91-966F-5CE45AD6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47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231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47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231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5F8-15D1-439B-A9C6-E66B89B0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7A7-04FF-4B84-B5AD-B559F65B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8F7-D1F1-43E2-A622-CB792A49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3BF-BA3E-4858-B667-9929E2B3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796-7AF7-4166-A44D-178D9064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4572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B32-3BDB-4716-8C66-AB46BEF5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CA7-F6FD-4AC5-89D4-687D2637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98D-645A-42CE-8A87-A8867283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BCB-CDC6-4723-8EC1-33B8BDDA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8400" cy="5112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2920" y="128520"/>
            <a:ext cx="1904760" cy="13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904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85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2AFF-C41D-48C0-9882-08FA31557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AB – Vision for 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0" y="2819160"/>
            <a:ext cx="5867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ederal Accounting Standards Advisory Bo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vid Mosso, CP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m Allen, CP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orting Objectives - continu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 2 – Operating Perform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 3 – Stewardshi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 4 – Systems and Contro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 Paper on Objectives of Federal Financial Repor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ing the Board’s role and priorities in meeting the broad objectives of SFFAC 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ING AH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ining/Completing the Federal Reporting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clusion of all assets/liabilities and appropriately recording changes in them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eporting enti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porting beyond the traditional balance sheet and operating statemen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Repor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ment of Social Insur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stainability Reportin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ticulation of these Statements to traditional Balance Sheet and Operating Stateme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Outreach to Potential Federal Financial Report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crease due process feedback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SAB’s educational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r focus meeting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 Perception of FASAB’s Biggest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epende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etent staff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mitted Boar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ly strong agency suppor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AB On-Line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ww.fasab.gov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exposure drafts and final pronouncemen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ctronic mailing list for updates including newsletter and requests for com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 project pages including briefing material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ews expressed are those of the speaker. The Board expresses its views in official publication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of Major Proj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ptual Framework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m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 Insurance and Liabiliti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tural Resourc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duciary Activiti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45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ual Framework Phases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s and qualitative characteristic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ments and Recognition Criteri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nancial Reporting Model and Sustainability Reportin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ment Attribu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ti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Insur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majority of the Board tentatively agrees that an obligation exists prior to due and payable (40 quarters work in covered employment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sues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plementary Medical Insurance Elec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signing costs to period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eatment of changes in estima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gnizing oil and gas proved reserves at current valu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 in information on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antity of proved reserv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alue of proved reserv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yalty revenue and depletion of reserv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tensive disclosure and RSI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Accomplish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ndtable Meetings - Objectives of Federal Financial Rep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 1 – Budgetary Integri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6:33:06Z</dcterms:created>
  <dc:creator>GAO</dc:creator>
  <dc:description/>
  <dc:language>en-US</dc:language>
  <cp:lastModifiedBy>GAO</cp:lastModifiedBy>
  <dcterms:modified xsi:type="dcterms:W3CDTF">2011-04-18T17:31:10Z</dcterms:modified>
  <cp:revision>34</cp:revision>
  <dc:subject/>
  <dc:title>Presentation  April 1, 2004</dc:title>
</cp:coreProperties>
</file>