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D30D-FF44-4D06-839D-EF657E50C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5D5-98F8-435B-A220-56BBB550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A1E1-EBD9-4942-81E2-E2B8A8CF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47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23160" y="182880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47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23160" y="3978360"/>
            <a:ext cx="2207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A849-15E8-42E8-B060-4DB0BC03F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FEF9-D362-4928-A45A-1BCA854A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F9EA-3B93-4B30-B590-678C170B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3AD8-630F-4C6D-A71C-136C435E8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D66-CA49-40C0-A144-F446E48A3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4572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500C-E621-4872-827B-31ECD58B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DBFC-1746-441E-9940-1B843C43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800320" y="397836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A21D-95C2-43FE-8147-3A899E971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800320" y="1828800"/>
            <a:ext cx="33465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0" y="3978360"/>
            <a:ext cx="6858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168-B968-434B-A99C-09774F09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8400" cy="5112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2920" y="128520"/>
            <a:ext cx="1904760" cy="139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9047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8858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1028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CFCA-08BA-4764-97E4-B049590F1D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600200"/>
            <a:ext cx="9144000" cy="0"/>
          </a:xfrm>
          <a:prstGeom prst="line">
            <a:avLst/>
          </a:prstGeom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5791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AB – Vision for 20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0" y="28191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e Federal Accounting Standards Advisory Boar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vid Mosso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m Allen, CPA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orting Objectives - continu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2 – Operating Perform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3 – Stewardship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4 – Systems and Control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te Paper on Objectives of Federal Financial Reporting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Defining the Board’s role and priorities in meeting the broad objectives of SFFAC 1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ING AHE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fining/Completing the Federal Reporting Mod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clusion of all assets/liabilities and appropriately recording changes in them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reporting ent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porting beyond the traditional balance sheet and operating statemen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ditional Report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tatement of Social Insura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ustainability Reportin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rticulation of these Statements to traditional Balance Sheet and Operating Statement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anded Outreach to Potential Federal Financial Report Us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crease due process feedback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ASAB’s educational ro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ser focus meeting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y Perception of FASAB’s Biggest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ndependenc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itial Assess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petent staff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mmitted Board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Generally strong agency suppor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SAB On-Line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www.fasab.gov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ll exposure drafts and final pronouncement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ctronic mailing list for updates including newsletter and requests for comment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ctive project pages including briefing materials.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5562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0" y="2362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Views expressed are those of the speaker. The Board expresses its views in official publications.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of Major Projec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onceptual Framework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Objecti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lement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ocial Insurance and Liabilit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atural Resourc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duciary Activiti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457560" y="2282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ual Framework Phases 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s and qualitative characteristic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lements and Recognition Criteria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inancial Reporting Model and Sustainability Reporting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asurement Attribute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nt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Insuran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A majority of the Board tentatively agrees that an obligation exists prior to due and payable (40 quarters work in covered employment)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Issues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pplementary Medical Insurance Election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ssigning costs to period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683280" indent="-26280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reatment of changes in estimat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gnizing oil and gas proved reserves at current valu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sults in information on: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Quantity of proved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alue of proved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oyalty revenue and depletion of reserve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xtensive disclosure and RSI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Key Accomplishment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rategic Plan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ndtable Meetings - Objectives of Federal Financial Repor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0" y="182880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bjective 1 – Budgetary Integrity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1T16:33:06Z</dcterms:created>
  <dc:creator>GAO</dc:creator>
  <dc:description/>
  <dc:language>en-US</dc:language>
  <cp:lastModifiedBy>GAO</cp:lastModifiedBy>
  <dcterms:modified xsi:type="dcterms:W3CDTF">2011-04-18T17:31:10Z</dcterms:modified>
  <cp:revision>34</cp:revision>
  <dc:subject/>
  <dc:title>Presentation  April 1, 2004</dc:title>
</cp:coreProperties>
</file>