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6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0"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B6664B-8793-4C7F-9D77-42CDF10CB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96016F-11D6-40EC-8D4D-52AC90ECA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82600" y="6951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8428B2-59C6-4CBF-977F-A987D8553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718B98-AD2D-4D75-9DB0-F3F254E55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97D41F-E66A-41A0-A8D3-E8985E44F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50532C-EDFF-4689-B8C4-2ECE53F5D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299D2E-29D9-4680-9C4E-312632C14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82600" y="695160"/>
            <a:ext cx="4648320" cy="3486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5A949-59C9-428C-96CC-8DF00DF79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82600" y="6951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7B4BDA-A662-4AC9-95D8-AA251A797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7A1350-F7D7-449C-9A32-2E3118BE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450C8D-F6ED-4ACB-8A6C-935C67CCD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8A7E30-ABAA-41E0-84E3-04C2E5071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F79953-5100-44A6-9A86-31374F7CE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5BCF8-F127-4ABD-9DD7-C2E1E77AA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9CF6B-C789-41E6-A3EF-3CCA3D8004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7C536-B00D-47C7-A00C-BFCC34114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CAF2A-380F-404E-A7BE-BF8981AD8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586680-3E85-45D8-885F-7A242015D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AF39C-2ABC-4AC2-A973-D65BB6FFF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4BD7D-5C8D-45A6-B88C-97B7A2F36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64953-9CA4-4472-B49A-6CAC86EA2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46BF3-AE65-4B50-A1B6-9635D07D0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34BB64-7D59-4ECF-BFB8-808DF92749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9877B6-171A-4FC7-A800-E86747F9E4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6AFEE-2A1A-4E1E-B1F0-E4222782C2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891CC-9D8E-4D59-ACEA-9753AEB97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F247D-C97B-479B-BF54-7F7E76B38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BC72-9612-48E8-8176-32B490F066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36565-80D3-474C-8C6D-78BC49E9F3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8CE3AA-FAD3-4187-B06B-9BDCB6AFA6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29ABC468-DC00-45B8-B18B-DC6EE0542D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6D26C-EC5D-449D-9768-7883655440B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9057A5-BD3D-497E-AC7A-816E817B83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FD86A4-33B3-4BCB-AE3B-37260AAE1A8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587DB780-9BC0-4316-A7F0-5DF0A59F24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CE4435E-488E-45B9-B8F1-62A9F6E260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59B220-31CF-4997-B94A-D82F716326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DC1719-5E29-44BE-B63F-9D5CC0A4A0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40100F-5A56-45FC-97DD-12CEE9A987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447863-D15A-4902-90DA-9E28C5BE272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A60A149-EA60-428D-9B69-9802D89CE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111F68E-31B3-4838-A5F1-79912E8379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276A366-3D55-4659-B7F0-C9F24808F2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A30CE-539E-4A4D-809F-A7161AE7A6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EB881-B235-48B2-9851-2F8F6AAF9D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75015-E1B2-41B5-BE61-409E9129A6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729608-D3F7-4996-AEAF-071A0246A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DAD69-590C-4A70-BDEF-E1E8C61EE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CB167-93EC-4E48-90D0-3CBD6213DDD3}" type="slidenum">
              <a:t>&lt;#&gt;</a:t>
            </a:fld>
          </a:p>
        </p:txBody>
      </p:sp>
      <p:sp>
        <p:nvSpPr>
          <p:cNvPr id="6" name="PlaceHolder 5"/>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E7A9-159A-4F19-857B-4F213D661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08B8-6673-49FB-A633-C8996D880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8" descr="FASAB Blue Logo"/>
          <p:cNvPicPr/>
          <p:nvPr/>
        </p:nvPicPr>
        <p:blipFill>
          <a:blip r:embed="rId2"/>
          <a:stretch/>
        </p:blipFill>
        <p:spPr>
          <a:xfrm>
            <a:off x="152280" y="5791320"/>
            <a:ext cx="1219320" cy="8920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DAB0-832C-4B69-8E07-968766DC8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73"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volution After 20 Years</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Universit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19, 2012</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Year CFO Review</a:t>
            </a:r>
            <a:br>
              <a:rPr sz="3200"/>
            </a:br>
            <a:endParaRPr b="1" lang="en-US" sz="3200" spc="-1" strike="noStrike">
              <a:solidFill>
                <a:srgbClr val="000000"/>
              </a:solidFill>
              <a:latin typeface="Arial"/>
            </a:endParaRPr>
          </a:p>
        </p:txBody>
      </p:sp>
      <p:sp>
        <p:nvSpPr>
          <p:cNvPr id="391" name="PlaceHolder 2"/>
          <p:cNvSpPr>
            <a:spLocks noGrp="1"/>
          </p:cNvSpPr>
          <p:nvPr>
            <p:ph/>
          </p:nvPr>
        </p:nvSpPr>
        <p:spPr>
          <a:xfrm>
            <a:off x="457200" y="1676520"/>
            <a:ext cx="8305920" cy="44496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found the Act:</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39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Association of Government Accountants CFO survey results:</a:t>
            </a:r>
            <a:br>
              <a:rPr sz="4000"/>
            </a:br>
            <a:endParaRPr b="1" lang="en-US" sz="2800" spc="-1" strike="noStrike">
              <a:solidFill>
                <a:srgbClr val="000000"/>
              </a:solidFill>
              <a:latin typeface="Arial"/>
            </a:endParaRPr>
          </a:p>
        </p:txBody>
      </p:sp>
      <p:sp>
        <p:nvSpPr>
          <p:cNvPr id="394" name="PlaceHolder 2"/>
          <p:cNvSpPr>
            <a:spLocks noGrp="1"/>
          </p:cNvSpPr>
          <p:nvPr>
            <p:ph/>
          </p:nvPr>
        </p:nvSpPr>
        <p:spPr>
          <a:xfrm>
            <a:off x="457200" y="1523880"/>
            <a:ext cx="8305920" cy="46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5" name="Picture 4" descr=""/>
          <p:cNvPicPr/>
          <p:nvPr/>
        </p:nvPicPr>
        <p:blipFill>
          <a:blip r:embed="rId1"/>
          <a:stretch/>
        </p:blipFill>
        <p:spPr>
          <a:xfrm>
            <a:off x="457200" y="205740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inancial Statements</a:t>
            </a:r>
            <a:br>
              <a:rPr sz="4000"/>
            </a:br>
            <a:endParaRPr b="1" lang="en-US" sz="4000" spc="-1" strike="noStrike">
              <a:solidFill>
                <a:srgbClr val="000000"/>
              </a:solidFill>
              <a:latin typeface="Arial"/>
            </a:endParaRPr>
          </a:p>
        </p:txBody>
      </p:sp>
      <p:sp>
        <p:nvSpPr>
          <p:cNvPr id="397"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aditional” with some twis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Operations and Changes in Net Posi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iations of Net Operating Cost and Defic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Changes in Cash Balances from Deficit and Oth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Long-Term Fiscal Proje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ocial Insur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Changes in Social Insurance</a:t>
            </a:r>
            <a:endParaRPr b="0" lang="en-US" sz="2000" spc="-1" strike="noStrike">
              <a:solidFill>
                <a:srgbClr val="000000"/>
              </a:solidFill>
              <a:latin typeface="Arial"/>
            </a:endParaRPr>
          </a:p>
        </p:txBody>
      </p:sp>
      <p:pic>
        <p:nvPicPr>
          <p:cNvPr id="398"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stretch/>
        </p:blipFill>
        <p:spPr>
          <a:xfrm>
            <a:off x="1447920" y="0"/>
            <a:ext cx="7215120" cy="688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1709640" y="1500120"/>
            <a:ext cx="5724720" cy="38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1676520" y="1343160"/>
            <a:ext cx="5790960" cy="41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2057400" y="0"/>
            <a:ext cx="4632480" cy="684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S&amp;P Downgrade US Debt?</a:t>
            </a:r>
            <a:endParaRPr b="1" lang="en-US" sz="4400" spc="-1" strike="noStrike">
              <a:solidFill>
                <a:srgbClr val="000000"/>
              </a:solidFill>
              <a:latin typeface="Arial"/>
            </a:endParaRPr>
          </a:p>
        </p:txBody>
      </p:sp>
      <p:sp>
        <p:nvSpPr>
          <p:cNvPr id="40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wngrade reflects our opinion that the fiscal consolidation plan that Congress and the Administration recently agreed to falls short of what, in our view, would be necessary to stabilize the government's medium-term debt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roadly, the downgrade reflects our view that the effectiveness, stability, and predictability of American policymaking and political institutions have weakened at a time of ongoing fiscal and economic challenges to a degree more than we envisioned when we assigned a negative outlook to the rating on April 18, 20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n, we have </a:t>
            </a:r>
            <a:r>
              <a:rPr b="1" lang="en-US" sz="2000" spc="-1" strike="noStrike">
                <a:solidFill>
                  <a:srgbClr val="000000"/>
                </a:solidFill>
                <a:latin typeface="Arial"/>
              </a:rPr>
              <a:t>changed our view of the difficulties in bridging the gulf between the political parties over fiscal policy</a:t>
            </a:r>
            <a:r>
              <a:rPr b="0" lang="en-US" sz="2000" spc="-1" strike="noStrike">
                <a:solidFill>
                  <a:srgbClr val="000000"/>
                </a:solidFill>
                <a:latin typeface="Arial"/>
              </a:rPr>
              <a:t>, which makes us pessimistic about the capacity of Congress and the Administration to be able to leverage their agreement this week into </a:t>
            </a:r>
            <a:r>
              <a:rPr b="1" lang="en-US" sz="2000" spc="-1" strike="noStrike">
                <a:solidFill>
                  <a:srgbClr val="000000"/>
                </a:solidFill>
                <a:latin typeface="Arial"/>
              </a:rPr>
              <a:t>a broader fiscal consolidation plan that stabilizes the government's debt dynamics any time so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408"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410"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412"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41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416"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417"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419" name="PlaceHolder 2"/>
          <p:cNvSpPr>
            <a:spLocks noGrp="1"/>
          </p:cNvSpPr>
          <p:nvPr>
            <p:ph/>
          </p:nvPr>
        </p:nvSpPr>
        <p:spPr>
          <a:xfrm>
            <a:off x="609480" y="1600200"/>
            <a:ext cx="8229600" cy="403848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0400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gram performance, cost, assets, liabilities</a:t>
            </a:r>
            <a:endParaRPr b="0" lang="en-US" sz="16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ocus group results:</a:t>
            </a:r>
            <a:endParaRPr b="0" lang="en-US" sz="20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age report</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reporting</a:t>
            </a:r>
            <a:endParaRPr b="0" lang="en-US" sz="1600" spc="-1" strike="noStrike">
              <a:solidFill>
                <a:srgbClr val="000000"/>
              </a:solidFill>
              <a:latin typeface="Arial"/>
            </a:endParaRPr>
          </a:p>
          <a:p>
            <a:pPr lvl="2" marL="10400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0"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23"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repeatCount="1000">
                                  <p:stCondLst>
                                    <p:cond delay="0"/>
                                  </p:stCondLst>
                                  <p:childTnLst>
                                    <p:set>
                                      <p:cBhvr>
                                        <p:cTn id="100" dur="1" fill="hold">
                                          <p:stCondLst>
                                            <p:cond delay="0"/>
                                          </p:stCondLst>
                                        </p:cTn>
                                        <p:tgtEl>
                                          <p:spTgt spid="425">
                                            <p:txEl>
                                              <p:pRg st="2" end="2"/>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425">
                                            <p:txEl>
                                              <p:pRg st="3" end="3"/>
                                            </p:txEl>
                                          </p:spTgt>
                                        </p:tgtEl>
                                        <p:attrNameLst>
                                          <p:attrName>style.visibility</p:attrName>
                                        </p:attrNameLst>
                                      </p:cBhvr>
                                      <p:to>
                                        <p:strVal val="visible"/>
                                      </p:to>
                                    </p:set>
                                  </p:childTnLst>
                                </p:cTn>
                              </p:par>
                              <p:par>
                                <p:cTn id="103" nodeType="withEffect" fill="hold" presetClass="entr" presetID="1" repeatCount="1000">
                                  <p:stCondLst>
                                    <p:cond delay="0"/>
                                  </p:stCondLst>
                                  <p:childTnLst>
                                    <p:set>
                                      <p:cBhvr>
                                        <p:cTn id="104" dur="1" fill="hold">
                                          <p:stCondLst>
                                            <p:cond delay="0"/>
                                          </p:stCondLst>
                                        </p:cTn>
                                        <p:tgtEl>
                                          <p:spTgt spid="425">
                                            <p:txEl>
                                              <p:pRg st="4" end="4"/>
                                            </p:txEl>
                                          </p:spTgt>
                                        </p:tgtEl>
                                        <p:attrNameLst>
                                          <p:attrName>style.visibility</p:attrName>
                                        </p:attrNameLst>
                                      </p:cBhvr>
                                      <p:to>
                                        <p:strVal val="visible"/>
                                      </p:to>
                                    </p:set>
                                  </p:childTnLst>
                                </p:cTn>
                              </p:par>
                              <p:par>
                                <p:cTn id="105" nodeType="withEffect" fill="hold" presetClass="entr" presetID="1" repeatCount="1000">
                                  <p:stCondLst>
                                    <p:cond delay="0"/>
                                  </p:stCondLst>
                                  <p:childTnLst>
                                    <p:set>
                                      <p:cBhvr>
                                        <p:cTn id="106" dur="1" fill="hold">
                                          <p:stCondLst>
                                            <p:cond delay="0"/>
                                          </p:stCondLst>
                                        </p:cTn>
                                        <p:tgtEl>
                                          <p:spTgt spid="425">
                                            <p:txEl>
                                              <p:pRg st="5" end="5"/>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77"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79"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79">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79">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9">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7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79">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79">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81"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81">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81">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81">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81">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83"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85"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87"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89"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2-03-20T18:31:24Z</dcterms:modified>
  <cp:revision>1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7773984</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