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5642D0-31C8-40F6-A6F8-FAD0B53CD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dividuals appeared to seek data from a variety of perspectives, i.e. a Congressional staff member may seek data by function while another staff member may seek the data by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01E621-7E64-4003-823D-D689A7E56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5958FB9-8F4C-4B2B-8AB2-BAA59129E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ed OECD Governments about their agencies.  OECD membership includes 34 countries including the U.S.  10 countries respon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agency financial statements prepared and, if so, are the financial statements: (1) prepared in conformity with a set of standards; and (2) audi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financial statements are prepared by agencies and how of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primary users of the agency financial stat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, how are the agency statements u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key metrics, comparisons, and trends that the agency statements are intended to prov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1EE94F-660E-4BEB-BCE7-260CA4C40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52971F-33CE-459D-B748-25C9D01EA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EC1D1E-59A9-4E8E-BAAC-9EF5AA740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9B81DD-8E17-4611-B24A-9289703F8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8AF014-820B-4066-ADB9-89D871802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8301-6E30-41F6-B8D7-4490C90D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6CEC-EEDC-4946-A115-70F4C6BE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576A-DEF7-492E-AA86-496D140B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9076-179A-403D-9AD8-BF190C6B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D451-8E59-4E27-8CA1-D8DA6DAB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D99A-E484-4F01-A28A-B38C5787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8819-BEBF-4CD6-A403-C865CCAA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6FB1-6D87-4AC4-A808-99A369B7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1039-5F69-4DE1-B6A8-5DAB014E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B1AA-D0B1-449E-AD56-D0E19A49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6E88-8040-4372-9C6B-09D7F774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4A47-4850-4122-80F8-DCE71D56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2A88-2011-4BA5-8D28-0E659E3AC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fasab@fasab.gov" TargetMode="External"/><Relationship Id="rId2" Type="http://schemas.openxmlformats.org/officeDocument/2006/relationships/hyperlink" Target="http://www.fasab.gov/" TargetMode="External"/><Relationship Id="rId3" Type="http://schemas.openxmlformats.org/officeDocument/2006/relationships/hyperlink" Target="mailto:paynew@fasab.gov" TargetMode="External"/><Relationship Id="rId4" Type="http://schemas.openxmlformats.org/officeDocument/2006/relationships/image" Target="../media/image1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. S. Federal Accounting Standards Advisory Boar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Up with the Reporting Mod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ndy Payne, Executive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FASAB Blue Logo"/>
          <p:cNvPicPr/>
          <p:nvPr/>
        </p:nvPicPr>
        <p:blipFill>
          <a:blip r:embed="rId1"/>
          <a:stretch/>
        </p:blipFill>
        <p:spPr>
          <a:xfrm>
            <a:off x="7010280" y="228600"/>
            <a:ext cx="190512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r Research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nts sought information that tends to be particular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financial information was a conc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alized sour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obtain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FASAB Blue Logo"/>
          <p:cNvPicPr/>
          <p:nvPr/>
        </p:nvPicPr>
        <p:blipFill>
          <a:blip r:embed="rId1"/>
          <a:stretch/>
        </p:blipFill>
        <p:spPr>
          <a:xfrm>
            <a:off x="7772400" y="5791320"/>
            <a:ext cx="121932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r Research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izens do no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s and agencies. They think ab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l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land secu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ght by all use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nts (internal and external) were general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financia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FASAB Blue Logo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rvey of Sovereign Government Agen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rual do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had metrics around trends, maintenance of capital, and costs/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noted lack of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accrual in budgeting increased use of inf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FASAB Blue Logo"/>
          <p:cNvPicPr/>
          <p:nvPr/>
        </p:nvPicPr>
        <p:blipFill>
          <a:blip r:embed="rId1"/>
          <a:stretch/>
        </p:blipFill>
        <p:spPr>
          <a:xfrm>
            <a:off x="7924680" y="5715000"/>
            <a:ext cx="121932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Driving Fo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some point quantity has a quality all its own…”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ator Susan Collins of M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FASAB Blue Logo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Driving Fo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formation] will just be in the places you go in any place on any device…”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ven VanRoe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Chief Information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Execu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FASAB Blue Logo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57700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orting Model – 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s FASAB is St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f net c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ary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FASAB Blue Logo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104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 and Websit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nquiries can be directed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asab@fasab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202 512-7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SAB.go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se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ure Dra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ndy Pa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aynew@fasab.g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 202 512-25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FASAB Blue Logo"/>
          <p:cNvPicPr/>
          <p:nvPr/>
        </p:nvPicPr>
        <p:blipFill>
          <a:blip r:embed="rId4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108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5"/>
          <a:stretch/>
        </p:blipFill>
        <p:spPr>
          <a:xfrm>
            <a:off x="7162920" y="3733920"/>
            <a:ext cx="10094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laim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expressed are those of the speaker. The Board expresses its views in official pub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FASAB Blue Logo"/>
          <p:cNvPicPr/>
          <p:nvPr/>
        </p:nvPicPr>
        <p:blipFill>
          <a:blip r:embed="rId1"/>
          <a:stretch/>
        </p:blipFill>
        <p:spPr>
          <a:xfrm>
            <a:off x="6705720" y="518148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s” versus “Report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ing Fo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Needs Research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riving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ASAB Blue Logo"/>
          <p:cNvPicPr/>
          <p:nvPr/>
        </p:nvPicPr>
        <p:blipFill>
          <a:blip r:embed="rId1"/>
          <a:stretch/>
        </p:blipFill>
        <p:spPr>
          <a:xfrm>
            <a:off x="6934320" y="525780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ds Matt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s” versus “Report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FASAB Blue Logo"/>
          <p:cNvPicPr/>
          <p:nvPr/>
        </p:nvPicPr>
        <p:blipFill>
          <a:blip r:embed="rId1"/>
          <a:stretch/>
        </p:blipFill>
        <p:spPr>
          <a:xfrm>
            <a:off x="6934320" y="525780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iving Forces for Inform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ublic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wide public sector movement spanning several dec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ution to ‘Performance Governance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ing measu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us on reporting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us on use of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 for access to customizabl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c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FASAB Blue Logo"/>
          <p:cNvPicPr/>
          <p:nvPr/>
        </p:nvPicPr>
        <p:blipFill>
          <a:blip r:embed="rId1"/>
          <a:stretch/>
        </p:blipFill>
        <p:spPr>
          <a:xfrm>
            <a:off x="7772400" y="5791320"/>
            <a:ext cx="1219320" cy="892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Documents and Settings\paynew\Local Settings\Temporary Internet Files\Content.IE5\YGFS2631\MC900215480[1].wmf"/>
          <p:cNvPicPr/>
          <p:nvPr/>
        </p:nvPicPr>
        <p:blipFill>
          <a:blip r:embed="rId2"/>
          <a:stretch/>
        </p:blipFill>
        <p:spPr>
          <a:xfrm>
            <a:off x="3581280" y="4737240"/>
            <a:ext cx="175284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Are Not Alone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Reporting World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work to address finance, governance, social and environmental performance with concise but comprehensive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-term consequences of deci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connections between environmental, social, governance, and financial to make clear the link between sustainability and economic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ramework for environmental and social factors to be taken systematically into account in reporting and decision-ma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balance performance metrics away from undue emphasis on short-term financ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ng reporting closer to the info used by management to run the business on a day-to-day ba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FASAB Blue Logo"/>
          <p:cNvPicPr/>
          <p:nvPr/>
        </p:nvPicPr>
        <p:blipFill>
          <a:blip r:embed="rId1"/>
          <a:stretch/>
        </p:blipFill>
        <p:spPr>
          <a:xfrm>
            <a:off x="7772400" y="5791320"/>
            <a:ext cx="121932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 for Integration in the Public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work to reveal long-term budget, cost, and non-financial performance with concise b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 consequences of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nections between public policy, public good, and financial  information to make clear the link between resource allocation/demand/need and economic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ramework for performance and cost factors to be taken systematically into account in reporting and decision-m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balance performance metrics away from undue emphasis on short-term financial and non-financi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g reporting closer to the info needed by management to run the government on a day-to-day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FASAB Blue Logo"/>
          <p:cNvPicPr/>
          <p:nvPr/>
        </p:nvPicPr>
        <p:blipFill>
          <a:blip r:embed="rId1"/>
          <a:stretch/>
        </p:blipFill>
        <p:spPr>
          <a:xfrm>
            <a:off x="7924680" y="228600"/>
            <a:ext cx="1219320" cy="892080"/>
          </a:xfrm>
          <a:prstGeom prst="rect">
            <a:avLst/>
          </a:prstGeom>
          <a:ln w="0">
            <a:noFill/>
          </a:ln>
        </p:spPr>
      </p:pic>
      <p:pic>
        <p:nvPicPr>
          <p:cNvPr id="73" name="Diagram 5" descr=""/>
          <p:cNvPicPr/>
          <p:nvPr/>
        </p:nvPicPr>
        <p:blipFill>
          <a:blip r:embed="rId2"/>
          <a:stretch/>
        </p:blipFill>
        <p:spPr>
          <a:xfrm>
            <a:off x="6851520" y="1901880"/>
            <a:ext cx="17622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804960"/>
            <a:ext cx="8958240" cy="50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he Drivers Relate to FAS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ing objectiv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e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 user needs research conducted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rly 9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r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ist regarding the benefits of accrual basis financial statements relative to the cost of preparin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focus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financial statements, terminology, and methods used to communicate basic federal financial informatio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ing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FASAB Blue Logo"/>
          <p:cNvPicPr/>
          <p:nvPr/>
        </p:nvPicPr>
        <p:blipFill>
          <a:blip r:embed="rId1"/>
          <a:stretch/>
        </p:blipFill>
        <p:spPr>
          <a:xfrm>
            <a:off x="7924680" y="579132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78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5:25:45Z</dcterms:created>
  <dc:creator>Wendy Payne</dc:creator>
  <dc:description/>
  <dc:language>en-US</dc:language>
  <cp:lastModifiedBy>Wendy Payne</cp:lastModifiedBy>
  <dcterms:modified xsi:type="dcterms:W3CDTF">2012-05-04T20:22:03Z</dcterms:modified>
  <cp:revision>177</cp:revision>
  <dc:subject/>
  <dc:title>Changing World of the CFO: FASAB and the Future of GAAP </dc:title>
</cp:coreProperties>
</file>