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4471E5-1306-47F0-B2D0-F57AD122E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viduals appeared to seek data from a variety of perspectives, i.e. a Congressional staff member may seek data by function while another staff member may seek the data by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D2E8E0D-870A-438C-A6DC-A1CF6651E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1A1BC6E-2914-4753-852A-CD3122311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ed OECD Governments about their agencies.  OECD membership includes 34 countries including the U.S.  10 countries respon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ey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agency financial statements prepared and, if so, are the financial statements: (1) prepared in conformity with a set of standards; and (2) audi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financial statements are prepared by agencies and how of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are the primary users of the agency financial stat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general, how are the agency statements u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key metrics, comparisons, and trends that the agency statements are intended to provi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5FB8F7-584E-49FD-B1B7-8C350ACC9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4183767-CCE3-4443-AD01-599837837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E3E04C-4E78-4464-AE3B-AB21838A4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430BA4-8031-4D04-BB3E-E3BC6E6E0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1CF67C-6B91-45E6-AAC4-2EE6BACD9B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F9BB-C8B1-46B1-8256-455C5DBD7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EE41-5347-44E9-B961-BA65F12E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45F-1B0E-4C7B-85DF-9ECF01DD4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9B6B-6129-4194-9B04-55B4DDE67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87BF-3845-4F92-A219-41E92AEC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EC91-E0E0-4160-99FD-C10A4369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DB89-8A07-4EC9-8648-21ABD73A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E444-77B0-4E4D-A523-7DBF258B0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6D37-FA93-4AB9-AEAC-D669C32F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E18-0A2C-47F0-A883-81FEF957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EEE6-323B-46CD-A15A-D9931445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9233-B8DE-4B45-A13F-333E42FD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868A-CF0F-46F6-932D-0FAE27CA2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fasab@fasab.gov" TargetMode="External"/><Relationship Id="rId2" Type="http://schemas.openxmlformats.org/officeDocument/2006/relationships/hyperlink" Target="http://www.fasab.gov/" TargetMode="External"/><Relationship Id="rId3" Type="http://schemas.openxmlformats.org/officeDocument/2006/relationships/hyperlink" Target="mailto:paynew@fasab.gov" TargetMode="External"/><Relationship Id="rId4" Type="http://schemas.openxmlformats.org/officeDocument/2006/relationships/image" Target="../media/image1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. S. Federal Accounting Standards Advisory Boar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Up with the Reporting Mod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dy Payne, Executive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ASAB Blue Logo"/>
          <p:cNvPicPr/>
          <p:nvPr/>
        </p:nvPicPr>
        <p:blipFill>
          <a:blip r:embed="rId1"/>
          <a:stretch/>
        </p:blipFill>
        <p:spPr>
          <a:xfrm>
            <a:off x="7010280" y="228600"/>
            <a:ext cx="190512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r Research Result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s sought information that tends to be particular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ial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financial information was a conce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ntralized sour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obtain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FASAB Blue Logo"/>
          <p:cNvPicPr/>
          <p:nvPr/>
        </p:nvPicPr>
        <p:blipFill>
          <a:blip r:embed="rId1"/>
          <a:stretch/>
        </p:blipFill>
        <p:spPr>
          <a:xfrm>
            <a:off x="7772400" y="5791320"/>
            <a:ext cx="121932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er Research 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izens do no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ments and agencies. They think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l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meland secu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ght by all user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s (internal and external) were general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wa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financi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FASAB Blue Logo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rvey of Sovereign Government Agenc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rual do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had metrics around trends, maintenance of capital, and costs/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noted lack of exper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accrual in budgeting increased use of inf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FASAB Blue Logo"/>
          <p:cNvPicPr/>
          <p:nvPr/>
        </p:nvPicPr>
        <p:blipFill>
          <a:blip r:embed="rId1"/>
          <a:stretch/>
        </p:blipFill>
        <p:spPr>
          <a:xfrm>
            <a:off x="7924680" y="5715000"/>
            <a:ext cx="121932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Driving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some point quantity has a quality all its own…”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ator Susan Collins of M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FASAB Blue Logo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re Driving Fo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formation] will just be in the places you go in any place on any device…”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en VanRoek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 Chief Information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Execu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FASAB Blue Logo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85770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orting Model – 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s FASAB is Sta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f net co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ary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FASAB Blue Logo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104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and Websit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nquiries can be directed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asab@fasab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202 512-7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SAB.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ure D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ndy Pay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aynew@fasab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 202 512-25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FASAB Blue Logo"/>
          <p:cNvPicPr/>
          <p:nvPr/>
        </p:nvPicPr>
        <p:blipFill>
          <a:blip r:embed="rId4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108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5"/>
          <a:stretch/>
        </p:blipFill>
        <p:spPr>
          <a:xfrm>
            <a:off x="7162920" y="3733920"/>
            <a:ext cx="10094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laim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expressed are those of the speaker. The Board expresses its views in official pub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ASAB Blue Logo"/>
          <p:cNvPicPr/>
          <p:nvPr/>
        </p:nvPicPr>
        <p:blipFill>
          <a:blip r:embed="rId1"/>
          <a:stretch/>
        </p:blipFill>
        <p:spPr>
          <a:xfrm>
            <a:off x="6705720" y="518148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” versus “Report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ving For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Needs Research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riving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ASAB Blue Logo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ds Matt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s” versus “Reportin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ASAB Blue Logo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iving Forces for Inform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ublic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ldwide public sector movement spanning several dec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olution to ‘Performance Governance’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veloping measu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on reporting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on use of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and for access to customizabl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FASAB Blue Logo"/>
          <p:cNvPicPr/>
          <p:nvPr/>
        </p:nvPicPr>
        <p:blipFill>
          <a:blip r:embed="rId1"/>
          <a:stretch/>
        </p:blipFill>
        <p:spPr>
          <a:xfrm>
            <a:off x="7772400" y="5791320"/>
            <a:ext cx="1219320" cy="892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C:\Documents and Settings\paynew\Local Settings\Temporary Internet Files\Content.IE5\YGFS2631\MC900215480[1].wmf"/>
          <p:cNvPicPr/>
          <p:nvPr/>
        </p:nvPicPr>
        <p:blipFill>
          <a:blip r:embed="rId2"/>
          <a:stretch/>
        </p:blipFill>
        <p:spPr>
          <a:xfrm>
            <a:off x="3581280" y="4737240"/>
            <a:ext cx="1752840" cy="15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 Are Not Alone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Reporting Worldw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mework to address finance, governance, social and environmental performance with concise but comprehensive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ng-term consequences of deci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connections between environmental, social, governance, and financial to make clear the link between sustainability and economic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framework for environmental and social factors to be taken systematically into account in reporting and decision-ma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balance performance metrics away from undue emphasis on short-term financ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ing reporting closer to the info used by management to run the business on a day-to-day ba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FASAB Blue Logo"/>
          <p:cNvPicPr/>
          <p:nvPr/>
        </p:nvPicPr>
        <p:blipFill>
          <a:blip r:embed="rId1"/>
          <a:stretch/>
        </p:blipFill>
        <p:spPr>
          <a:xfrm>
            <a:off x="7772400" y="5791320"/>
            <a:ext cx="121932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 for Integration in the Public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5998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mework to reveal long-term budget, cost, and non-financial performance with concise b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 consequences of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ions between public policy, public good, and financial  information to make clear the link between resource allocation/demand/need and economic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ramework for performance and cost factors to be taken systematically into account in reporting and decision-m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balance performance metrics away from undue emphasis on short-term financial and non-financi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ing reporting closer to the info needed by management to run the government on a day-to-day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FASAB Blue Logo"/>
          <p:cNvPicPr/>
          <p:nvPr/>
        </p:nvPicPr>
        <p:blipFill>
          <a:blip r:embed="rId1"/>
          <a:stretch/>
        </p:blipFill>
        <p:spPr>
          <a:xfrm>
            <a:off x="7924680" y="228600"/>
            <a:ext cx="1219320" cy="892080"/>
          </a:xfrm>
          <a:prstGeom prst="rect">
            <a:avLst/>
          </a:prstGeom>
          <a:ln w="0">
            <a:noFill/>
          </a:ln>
        </p:spPr>
      </p:pic>
      <p:pic>
        <p:nvPicPr>
          <p:cNvPr id="73" name="Diagram 5" descr=""/>
          <p:cNvPicPr/>
          <p:nvPr/>
        </p:nvPicPr>
        <p:blipFill>
          <a:blip r:embed="rId2"/>
          <a:stretch/>
        </p:blipFill>
        <p:spPr>
          <a:xfrm>
            <a:off x="6851520" y="1901880"/>
            <a:ext cx="17622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804960"/>
            <a:ext cx="8958240" cy="50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he Drivers Relate to FAS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ing objectiv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user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 user needs research conducted in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ly 9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r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ist regarding the benefits of accrual basis financial statements relative to the cost of preparin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focus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financial statements, terminology, and methods used to communicate basic federal financial information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ing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FASAB Blue Logo"/>
          <p:cNvPicPr/>
          <p:nvPr/>
        </p:nvPicPr>
        <p:blipFill>
          <a:blip r:embed="rId1"/>
          <a:stretch/>
        </p:blipFill>
        <p:spPr>
          <a:xfrm>
            <a:off x="7924680" y="579132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78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5:25:45Z</dcterms:created>
  <dc:creator>Wendy Payne</dc:creator>
  <dc:description/>
  <dc:language>en-US</dc:language>
  <cp:lastModifiedBy>Wendy Payne</cp:lastModifiedBy>
  <dcterms:modified xsi:type="dcterms:W3CDTF">2012-05-04T20:22:03Z</dcterms:modified>
  <cp:revision>177</cp:revision>
  <dc:subject/>
  <dc:title>Changing World of the CFO: FASAB and the Future of GAAP </dc:title>
</cp:coreProperties>
</file>