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5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2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0" y="0"/>
            <a:ext cx="7010280" cy="923616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36160"/>
              <a:gd name="textAreaBottom" fmla="*/ 9235800 h 9236160"/>
            </a:gdLst>
            <a:ahLst/>
            <a:rect l="textAreaLeft" t="textAreaTop" r="textAreaRight" b="textAreaBottom"/>
            <a:pathLst>
              <a:path w="21600" h="28458">
                <a:moveTo>
                  <a:pt x="4" y="0"/>
                </a:moveTo>
                <a:arcTo wR="4" hR="4" stAng="16200000" swAng="-5400000"/>
                <a:lnTo>
                  <a:pt x="0" y="28454"/>
                </a:lnTo>
                <a:arcTo wR="4" hR="4" stAng="10800000" swAng="-5400000"/>
                <a:lnTo>
                  <a:pt x="21596" y="2845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0" y="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9"/>
          <p:cNvSpPr/>
          <p:nvPr/>
        </p:nvSpPr>
        <p:spPr>
          <a:xfrm>
            <a:off x="3971880" y="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7000" y="691920"/>
            <a:ext cx="4603680" cy="345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>
            <a:off x="0" y="877572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Num" idx="6"/>
          </p:nvPr>
        </p:nvSpPr>
        <p:spPr>
          <a:xfrm>
            <a:off x="397152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B48B65-A1B3-42BD-ACA4-02872B79B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12A734-3396-4FEA-B7E8-7981DA9B9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"/>
          <p:cNvSpPr/>
          <p:nvPr/>
        </p:nvSpPr>
        <p:spPr>
          <a:xfrm>
            <a:off x="3971880" y="8775720"/>
            <a:ext cx="3036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5E8AD-DF02-4410-BE7A-901E4F343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  <a:ea typeface="MS P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B1D54E-3F4D-4848-AA10-8D8140104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D74464-24AC-4F46-A73F-A538ECBD2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D874B8-921E-49F9-A273-B73AF4B13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97000" y="692280"/>
            <a:ext cx="4603680" cy="345276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151F8-A80D-428D-B0F1-9207041CE8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AA9BCB-3C6C-4140-A039-58B043A75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BB763D-AD6E-401A-9F01-0E0F277E1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0AA7C0-7C25-41C6-A4A6-3B5430370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39DF2-BEA0-4055-8E12-03BDAD70B6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6C49A-FAFC-4DCE-92F1-7EFD37AEC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ED564-918F-4141-94E3-AFE680F9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361D8-E154-4501-A447-984992608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30661-8CA5-4134-9FF2-10E874E56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BD315-B4A2-466B-86B1-A579AEFC2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A616C2-B574-4235-9F3A-01CAAB6C9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F52B2-6705-491E-9151-DDC7EAEEFE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39AC84-C705-4860-B704-71BAB364E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04F8CC-E6D4-4834-B27A-8BD4A4831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98440" y="693720"/>
            <a:ext cx="4600800" cy="345132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33480" y="4387680"/>
            <a:ext cx="5130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8A892-F724-4CB5-A9B7-8B87C3469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776D2-CD90-4587-99A9-B32090C15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C274C5-6F03-4043-89B8-A2FC70981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5AC00-8A15-4607-AF6D-EA1E3F9FF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AC6AC6-13A5-4699-8FED-E9225A8FA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120" y="4387680"/>
            <a:ext cx="5141880" cy="41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580F9-C5B8-4F75-A440-4D4AB919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3"/>
          <p:cNvSpPr/>
          <p:nvPr/>
        </p:nvSpPr>
        <p:spPr>
          <a:xfrm>
            <a:off x="3971880" y="8774280"/>
            <a:ext cx="30258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3AA765-8820-49A8-89A6-BED163E8D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95560" y="692280"/>
            <a:ext cx="4617720" cy="3465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120" y="4387320"/>
            <a:ext cx="513252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449B1-0DD8-4CC4-A51A-926FD8395F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80129-1311-47B9-8F7A-6E9E94543C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62560-E7B3-4473-AFA9-C7A9CEB3C6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520C0-CC7F-4FF2-A7ED-ABDEAC5CF6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33BF-BA2E-446D-B8F6-B11DF1CF201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75A44-A83C-427B-A842-A2D1667BB3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13D5B-D468-43D2-8E7F-631D200D18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01093-326B-4942-815E-7EF94DBCC4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0FDA-B54C-4B1F-88DA-3A7B98E6D3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5890C-7111-4022-B927-5221E904D67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23498-87CB-4582-B183-504B2BFD42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0A4F-0ED5-4381-AB85-C16BC611E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E74A8-EE40-42B7-85D4-15BED1E7AE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74D01-30B6-4703-837E-7BC7CDC5415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B31D-2929-4BE9-8166-25C22A9E66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85BE1-ADD3-4111-AE22-4B5059A0AF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8BB43-8DAE-4891-97F7-48A549DEC88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AE37E-2EB0-4D15-B468-9BDFA4A95A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07FB-B64E-47E0-B04A-D423C7A001D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4A2-0CD0-4645-82B8-3D4E38C5B2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70B3-F6E5-4E23-8E09-AA839D4579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D37-083F-455F-9DD1-050A8BE9A4C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7A8-A8CC-43CF-AF48-99B35777D86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B9F-3CB3-46B3-89D7-6A3E7619F71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EC5A-ECB9-454A-A292-8BBD2109D83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65B5-3943-4856-8B68-75F2B797CD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55D7-75F4-4F28-942B-E0DE892F011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2AA1-A40D-491E-B1C4-F4B19A1155B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1E95-6E22-45EE-B69C-85C96890A4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F7B-A092-405B-8402-9023FF06817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EB7-7963-4F5A-BAAD-38303F6826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659A9-D61B-42F4-89F8-219EDE9F0A9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5724-AFED-4E69-8471-EF1DB7B37F6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CA666-B8AA-43CC-8906-6E75EF85449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9BB91-3119-4911-B781-1455825941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A910B6-4358-4AF9-8B9F-7CD1AC700AF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2F060-C63A-4007-8812-5E8D733A136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585013-3FF6-45B0-9AC3-F42C76482BC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CA99AF-BFC3-414C-989A-A7028D5234B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2D2E1-5862-47AF-AA7E-04020DD6E80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20EDF-DC52-4F8B-AFA8-C72C076F5A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B8248-5218-4685-9FDB-F509D2F98D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D8A1E-6EFB-4C64-8E04-4B029D51F80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898FC-87DE-4266-9F48-C0576617D0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B2CFB-251A-46F2-A64C-3CE5A5BFBFF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F485D8-2378-4027-8D63-742333929BD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8FDA8-4E66-4B49-9AD3-1CB7A88F202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AC551D-079C-4E6C-AA9B-545A6DA02D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1DBB7-A089-4CE0-AAD0-AFC953904AD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CCA4DD-A6C2-4DA2-B7E7-715569DDD4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C6D2D-9926-49E4-B4EB-99940AA4847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33160" y="457200"/>
            <a:ext cx="677052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5CD59-18DE-4337-856A-2E37747C662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F4C03-38BD-4B1D-9CB1-E62A2E7544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9993-94B3-4AFB-8926-46DA78A54231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AB73E-DF77-4626-A1D7-68BEA60BC0A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56790-67B2-4604-87C1-A8594DFCFF30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5B9906-0B8D-42F7-BE9C-B69D3A7B4CE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002480" y="41245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C82FF-D2A9-4C37-8AC9-2BE9FB39BB5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282240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111640" y="19807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3316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282240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5111640" y="4124520"/>
            <a:ext cx="217980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D1927-F1CE-4ED0-BC3B-28BB201ABF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02480" y="1980720"/>
            <a:ext cx="33037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160" y="4124520"/>
            <a:ext cx="6770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2DE65-8C96-4C70-8830-EF927AC3A5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49720" y="6399360"/>
            <a:ext cx="7700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63C065-5F8D-41FC-A9FF-8A6FA3199DF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8763120" y="2286000"/>
            <a:ext cx="609480" cy="507960"/>
          </a:xfrm>
          <a:prstGeom prst="diamond">
            <a:avLst/>
          </a:prstGeom>
          <a:solidFill>
            <a:srgbClr val="3f669a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-685800" y="5283360"/>
            <a:ext cx="609480" cy="507960"/>
          </a:xfrm>
          <a:prstGeom prst="diamond">
            <a:avLst/>
          </a:prstGeom>
          <a:solidFill>
            <a:srgbClr val="3f669a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467120" y="6248160"/>
            <a:ext cx="979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12F776-10B5-417A-9F9D-AF2FA095E5D2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ce6f2"/>
              </a:gs>
              <a:gs pos="100000">
                <a:srgbClr val="ffffff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mbria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mbr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2"/>
          <a:srcRect l="897" t="710" r="-866" b="-682"/>
          <a:stretch/>
        </p:blipFill>
        <p:spPr>
          <a:xfrm>
            <a:off x="7945560" y="5516640"/>
            <a:ext cx="1163520" cy="127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" descr="F:\avc\avc-us\demos\images\AltaViaConsulting-Banner.jpg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7622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0" y="6537240"/>
            <a:ext cx="9144000" cy="121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3" descr="F:\avc\avc-us\demos\images\AltaViaConsulting-Footer.jpg"/>
          <p:cNvPicPr/>
          <p:nvPr/>
        </p:nvPicPr>
        <p:blipFill>
          <a:blip r:embed="rId4"/>
          <a:srcRect l="0" t="0" r="0" b="65969"/>
          <a:stretch/>
        </p:blipFill>
        <p:spPr>
          <a:xfrm>
            <a:off x="0" y="6237360"/>
            <a:ext cx="9144000" cy="600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0" y="1628640"/>
            <a:ext cx="91440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3"/>
          </p:nvPr>
        </p:nvSpPr>
        <p:spPr>
          <a:xfrm>
            <a:off x="6849720" y="6400800"/>
            <a:ext cx="770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F197D-0617-482F-8335-AE78D1E25B0C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4"/>
          </p:nvPr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335C5F-5760-41F0-8A44-8BEEB5F3119B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4"/>
          <p:cNvSpPr/>
          <p:nvPr/>
        </p:nvSpPr>
        <p:spPr>
          <a:xfrm>
            <a:off x="533520" y="6248520"/>
            <a:ext cx="19047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666880" y="6248520"/>
            <a:ext cx="28958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2"/>
          <a:stretch/>
        </p:blipFill>
        <p:spPr>
          <a:xfrm>
            <a:off x="7507440" y="0"/>
            <a:ext cx="1672920" cy="686592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9"/>
          <p:cNvSpPr/>
          <p:nvPr/>
        </p:nvSpPr>
        <p:spPr>
          <a:xfrm>
            <a:off x="2287440" y="6568920"/>
            <a:ext cx="396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a Via Consulting All Rights Reserv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677052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533160" y="198072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5"/>
          </p:nvPr>
        </p:nvSpPr>
        <p:spPr>
          <a:xfrm>
            <a:off x="6773400" y="6399360"/>
            <a:ext cx="8463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3C08E-478C-40B1-A8C2-9B714EBDED88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1"/>
          <p:cNvSpPr/>
          <p:nvPr/>
        </p:nvSpPr>
        <p:spPr>
          <a:xfrm>
            <a:off x="1276200" y="1716120"/>
            <a:ext cx="664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A: Conceptual Framework for Managerial Co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"/>
          <p:cNvSpPr/>
          <p:nvPr/>
        </p:nvSpPr>
        <p:spPr>
          <a:xfrm>
            <a:off x="1276200" y="4325760"/>
            <a:ext cx="66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esday, April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20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8" name="Picture 2" descr="F:\avc\avc-us\demos\images\AltaViaConsulting-Banner.jpg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17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533520" y="4932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4" descr="brain"/>
          <p:cNvPicPr/>
          <p:nvPr/>
        </p:nvPicPr>
        <p:blipFill>
          <a:blip r:embed="rId1"/>
          <a:stretch/>
        </p:blipFill>
        <p:spPr>
          <a:xfrm>
            <a:off x="5627520" y="762120"/>
            <a:ext cx="1382760" cy="119052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3"/>
          <p:cNvSpPr/>
          <p:nvPr/>
        </p:nvSpPr>
        <p:spPr>
          <a:xfrm>
            <a:off x="378000" y="1859040"/>
            <a:ext cx="7318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345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a given outcome – Understand the caus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2000" indent="-3459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10" descr="nonprofit"/>
          <p:cNvPicPr/>
          <p:nvPr/>
        </p:nvPicPr>
        <p:blipFill>
          <a:blip r:embed="rId2"/>
          <a:stretch/>
        </p:blipFill>
        <p:spPr>
          <a:xfrm>
            <a:off x="5224320" y="4764240"/>
            <a:ext cx="871560" cy="871560"/>
          </a:xfrm>
          <a:prstGeom prst="rect">
            <a:avLst/>
          </a:prstGeom>
          <a:ln w="0">
            <a:noFill/>
          </a:ln>
        </p:spPr>
      </p:pic>
      <p:sp>
        <p:nvSpPr>
          <p:cNvPr id="370" name="AutoShape 11"/>
          <p:cNvSpPr/>
          <p:nvPr/>
        </p:nvSpPr>
        <p:spPr>
          <a:xfrm flipH="1">
            <a:off x="1848600" y="4417920"/>
            <a:ext cx="3341880" cy="230400"/>
          </a:xfrm>
          <a:custGeom>
            <a:avLst/>
            <a:gdLst>
              <a:gd name="textAreaLeft" fmla="*/ -360 w 3341880"/>
              <a:gd name="textAreaRight" fmla="*/ 3341880 w 334188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440" y="0"/>
                </a:lnTo>
                <a:lnTo>
                  <a:pt x="21600" y="10800"/>
                </a:lnTo>
                <a:lnTo>
                  <a:pt x="204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7ff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Line 12"/>
          <p:cNvSpPr/>
          <p:nvPr/>
        </p:nvSpPr>
        <p:spPr>
          <a:xfrm flipH="1">
            <a:off x="1887120" y="4532400"/>
            <a:ext cx="330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13" descr="moneybag_dollar"/>
          <p:cNvPicPr/>
          <p:nvPr/>
        </p:nvPicPr>
        <p:blipFill>
          <a:blip r:embed="rId3"/>
          <a:stretch/>
        </p:blipFill>
        <p:spPr>
          <a:xfrm>
            <a:off x="5292720" y="330840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gears_run"/>
          <p:cNvPicPr/>
          <p:nvPr/>
        </p:nvPicPr>
        <p:blipFill>
          <a:blip r:embed="rId4"/>
          <a:stretch/>
        </p:blipFill>
        <p:spPr>
          <a:xfrm>
            <a:off x="685800" y="4146480"/>
            <a:ext cx="955800" cy="955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5" descr="delete2"/>
          <p:cNvPicPr/>
          <p:nvPr/>
        </p:nvPicPr>
        <p:blipFill>
          <a:blip r:embed="rId5"/>
          <a:stretch/>
        </p:blipFill>
        <p:spPr>
          <a:xfrm>
            <a:off x="6083280" y="46483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375" name="Rounded Rectangle 16"/>
          <p:cNvGrpSpPr/>
          <p:nvPr/>
        </p:nvGrpSpPr>
        <p:grpSpPr>
          <a:xfrm>
            <a:off x="6072120" y="3260880"/>
            <a:ext cx="1017720" cy="909360"/>
            <a:chOff x="6072120" y="3260880"/>
            <a:chExt cx="1017720" cy="909360"/>
          </a:xfrm>
        </p:grpSpPr>
        <p:pic>
          <p:nvPicPr>
            <p:cNvPr id="376" name="Rounded Rectangle 16" descr=""/>
            <p:cNvPicPr/>
            <p:nvPr/>
          </p:nvPicPr>
          <p:blipFill>
            <a:blip r:embed="rId6"/>
            <a:stretch/>
          </p:blipFill>
          <p:spPr>
            <a:xfrm>
              <a:off x="6072120" y="3260880"/>
              <a:ext cx="1017720" cy="90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"/>
            <p:cNvSpPr/>
            <p:nvPr/>
          </p:nvSpPr>
          <p:spPr>
            <a:xfrm>
              <a:off x="6110280" y="3300480"/>
              <a:ext cx="93996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8" name="Rectangle 2"/>
          <p:cNvSpPr/>
          <p:nvPr/>
        </p:nvSpPr>
        <p:spPr>
          <a:xfrm>
            <a:off x="0" y="521496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"/>
          <p:cNvSpPr/>
          <p:nvPr/>
        </p:nvSpPr>
        <p:spPr>
          <a:xfrm>
            <a:off x="4978440" y="564984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533520" y="15228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1" name="Picture 4" descr="brain"/>
          <p:cNvPicPr/>
          <p:nvPr/>
        </p:nvPicPr>
        <p:blipFill>
          <a:blip r:embed="rId1"/>
          <a:stretch/>
        </p:blipFill>
        <p:spPr>
          <a:xfrm>
            <a:off x="5638680" y="757080"/>
            <a:ext cx="1382760" cy="119088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3"/>
          <p:cNvSpPr/>
          <p:nvPr/>
        </p:nvSpPr>
        <p:spPr>
          <a:xfrm>
            <a:off x="378000" y="1859040"/>
            <a:ext cx="716580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 think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33984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r a given decision – Understand the effect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797040" indent="-33984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15" descr="moneybag_dollar"/>
          <p:cNvPicPr/>
          <p:nvPr/>
        </p:nvPicPr>
        <p:blipFill>
          <a:blip r:embed="rId2"/>
          <a:stretch/>
        </p:blipFill>
        <p:spPr>
          <a:xfrm>
            <a:off x="5486400" y="3807000"/>
            <a:ext cx="1069920" cy="1069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6" descr="symbol_questionmark"/>
          <p:cNvPicPr/>
          <p:nvPr/>
        </p:nvPicPr>
        <p:blipFill>
          <a:blip r:embed="rId3"/>
          <a:stretch/>
        </p:blipFill>
        <p:spPr>
          <a:xfrm>
            <a:off x="6550200" y="3882960"/>
            <a:ext cx="917280" cy="917640"/>
          </a:xfrm>
          <a:prstGeom prst="rect">
            <a:avLst/>
          </a:prstGeom>
          <a:ln w="0">
            <a:noFill/>
          </a:ln>
        </p:spPr>
      </p:pic>
      <p:grpSp>
        <p:nvGrpSpPr>
          <p:cNvPr id="385" name="Group 18"/>
          <p:cNvGrpSpPr/>
          <p:nvPr/>
        </p:nvGrpSpPr>
        <p:grpSpPr>
          <a:xfrm>
            <a:off x="1963800" y="4245120"/>
            <a:ext cx="3341520" cy="230040"/>
            <a:chOff x="1963800" y="4245120"/>
            <a:chExt cx="3341520" cy="230040"/>
          </a:xfrm>
        </p:grpSpPr>
        <p:sp>
          <p:nvSpPr>
            <p:cNvPr id="386" name="AutoShape 20"/>
            <p:cNvSpPr/>
            <p:nvPr/>
          </p:nvSpPr>
          <p:spPr>
            <a:xfrm>
              <a:off x="1963800" y="4245120"/>
              <a:ext cx="3341520" cy="230040"/>
            </a:xfrm>
            <a:custGeom>
              <a:avLst/>
              <a:gdLst>
                <a:gd name="textAreaLeft" fmla="*/ 0 w 3341520"/>
                <a:gd name="textAreaRight" fmla="*/ 3341880 w 334152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440" y="0"/>
                  </a:lnTo>
                  <a:lnTo>
                    <a:pt x="21600" y="10800"/>
                  </a:lnTo>
                  <a:lnTo>
                    <a:pt x="2044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b7ff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21"/>
            <p:cNvSpPr/>
            <p:nvPr/>
          </p:nvSpPr>
          <p:spPr>
            <a:xfrm>
              <a:off x="1964160" y="4359240"/>
              <a:ext cx="3303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8" name="Picture 4" descr="gears_run"/>
          <p:cNvPicPr/>
          <p:nvPr/>
        </p:nvPicPr>
        <p:blipFill>
          <a:blip r:embed="rId4"/>
          <a:stretch/>
        </p:blipFill>
        <p:spPr>
          <a:xfrm>
            <a:off x="838080" y="3884760"/>
            <a:ext cx="916200" cy="91584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2"/>
          <p:cNvSpPr/>
          <p:nvPr/>
        </p:nvSpPr>
        <p:spPr>
          <a:xfrm>
            <a:off x="152280" y="4876920"/>
            <a:ext cx="22100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4978440" y="4986360"/>
            <a:ext cx="22096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0640" y="0"/>
            <a:ext cx="677088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’s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67705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Caus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inciple of Ana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"/>
          <p:cNvSpPr/>
          <p:nvPr/>
        </p:nvSpPr>
        <p:spPr>
          <a:xfrm>
            <a:off x="685800" y="1719360"/>
            <a:ext cx="6400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The relation between a managerial objective’s quantifiable output and the inputs that must be consumed if the output is to be achiev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5"/>
          <p:cNvSpPr/>
          <p:nvPr/>
        </p:nvSpPr>
        <p:spPr>
          <a:xfrm>
            <a:off x="685800" y="3753000"/>
            <a:ext cx="640080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15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How existing cause and effect insights are used to make inferences about the expected outcome of a particular managerial ac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5" name="Picture 1" descr="C:\Users\Barbara England\Desktop\Training Icons\door_open.png"/>
          <p:cNvPicPr/>
          <p:nvPr/>
        </p:nvPicPr>
        <p:blipFill>
          <a:blip r:embed="rId1"/>
          <a:stretch/>
        </p:blipFill>
        <p:spPr>
          <a:xfrm>
            <a:off x="68580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1"/>
          <p:cNvSpPr/>
          <p:nvPr/>
        </p:nvSpPr>
        <p:spPr>
          <a:xfrm>
            <a:off x="1905120" y="25146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7529400" cy="57592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0"/>
          <p:cNvSpPr/>
          <p:nvPr/>
        </p:nvSpPr>
        <p:spPr>
          <a:xfrm>
            <a:off x="606600" y="4495680"/>
            <a:ext cx="686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EO is a BI/BW-based In-memory Best of Breed Managerial Costing Appl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2" descr="http://capriza3.files.wordpress.com/2013/11/sap-ecc.jpg"/>
          <p:cNvPicPr/>
          <p:nvPr/>
        </p:nvPicPr>
        <p:blipFill>
          <a:blip r:embed="rId1"/>
          <a:stretch/>
        </p:blipFill>
        <p:spPr>
          <a:xfrm>
            <a:off x="0" y="533520"/>
            <a:ext cx="75121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"/>
          <p:cNvSpPr/>
          <p:nvPr/>
        </p:nvSpPr>
        <p:spPr>
          <a:xfrm>
            <a:off x="1905120" y="304812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bout Statement 4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Barbara England\Desktop\Training Icons\sign_warning.png"/>
          <p:cNvPicPr/>
          <p:nvPr/>
        </p:nvPicPr>
        <p:blipFill>
          <a:blip r:embed="rId1"/>
          <a:stretch/>
        </p:blipFill>
        <p:spPr>
          <a:xfrm>
            <a:off x="2514600" y="190512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"/>
          <p:cNvSpPr/>
          <p:nvPr/>
        </p:nvSpPr>
        <p:spPr>
          <a:xfrm>
            <a:off x="0" y="0"/>
            <a:ext cx="9220320" cy="685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Rectangle 3"/>
          <p:cNvSpPr/>
          <p:nvPr/>
        </p:nvSpPr>
        <p:spPr>
          <a:xfrm>
            <a:off x="577800" y="604800"/>
            <a:ext cx="7912080" cy="1262160"/>
          </a:xfrm>
          <a:prstGeom prst="rect">
            <a:avLst/>
          </a:prstGeom>
          <a:noFill/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5"/>
          <p:cNvSpPr/>
          <p:nvPr/>
        </p:nvSpPr>
        <p:spPr>
          <a:xfrm>
            <a:off x="835200" y="934920"/>
            <a:ext cx="2035080" cy="731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894240" y="94608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7"/>
          <p:cNvSpPr/>
          <p:nvPr/>
        </p:nvSpPr>
        <p:spPr>
          <a:xfrm>
            <a:off x="6437160" y="934920"/>
            <a:ext cx="1803600" cy="731880"/>
          </a:xfrm>
          <a:prstGeom prst="rect">
            <a:avLst/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6367680" y="946080"/>
            <a:ext cx="190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X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9"/>
          <p:cNvSpPr/>
          <p:nvPr/>
        </p:nvSpPr>
        <p:spPr>
          <a:xfrm>
            <a:off x="3765600" y="934920"/>
            <a:ext cx="2084400" cy="73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3830760" y="946080"/>
            <a:ext cx="197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11"/>
          <p:cNvSpPr/>
          <p:nvPr/>
        </p:nvSpPr>
        <p:spPr>
          <a:xfrm>
            <a:off x="576360" y="406440"/>
            <a:ext cx="1965240" cy="36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641520" y="42228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3919680" y="2179800"/>
            <a:ext cx="4070160" cy="95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3956040" y="22114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Quantitative Model of the Economic Flow of Goods and Services Based on Cause and Effect Relationship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662040" y="2179800"/>
            <a:ext cx="2381040" cy="95400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9"/>
          <p:cNvSpPr/>
          <p:nvPr/>
        </p:nvSpPr>
        <p:spPr>
          <a:xfrm>
            <a:off x="654120" y="2173320"/>
            <a:ext cx="238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 Accoun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inancial Accounting Principles Apply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21" name="AutoShape 20"/>
          <p:cNvCxnSpPr>
            <a:stCxn id="419" idx="0"/>
            <a:endCxn id="409" idx="2"/>
          </p:cNvCxnSpPr>
          <p:nvPr/>
        </p:nvCxnSpPr>
        <p:spPr>
          <a:xfrm flipV="1">
            <a:off x="1852200" y="1666080"/>
            <a:ext cx="1080" cy="513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22" name="Line 21"/>
          <p:cNvSpPr/>
          <p:nvPr/>
        </p:nvSpPr>
        <p:spPr>
          <a:xfrm flipH="1">
            <a:off x="5952600" y="4400640"/>
            <a:ext cx="1800" cy="2151000"/>
          </a:xfrm>
          <a:prstGeom prst="line">
            <a:avLst/>
          </a:prstGeom>
          <a:ln w="2844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Line 22"/>
          <p:cNvSpPr/>
          <p:nvPr/>
        </p:nvSpPr>
        <p:spPr>
          <a:xfrm flipH="1">
            <a:off x="577440" y="6551640"/>
            <a:ext cx="5234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Line 23"/>
          <p:cNvSpPr/>
          <p:nvPr/>
        </p:nvSpPr>
        <p:spPr>
          <a:xfrm>
            <a:off x="6107040" y="6551640"/>
            <a:ext cx="2382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Text Box 24"/>
          <p:cNvSpPr/>
          <p:nvPr/>
        </p:nvSpPr>
        <p:spPr>
          <a:xfrm>
            <a:off x="6990840" y="6369120"/>
            <a:ext cx="7660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25"/>
          <p:cNvSpPr/>
          <p:nvPr/>
        </p:nvSpPr>
        <p:spPr>
          <a:xfrm>
            <a:off x="2844360" y="6369120"/>
            <a:ext cx="8132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6"/>
          <p:cNvSpPr/>
          <p:nvPr/>
        </p:nvSpPr>
        <p:spPr>
          <a:xfrm flipH="1">
            <a:off x="3034800" y="2635200"/>
            <a:ext cx="884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"/>
          <p:cNvSpPr/>
          <p:nvPr/>
        </p:nvSpPr>
        <p:spPr>
          <a:xfrm>
            <a:off x="4800600" y="1658880"/>
            <a:ext cx="0" cy="52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29"/>
          <p:cNvSpPr/>
          <p:nvPr/>
        </p:nvSpPr>
        <p:spPr>
          <a:xfrm>
            <a:off x="5952240" y="3133800"/>
            <a:ext cx="18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30"/>
          <p:cNvSpPr/>
          <p:nvPr/>
        </p:nvSpPr>
        <p:spPr>
          <a:xfrm>
            <a:off x="6145200" y="4592520"/>
            <a:ext cx="2190600" cy="1768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Text Box 31"/>
          <p:cNvSpPr/>
          <p:nvPr/>
        </p:nvSpPr>
        <p:spPr>
          <a:xfrm>
            <a:off x="6167520" y="4606920"/>
            <a:ext cx="224460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agers’ Inferences as to Future Outcom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Formul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-if Analysi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ision Support/Adaptive 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Rectangle 32"/>
          <p:cNvSpPr/>
          <p:nvPr/>
        </p:nvSpPr>
        <p:spPr>
          <a:xfrm>
            <a:off x="3765600" y="4592520"/>
            <a:ext cx="1958760" cy="17686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33"/>
          <p:cNvSpPr/>
          <p:nvPr/>
        </p:nvSpPr>
        <p:spPr>
          <a:xfrm>
            <a:off x="3787920" y="4606920"/>
            <a:ext cx="2090520" cy="17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pport Managers’ Inferences as to What Transpired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Strategic Assessment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Analysis &amp; Contro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Learn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284040" indent="-284040">
              <a:lnSpc>
                <a:spcPct val="15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Corrective Action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4"/>
          <p:cNvSpPr/>
          <p:nvPr/>
        </p:nvSpPr>
        <p:spPr>
          <a:xfrm flipH="1">
            <a:off x="4711680" y="4170240"/>
            <a:ext cx="124128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5"/>
          <p:cNvSpPr/>
          <p:nvPr/>
        </p:nvSpPr>
        <p:spPr>
          <a:xfrm>
            <a:off x="5952960" y="4170240"/>
            <a:ext cx="1386000" cy="422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27"/>
          <p:cNvSpPr/>
          <p:nvPr/>
        </p:nvSpPr>
        <p:spPr>
          <a:xfrm>
            <a:off x="3919680" y="3517920"/>
            <a:ext cx="4070160" cy="6523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ation of the quantitative cost mod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line with optimization objectiv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Oval 2"/>
          <p:cNvSpPr/>
          <p:nvPr/>
        </p:nvSpPr>
        <p:spPr>
          <a:xfrm>
            <a:off x="406440" y="1949400"/>
            <a:ext cx="2844720" cy="140328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Oval 34"/>
          <p:cNvSpPr/>
          <p:nvPr/>
        </p:nvSpPr>
        <p:spPr>
          <a:xfrm>
            <a:off x="3782880" y="1949400"/>
            <a:ext cx="4370400" cy="1403280"/>
          </a:xfrm>
          <a:prstGeom prst="ellipse">
            <a:avLst/>
          </a:prstGeom>
          <a:noFill/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Straight Connector 33"/>
          <p:cNvSpPr/>
          <p:nvPr/>
        </p:nvSpPr>
        <p:spPr>
          <a:xfrm>
            <a:off x="3505320" y="1990800"/>
            <a:ext cx="0" cy="4410000"/>
          </a:xfrm>
          <a:prstGeom prst="line">
            <a:avLst/>
          </a:prstGeom>
          <a:ln w="28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34"/>
          <p:cNvSpPr/>
          <p:nvPr/>
        </p:nvSpPr>
        <p:spPr>
          <a:xfrm>
            <a:off x="528480" y="4286160"/>
            <a:ext cx="272268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Paragraphs 13 and 14 in Statement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1"/>
          <p:cNvSpPr/>
          <p:nvPr/>
        </p:nvSpPr>
        <p:spPr>
          <a:xfrm>
            <a:off x="770040" y="76320"/>
            <a:ext cx="626580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ucial Dif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492120" y="1096920"/>
            <a:ext cx="2711520" cy="731880"/>
          </a:xfrm>
          <a:prstGeom prst="rect">
            <a:avLst/>
          </a:prstGeom>
          <a:solidFill>
            <a:srgbClr val="adade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Text Box 6"/>
          <p:cNvSpPr/>
          <p:nvPr/>
        </p:nvSpPr>
        <p:spPr>
          <a:xfrm>
            <a:off x="498600" y="1109520"/>
            <a:ext cx="269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st Accounting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rnal Repor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4324320" y="1096920"/>
            <a:ext cx="3019320" cy="73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4332600" y="1109520"/>
            <a:ext cx="305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rial Account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Decision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Straight Connector 7"/>
          <p:cNvSpPr/>
          <p:nvPr/>
        </p:nvSpPr>
        <p:spPr>
          <a:xfrm>
            <a:off x="3809880" y="1066680"/>
            <a:ext cx="0" cy="5291280"/>
          </a:xfrm>
          <a:prstGeom prst="line">
            <a:avLst/>
          </a:prstGeom>
          <a:ln w="28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8"/>
          <p:cNvSpPr/>
          <p:nvPr/>
        </p:nvSpPr>
        <p:spPr>
          <a:xfrm>
            <a:off x="228600" y="2133720"/>
            <a:ext cx="350532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’s Matching &amp; Periodic Principles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, Causal, and Other Assignment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not in 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l Cost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ncial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9"/>
          <p:cNvSpPr/>
          <p:nvPr/>
        </p:nvSpPr>
        <p:spPr>
          <a:xfrm>
            <a:off x="3962520" y="2133720"/>
            <a:ext cx="358128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’s Causality &amp; Analogy Principles App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Causal Assignments Subscribed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y at Its C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ributable Cost Propos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30000"/>
              </a:lnSpc>
              <a:spcAft>
                <a:spcPts val="1199"/>
              </a:spcAft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 Usage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Slide Number Placeholder 1"/>
          <p:cNvSpPr/>
          <p:nvPr/>
        </p:nvSpPr>
        <p:spPr>
          <a:xfrm>
            <a:off x="7467480" y="6248520"/>
            <a:ext cx="117972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7DC8C-53F4-4DF5-BB51-B08C32E15C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"/>
          <p:cNvSpPr/>
          <p:nvPr/>
        </p:nvSpPr>
        <p:spPr>
          <a:xfrm>
            <a:off x="1878120" y="150012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lementation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37960" y="1514520"/>
            <a:ext cx="71535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1"/>
          <p:cNvSpPr/>
          <p:nvPr/>
        </p:nvSpPr>
        <p:spPr>
          <a:xfrm>
            <a:off x="1905120" y="358128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2"/>
          <p:cNvSpPr/>
          <p:nvPr/>
        </p:nvSpPr>
        <p:spPr>
          <a:xfrm>
            <a:off x="304920" y="1415880"/>
            <a:ext cx="7086600" cy="50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developing a cost culture which requi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n organization with th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MS PGothic"/>
              </a:rPr>
              <a:t>sing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focus of supporting managerial costing within the ent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champion in senior management to drive the initia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Long-term dedication to shifting from a budget-centric mind-set to a cost informed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 recognition that cost informed decisions rely on the principles causality and ana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2"/>
          <p:cNvSpPr/>
          <p:nvPr/>
        </p:nvSpPr>
        <p:spPr>
          <a:xfrm>
            <a:off x="304920" y="132876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es all Perspectiv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trate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Long-range defining  What  and Why; e.g. Objective X Should Cost Y in Year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act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Mid-range defining of How to translate the strategic cost objective into practical and specific actions; e.g. optimize process A to meet strategic object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– Day-to-day execution of specific tasks to deliver the outputs; e.g. utilize contract support or overtime to provide output X at cost impact of 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"/>
          <p:cNvSpPr/>
          <p:nvPr/>
        </p:nvSpPr>
        <p:spPr>
          <a:xfrm>
            <a:off x="304920" y="1268280"/>
            <a:ext cx="71625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es Domains (Financial versus Operat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ceived to be the responsibility of the Financial domain since cost is a monetary val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ality is Operational domain manages the input/output relationships and therefore are closer to understanding causalit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34740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managers have direct influence on optimization decisions (planning and controlling) and financial managers support through providing cost data (accounting and analys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219240" y="2128680"/>
            <a:ext cx="2295360" cy="2907000"/>
          </a:xfrm>
          <a:prstGeom prst="rect">
            <a:avLst/>
          </a:prstGeom>
          <a:solidFill>
            <a:srgbClr val="ccecff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2" name="Group 29"/>
          <p:cNvGrpSpPr/>
          <p:nvPr/>
        </p:nvGrpSpPr>
        <p:grpSpPr>
          <a:xfrm>
            <a:off x="2590920" y="3343320"/>
            <a:ext cx="2112840" cy="1361160"/>
            <a:chOff x="2590920" y="3343320"/>
            <a:chExt cx="2112840" cy="1361160"/>
          </a:xfrm>
        </p:grpSpPr>
        <p:grpSp>
          <p:nvGrpSpPr>
            <p:cNvPr id="463" name="Group 17"/>
            <p:cNvGrpSpPr/>
            <p:nvPr/>
          </p:nvGrpSpPr>
          <p:grpSpPr>
            <a:xfrm>
              <a:off x="3175560" y="3359160"/>
              <a:ext cx="1014480" cy="308880"/>
              <a:chOff x="3175560" y="3359160"/>
              <a:chExt cx="1014480" cy="308880"/>
            </a:xfrm>
          </p:grpSpPr>
          <p:sp>
            <p:nvSpPr>
              <p:cNvPr id="464" name="AutoShape 18"/>
              <p:cNvSpPr/>
              <p:nvPr/>
            </p:nvSpPr>
            <p:spPr>
              <a:xfrm>
                <a:off x="3175560" y="3359160"/>
                <a:ext cx="378360" cy="29592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46" y="0"/>
                    </a:lnTo>
                    <a:lnTo>
                      <a:pt x="21600" y="10800"/>
                    </a:lnTo>
                    <a:lnTo>
                      <a:pt x="14846" y="21600"/>
                    </a:lnTo>
                    <a:lnTo>
                      <a:pt x="0" y="21600"/>
                    </a:lnTo>
                    <a:lnTo>
                      <a:pt x="675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AutoShape 19"/>
              <p:cNvSpPr/>
              <p:nvPr/>
            </p:nvSpPr>
            <p:spPr>
              <a:xfrm>
                <a:off x="3504960" y="3371400"/>
                <a:ext cx="377640" cy="2966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AutoShape 20"/>
              <p:cNvSpPr/>
              <p:nvPr/>
            </p:nvSpPr>
            <p:spPr>
              <a:xfrm>
                <a:off x="3812400" y="3371400"/>
                <a:ext cx="377640" cy="29664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6640"/>
                  <a:gd name="textAreaBottom" fmla="*/ 297000 h 296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67" name="Text Box 21"/>
            <p:cNvSpPr/>
            <p:nvPr/>
          </p:nvSpPr>
          <p:spPr>
            <a:xfrm>
              <a:off x="2590920" y="3849480"/>
              <a:ext cx="2112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ess Improvement (Lean 6-Sigm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grated Business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AutoShape 22"/>
            <p:cNvSpPr/>
            <p:nvPr/>
          </p:nvSpPr>
          <p:spPr>
            <a:xfrm>
              <a:off x="2661480" y="3343320"/>
              <a:ext cx="456840" cy="456840"/>
            </a:xfrm>
            <a:prstGeom prst="flowChartInputOutpu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AutoShape 23"/>
            <p:cNvSpPr/>
            <p:nvPr/>
          </p:nvSpPr>
          <p:spPr>
            <a:xfrm>
              <a:off x="4267440" y="3343320"/>
              <a:ext cx="354600" cy="456840"/>
            </a:xfrm>
            <a:prstGeom prst="flowChartDocumen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w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’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Oval 24"/>
          <p:cNvSpPr/>
          <p:nvPr/>
        </p:nvSpPr>
        <p:spPr>
          <a:xfrm>
            <a:off x="4724280" y="2122560"/>
            <a:ext cx="2667240" cy="3058920"/>
          </a:xfrm>
          <a:prstGeom prst="ellipse">
            <a:avLst/>
          </a:prstGeom>
          <a:solidFill>
            <a:srgbClr val="ffe8d1"/>
          </a:solidFill>
          <a:ln cap="rnd" w="93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1" name="Group 25"/>
          <p:cNvGrpSpPr/>
          <p:nvPr/>
        </p:nvGrpSpPr>
        <p:grpSpPr>
          <a:xfrm>
            <a:off x="1295280" y="5867280"/>
            <a:ext cx="5943600" cy="617760"/>
            <a:chOff x="1295280" y="5867280"/>
            <a:chExt cx="5943600" cy="617760"/>
          </a:xfrm>
        </p:grpSpPr>
        <p:grpSp>
          <p:nvGrpSpPr>
            <p:cNvPr id="472" name="AutoShape 26"/>
            <p:cNvGrpSpPr/>
            <p:nvPr/>
          </p:nvGrpSpPr>
          <p:grpSpPr>
            <a:xfrm>
              <a:off x="1295280" y="5867280"/>
              <a:ext cx="5943600" cy="617760"/>
              <a:chOff x="1295280" y="5867280"/>
              <a:chExt cx="5943600" cy="617760"/>
            </a:xfrm>
          </p:grpSpPr>
          <p:pic>
            <p:nvPicPr>
              <p:cNvPr id="473" name="AutoShape 26" descr=""/>
              <p:cNvPicPr/>
              <p:nvPr/>
            </p:nvPicPr>
            <p:blipFill>
              <a:blip r:embed="rId1"/>
              <a:stretch/>
            </p:blipFill>
            <p:spPr>
              <a:xfrm>
                <a:off x="1295280" y="5867280"/>
                <a:ext cx="5943600" cy="61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4" name=""/>
              <p:cNvSpPr/>
              <p:nvPr/>
            </p:nvSpPr>
            <p:spPr>
              <a:xfrm>
                <a:off x="2218320" y="6023520"/>
                <a:ext cx="4232880" cy="29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5" name="Text Box 27"/>
            <p:cNvSpPr/>
            <p:nvPr/>
          </p:nvSpPr>
          <p:spPr>
            <a:xfrm>
              <a:off x="2476440" y="5981400"/>
              <a:ext cx="2570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nablers of Chang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6" name="Text Box 29"/>
          <p:cNvSpPr/>
          <p:nvPr/>
        </p:nvSpPr>
        <p:spPr>
          <a:xfrm>
            <a:off x="279360" y="2362320"/>
            <a:ext cx="223524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dget-foc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d rate driven – inpu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objective -99.9% obligat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goods has infinite deman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30"/>
          <p:cNvSpPr/>
          <p:nvPr/>
        </p:nvSpPr>
        <p:spPr>
          <a:xfrm>
            <a:off x="5029200" y="2459160"/>
            <a:ext cx="24004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st and performance focus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lts driven - output &amp; outco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 objective – resource consumption optimization (efficiency &amp; effective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lnSpc>
                <a:spcPct val="5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14480" indent="-114480"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what is necessary to obtain the objectiv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16200" y="17193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ulture of Entitlement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32"/>
          <p:cNvSpPr/>
          <p:nvPr/>
        </p:nvSpPr>
        <p:spPr>
          <a:xfrm>
            <a:off x="4890600" y="1749600"/>
            <a:ext cx="24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Culture of Influenc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Group 30"/>
          <p:cNvGrpSpPr/>
          <p:nvPr/>
        </p:nvGrpSpPr>
        <p:grpSpPr>
          <a:xfrm>
            <a:off x="2666880" y="4468680"/>
            <a:ext cx="2360880" cy="1211400"/>
            <a:chOff x="2666880" y="4468680"/>
            <a:chExt cx="2360880" cy="1211400"/>
          </a:xfrm>
        </p:grpSpPr>
        <p:sp>
          <p:nvSpPr>
            <p:cNvPr id="481" name="Text Box 16"/>
            <p:cNvSpPr/>
            <p:nvPr/>
          </p:nvSpPr>
          <p:spPr>
            <a:xfrm>
              <a:off x="2666880" y="5114520"/>
              <a:ext cx="236088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RP Applications  (e.g. SA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siness Wareho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ecutive Scorecar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2" name="Picture 34" descr="clients"/>
            <p:cNvPicPr/>
            <p:nvPr/>
          </p:nvPicPr>
          <p:blipFill>
            <a:blip r:embed="rId2"/>
            <a:stretch/>
          </p:blipFill>
          <p:spPr>
            <a:xfrm>
              <a:off x="3351600" y="4468680"/>
              <a:ext cx="914760" cy="64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3" name="Group 28"/>
          <p:cNvGrpSpPr/>
          <p:nvPr/>
        </p:nvGrpSpPr>
        <p:grpSpPr>
          <a:xfrm>
            <a:off x="2590920" y="1752480"/>
            <a:ext cx="2361960" cy="1308960"/>
            <a:chOff x="2590920" y="1752480"/>
            <a:chExt cx="2361960" cy="1308960"/>
          </a:xfrm>
        </p:grpSpPr>
        <p:sp>
          <p:nvSpPr>
            <p:cNvPr id="484" name="Text Box 14"/>
            <p:cNvSpPr/>
            <p:nvPr/>
          </p:nvSpPr>
          <p:spPr>
            <a:xfrm>
              <a:off x="2590920" y="2495880"/>
              <a:ext cx="23619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velop/Recruit Analys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hance Trai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formance Foc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85" name="Picture 33" descr="businessmen"/>
            <p:cNvPicPr/>
            <p:nvPr/>
          </p:nvPicPr>
          <p:blipFill>
            <a:blip r:embed="rId3"/>
            <a:stretch/>
          </p:blipFill>
          <p:spPr>
            <a:xfrm>
              <a:off x="2971440" y="1858320"/>
              <a:ext cx="607320" cy="45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35" descr="branch"/>
            <p:cNvPicPr/>
            <p:nvPr/>
          </p:nvPicPr>
          <p:blipFill>
            <a:blip r:embed="rId4"/>
            <a:stretch/>
          </p:blipFill>
          <p:spPr>
            <a:xfrm>
              <a:off x="3711600" y="1752480"/>
              <a:ext cx="860040" cy="77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7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40EBA-877D-4AD0-A27D-EB03EDA819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9" name="Group 28"/>
          <p:cNvGrpSpPr/>
          <p:nvPr/>
        </p:nvGrpSpPr>
        <p:grpSpPr>
          <a:xfrm>
            <a:off x="5486400" y="838080"/>
            <a:ext cx="2361960" cy="1204200"/>
            <a:chOff x="5486400" y="838080"/>
            <a:chExt cx="2361960" cy="1204200"/>
          </a:xfrm>
        </p:grpSpPr>
        <p:sp>
          <p:nvSpPr>
            <p:cNvPr id="490" name="Text Box 14"/>
            <p:cNvSpPr/>
            <p:nvPr/>
          </p:nvSpPr>
          <p:spPr>
            <a:xfrm>
              <a:off x="5486400" y="1476720"/>
              <a:ext cx="236196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evelop/Recruit Analyst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nhance Training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erformance Focu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91" name="Picture 33" descr="businessmen"/>
            <p:cNvPicPr/>
            <p:nvPr/>
          </p:nvPicPr>
          <p:blipFill>
            <a:blip r:embed="rId1"/>
            <a:stretch/>
          </p:blipFill>
          <p:spPr>
            <a:xfrm>
              <a:off x="5932800" y="938160"/>
              <a:ext cx="618840" cy="42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2" name="Picture 35" descr="branch"/>
            <p:cNvPicPr/>
            <p:nvPr/>
          </p:nvPicPr>
          <p:blipFill>
            <a:blip r:embed="rId2"/>
            <a:stretch/>
          </p:blipFill>
          <p:spPr>
            <a:xfrm>
              <a:off x="6629400" y="838080"/>
              <a:ext cx="1057680" cy="72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CF72D-B839-46B0-8111-706E42E1152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7"/>
          <p:cNvSpPr/>
          <p:nvPr/>
        </p:nvSpPr>
        <p:spPr>
          <a:xfrm>
            <a:off x="228600" y="1600200"/>
            <a:ext cx="731520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ed Organiz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ift resources to “hub” like kind activities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centralize to incorporate analysts with oper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efined Ro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 of new positions (e.g. cost analys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hifting budget-centric roles to include cost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Skills &amp; Knowled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troduction of principles into Training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Proc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Group 29"/>
          <p:cNvGrpSpPr/>
          <p:nvPr/>
        </p:nvGrpSpPr>
        <p:grpSpPr>
          <a:xfrm>
            <a:off x="5029200" y="1143000"/>
            <a:ext cx="2112840" cy="1361520"/>
            <a:chOff x="5029200" y="1143000"/>
            <a:chExt cx="2112840" cy="1361520"/>
          </a:xfrm>
        </p:grpSpPr>
        <p:grpSp>
          <p:nvGrpSpPr>
            <p:cNvPr id="497" name="Group 17"/>
            <p:cNvGrpSpPr/>
            <p:nvPr/>
          </p:nvGrpSpPr>
          <p:grpSpPr>
            <a:xfrm>
              <a:off x="5613840" y="1159200"/>
              <a:ext cx="1014480" cy="309240"/>
              <a:chOff x="5613840" y="1159200"/>
              <a:chExt cx="1014480" cy="309240"/>
            </a:xfrm>
          </p:grpSpPr>
          <p:sp>
            <p:nvSpPr>
              <p:cNvPr id="498" name="AutoShape 18"/>
              <p:cNvSpPr/>
              <p:nvPr/>
            </p:nvSpPr>
            <p:spPr>
              <a:xfrm>
                <a:off x="5613840" y="1159200"/>
                <a:ext cx="378360" cy="295920"/>
              </a:xfrm>
              <a:custGeom>
                <a:avLst/>
                <a:gdLst>
                  <a:gd name="textAreaLeft" fmla="*/ 0 w 378360"/>
                  <a:gd name="textAreaRight" fmla="*/ 378720 w 378360"/>
                  <a:gd name="textAreaTop" fmla="*/ 0 h 295920"/>
                  <a:gd name="textAreaBottom" fmla="*/ 296280 h 295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46" y="0"/>
                    </a:lnTo>
                    <a:lnTo>
                      <a:pt x="21600" y="10800"/>
                    </a:lnTo>
                    <a:lnTo>
                      <a:pt x="14846" y="21600"/>
                    </a:lnTo>
                    <a:lnTo>
                      <a:pt x="0" y="21600"/>
                    </a:lnTo>
                    <a:lnTo>
                      <a:pt x="675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AutoShape 19"/>
              <p:cNvSpPr/>
              <p:nvPr/>
            </p:nvSpPr>
            <p:spPr>
              <a:xfrm>
                <a:off x="5943240" y="1171440"/>
                <a:ext cx="377640" cy="2970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AutoShape 20"/>
              <p:cNvSpPr/>
              <p:nvPr/>
            </p:nvSpPr>
            <p:spPr>
              <a:xfrm>
                <a:off x="6250680" y="1171440"/>
                <a:ext cx="377640" cy="297000"/>
              </a:xfrm>
              <a:custGeom>
                <a:avLst/>
                <a:gdLst>
                  <a:gd name="textAreaLeft" fmla="*/ 0 w 377640"/>
                  <a:gd name="textAreaRight" fmla="*/ 378000 w 377640"/>
                  <a:gd name="textAreaTop" fmla="*/ 0 h 297000"/>
                  <a:gd name="textAreaBottom" fmla="*/ 297360 h 297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4816" y="0"/>
                    </a:lnTo>
                    <a:lnTo>
                      <a:pt x="21600" y="10800"/>
                    </a:lnTo>
                    <a:lnTo>
                      <a:pt x="14816" y="21600"/>
                    </a:lnTo>
                    <a:lnTo>
                      <a:pt x="0" y="21600"/>
                    </a:lnTo>
                    <a:lnTo>
                      <a:pt x="6784" y="10800"/>
                    </a:lnTo>
                    <a:close/>
                  </a:path>
                </a:pathLst>
              </a:custGeom>
              <a:solidFill>
                <a:srgbClr val="3366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1" name="Text Box 21"/>
            <p:cNvSpPr/>
            <p:nvPr/>
          </p:nvSpPr>
          <p:spPr>
            <a:xfrm>
              <a:off x="5029200" y="1649520"/>
              <a:ext cx="211284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rocess Improvement (Lean 6-Sigma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grated Business Desig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AutoShape 22"/>
            <p:cNvSpPr/>
            <p:nvPr/>
          </p:nvSpPr>
          <p:spPr>
            <a:xfrm>
              <a:off x="5099760" y="1143000"/>
              <a:ext cx="456840" cy="457200"/>
            </a:xfrm>
            <a:prstGeom prst="flowChartInputOutpu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lic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AutoShape 23"/>
            <p:cNvSpPr/>
            <p:nvPr/>
          </p:nvSpPr>
          <p:spPr>
            <a:xfrm>
              <a:off x="6705720" y="1143000"/>
              <a:ext cx="354600" cy="457200"/>
            </a:xfrm>
            <a:prstGeom prst="flowChartDocumen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ow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’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4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E200-CFE6-40A2-ADBA-CACCE07BF0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457200" y="1422360"/>
            <a:ext cx="693432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olic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form Time Track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Usage-based vs Financial Depreci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Proced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unding requests need cost benefit analysis 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ptimization need to take into consideration co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Focu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erformance variance analy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Obtain non-financial metr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nge Management - Techn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Group 30"/>
          <p:cNvGrpSpPr/>
          <p:nvPr/>
        </p:nvGrpSpPr>
        <p:grpSpPr>
          <a:xfrm>
            <a:off x="5105520" y="1023840"/>
            <a:ext cx="2743200" cy="1359000"/>
            <a:chOff x="5105520" y="1023840"/>
            <a:chExt cx="2743200" cy="1359000"/>
          </a:xfrm>
        </p:grpSpPr>
        <p:sp>
          <p:nvSpPr>
            <p:cNvPr id="508" name="Text Box 16"/>
            <p:cNvSpPr/>
            <p:nvPr/>
          </p:nvSpPr>
          <p:spPr>
            <a:xfrm>
              <a:off x="5105520" y="1817280"/>
              <a:ext cx="2743200" cy="5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RP Applications  (e.g. SAP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usiness Warehous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marL="169920" indent="-169920">
                <a:lnSpc>
                  <a:spcPct val="80000"/>
                </a:lnSpc>
                <a:spcBef>
                  <a:spcPts val="275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xecutive Scorecard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09" name="Picture 34" descr="clients"/>
            <p:cNvPicPr/>
            <p:nvPr/>
          </p:nvPicPr>
          <p:blipFill>
            <a:blip r:embed="rId1"/>
            <a:stretch/>
          </p:blipFill>
          <p:spPr>
            <a:xfrm>
              <a:off x="5901120" y="1023840"/>
              <a:ext cx="106272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Slide Number Placeholder 12"/>
          <p:cNvSpPr/>
          <p:nvPr/>
        </p:nvSpPr>
        <p:spPr>
          <a:xfrm>
            <a:off x="6553080" y="640080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BC95-634E-45AC-8F15-CF862214D1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8"/>
          <p:cNvSpPr/>
          <p:nvPr/>
        </p:nvSpPr>
        <p:spPr>
          <a:xfrm>
            <a:off x="304920" y="1422360"/>
            <a:ext cx="716256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arger data sets avail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solidation of operational data with financial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Ability to “crunch” through more advanced calc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Real or near-real time access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user-friendly graphical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rovide information versus data se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"/>
          <p:cNvSpPr/>
          <p:nvPr/>
        </p:nvSpPr>
        <p:spPr>
          <a:xfrm>
            <a:off x="1905120" y="41148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F6817-2C50-4728-B7E3-00254536768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1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533520" y="-12600"/>
            <a:ext cx="67658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is Alta V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533520" y="985680"/>
            <a:ext cx="6995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a Niche Service Provider in the Areas of Managerial Accounting and the Managerial Processes of Planning, Simulation, Control, and Decision Sup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ed in 1998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Consultants Across North and South America, Africa, and Eur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artner With Various Managerial Accounting and Decision Support Tool Vendors e.g., SAP, proEO, and Jed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663920" y="5102280"/>
            <a:ext cx="445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se of Information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8" descr=""/>
          <p:cNvPicPr/>
          <p:nvPr/>
        </p:nvPicPr>
        <p:blipFill>
          <a:blip r:embed="rId1"/>
          <a:stretch/>
        </p:blipFill>
        <p:spPr>
          <a:xfrm>
            <a:off x="0" y="5454720"/>
            <a:ext cx="1663560" cy="14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04920" y="1295280"/>
            <a:ext cx="7162560" cy="54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 Per Uni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racking of non-financial measures (e.g. # of tax returns, # of soldiers trained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nclusion of supports costs (provided outside of manager’s budget) (e.g. IT Network Suppor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onsumption – “Free Goods Have Infinite Demand”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dentification of causality in support relationships (e.g. Square Footage, Cancelled Class) – change behavi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1"/>
          <p:cNvSpPr/>
          <p:nvPr/>
        </p:nvSpPr>
        <p:spPr>
          <a:xfrm>
            <a:off x="152280" y="125280"/>
            <a:ext cx="73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31920" indent="-331920" algn="ctr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1066680"/>
            <a:ext cx="6781680" cy="24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93720" indent="-299880">
              <a:lnSpc>
                <a:spcPct val="125000"/>
              </a:lnSpc>
              <a:spcBef>
                <a:spcPts val="11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lnSpc>
                <a:spcPct val="125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X output then Y input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99880">
              <a:lnSpc>
                <a:spcPct val="125000"/>
              </a:lnSpc>
              <a:spcBef>
                <a:spcPts val="1001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f process A can be changed then Inputs required are 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 Box 2"/>
          <p:cNvSpPr/>
          <p:nvPr/>
        </p:nvSpPr>
        <p:spPr>
          <a:xfrm>
            <a:off x="153828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tional 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3"/>
          <p:cNvSpPr/>
          <p:nvPr/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nagement Accounting Philosophy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bating the Principle s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vailable from Alta Via: http://www.altavia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FAC International Good Practice Guide on Cos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fac.org/sites/default/files/publications/files/IGPG-Evaluating-and-Improving-Costing-July-2009.pdf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FAC Costing Continu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ifac.org/sites/default/files/publications/files/IFAC-Evaluating-the-Costing-Journey_0.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1538280" y="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nk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1219320" y="9907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 van der Merw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onvdm@altavia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: 513-257-745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wn Sedgl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edgley@altavia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: 214-649-258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xplosion 2 1"/>
          <p:cNvSpPr/>
          <p:nvPr/>
        </p:nvSpPr>
        <p:spPr>
          <a:xfrm>
            <a:off x="92160" y="4191120"/>
            <a:ext cx="7361280" cy="99036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BDB9FE-9DF0-4FE7-82AB-3B82C9F6B6C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1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2"/>
          <p:cNvSpPr/>
          <p:nvPr/>
        </p:nvSpPr>
        <p:spPr>
          <a:xfrm>
            <a:off x="533520" y="203040"/>
            <a:ext cx="6765840" cy="93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is Alta Vi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457200" y="1125360"/>
            <a:ext cx="699624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Via Wrote the Book on Activity-based Costing in S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ed in the IFAC Committee that Wrote Their International Good Practice Guide Establishing Principles for Management Accou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d on A Task Force for Similar Principles Document for the Institute of Management Accountants (the MCC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a Via Sponsors a Professorship for Management Accounting at Northern Illinois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3360" indent="-333360"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333360"/>
                <a:tab algn="l" pos="790560"/>
                <a:tab algn="l" pos="1247760"/>
                <a:tab algn="l" pos="1704960"/>
                <a:tab algn="l" pos="2162160"/>
                <a:tab algn="l" pos="2619360"/>
                <a:tab algn="l" pos="3076560"/>
                <a:tab algn="l" pos="3533760"/>
                <a:tab algn="l" pos="3990960"/>
                <a:tab algn="l" pos="4448160"/>
                <a:tab algn="l" pos="4905360"/>
                <a:tab algn="l" pos="5362560"/>
                <a:tab algn="l" pos="5819760"/>
                <a:tab algn="l" pos="6276960"/>
                <a:tab algn="l" pos="6734160"/>
                <a:tab algn="l" pos="7191360"/>
                <a:tab algn="l" pos="7648560"/>
                <a:tab algn="l" pos="8105760"/>
                <a:tab algn="l" pos="8562960"/>
                <a:tab algn="l" pos="9020160"/>
                <a:tab algn="l" pos="94773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4" descr=""/>
          <p:cNvPicPr/>
          <p:nvPr/>
        </p:nvPicPr>
        <p:blipFill>
          <a:blip r:embed="rId1"/>
          <a:srcRect l="38405" t="65624" r="54607" b="28325"/>
          <a:stretch/>
        </p:blipFill>
        <p:spPr>
          <a:xfrm>
            <a:off x="1208160" y="5549760"/>
            <a:ext cx="1306440" cy="8510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"/>
          <p:cNvPicPr/>
          <p:nvPr/>
        </p:nvPicPr>
        <p:blipFill>
          <a:blip r:embed="rId2"/>
          <a:srcRect l="10064" t="0" r="14411" b="0"/>
          <a:stretch/>
        </p:blipFill>
        <p:spPr>
          <a:xfrm>
            <a:off x="5943600" y="4944960"/>
            <a:ext cx="1371600" cy="188748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4"/>
          <p:cNvSpPr/>
          <p:nvPr/>
        </p:nvSpPr>
        <p:spPr>
          <a:xfrm>
            <a:off x="1370160" y="449568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re Your Costing Geeks!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"/>
          <p:cNvSpPr/>
          <p:nvPr/>
        </p:nvSpPr>
        <p:spPr>
          <a:xfrm>
            <a:off x="1905120" y="2044800"/>
            <a:ext cx="6275160" cy="457200"/>
          </a:xfrm>
          <a:prstGeom prst="rect">
            <a:avLst/>
          </a:prstGeom>
          <a:solidFill>
            <a:srgbClr val="99ccff">
              <a:alpha val="35000"/>
            </a:srgbClr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538280" y="43344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538280" y="146988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out Alta V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 to Conceptual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ing Its Int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Ty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dership and Change Manag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1920" indent="-3319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Cost Infor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74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331920"/>
                <a:tab algn="l" pos="789120"/>
                <a:tab algn="l" pos="1246320"/>
                <a:tab algn="l" pos="1703520"/>
                <a:tab algn="l" pos="2160720"/>
                <a:tab algn="l" pos="2617920"/>
                <a:tab algn="l" pos="3075120"/>
                <a:tab algn="l" pos="3532320"/>
                <a:tab algn="l" pos="3989520"/>
                <a:tab algn="l" pos="4446720"/>
                <a:tab algn="l" pos="4903920"/>
                <a:tab algn="l" pos="5361120"/>
                <a:tab algn="l" pos="5818320"/>
                <a:tab algn="l" pos="6275520"/>
                <a:tab algn="l" pos="6732720"/>
                <a:tab algn="l" pos="7189920"/>
                <a:tab algn="l" pos="7647120"/>
                <a:tab algn="l" pos="8104320"/>
                <a:tab algn="l" pos="8561520"/>
                <a:tab algn="l" pos="9018720"/>
                <a:tab algn="l" pos="94759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B5CF6-F6DF-406A-B7E9-4DBCC04B941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1"/>
          <p:cNvSpPr/>
          <p:nvPr/>
        </p:nvSpPr>
        <p:spPr>
          <a:xfrm>
            <a:off x="45720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7"/>
          <p:cNvSpPr/>
          <p:nvPr/>
        </p:nvSpPr>
        <p:spPr>
          <a:xfrm>
            <a:off x="380988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"/>
          <p:cNvSpPr/>
          <p:nvPr/>
        </p:nvSpPr>
        <p:spPr>
          <a:xfrm>
            <a:off x="380988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9"/>
          <p:cNvSpPr/>
          <p:nvPr/>
        </p:nvSpPr>
        <p:spPr>
          <a:xfrm>
            <a:off x="45720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Box 2"/>
          <p:cNvSpPr/>
          <p:nvPr/>
        </p:nvSpPr>
        <p:spPr>
          <a:xfrm>
            <a:off x="610560" y="1235160"/>
            <a:ext cx="2893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77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Box 11"/>
          <p:cNvSpPr/>
          <p:nvPr/>
        </p:nvSpPr>
        <p:spPr>
          <a:xfrm>
            <a:off x="4302360" y="1235160"/>
            <a:ext cx="221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37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1627920" y="39020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Box 13"/>
          <p:cNvSpPr/>
          <p:nvPr/>
        </p:nvSpPr>
        <p:spPr>
          <a:xfrm>
            <a:off x="4881600" y="3902040"/>
            <a:ext cx="85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1"/>
          <p:cNvSpPr/>
          <p:nvPr/>
        </p:nvSpPr>
        <p:spPr>
          <a:xfrm>
            <a:off x="6621480" y="6399360"/>
            <a:ext cx="998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0832-F13F-4553-A8FB-9AB6053C445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1440" y="-14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1"/>
          <p:cNvSpPr/>
          <p:nvPr/>
        </p:nvSpPr>
        <p:spPr>
          <a:xfrm>
            <a:off x="45720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3809880" y="762120"/>
            <a:ext cx="3200400" cy="2514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8"/>
          <p:cNvSpPr/>
          <p:nvPr/>
        </p:nvSpPr>
        <p:spPr>
          <a:xfrm>
            <a:off x="380988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9"/>
          <p:cNvSpPr/>
          <p:nvPr/>
        </p:nvSpPr>
        <p:spPr>
          <a:xfrm>
            <a:off x="457200" y="3429000"/>
            <a:ext cx="3200400" cy="2514600"/>
          </a:xfrm>
          <a:prstGeom prst="rect">
            <a:avLst/>
          </a:prstGeom>
          <a:solidFill>
            <a:srgbClr val="b2b2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14"/>
          <p:cNvSpPr/>
          <p:nvPr/>
        </p:nvSpPr>
        <p:spPr>
          <a:xfrm>
            <a:off x="3871800" y="1203480"/>
            <a:ext cx="30625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37 - the Number of Years MA Operated without Principles (from 1772 to 2009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15"/>
          <p:cNvSpPr/>
          <p:nvPr/>
        </p:nvSpPr>
        <p:spPr>
          <a:xfrm>
            <a:off x="541440" y="3870360"/>
            <a:ext cx="3060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 - the Number of  Principles that Govern MA namely: Causality and Ana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16"/>
          <p:cNvSpPr/>
          <p:nvPr/>
        </p:nvSpPr>
        <p:spPr>
          <a:xfrm>
            <a:off x="3886200" y="3870360"/>
            <a:ext cx="30621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 - the Number of Principle-based MA Approaches in the Marketplace: RC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2"/>
          <p:cNvSpPr/>
          <p:nvPr/>
        </p:nvSpPr>
        <p:spPr>
          <a:xfrm>
            <a:off x="527040" y="819000"/>
            <a:ext cx="30607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772 – Approximate  Year the Concept of Variable Cost First Appears in the Literature and Arguably the Beginning of M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ne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1" name="Picture 4" descr="preferences_edit"/>
          <p:cNvPicPr/>
          <p:nvPr/>
        </p:nvPicPr>
        <p:blipFill>
          <a:blip r:embed="rId1"/>
          <a:stretch/>
        </p:blipFill>
        <p:spPr>
          <a:xfrm>
            <a:off x="3075120" y="2590920"/>
            <a:ext cx="1344600" cy="13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1974960" y="1830240"/>
            <a:ext cx="3968640" cy="342756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1"/>
          <p:cNvSpPr/>
          <p:nvPr/>
        </p:nvSpPr>
        <p:spPr>
          <a:xfrm>
            <a:off x="770040" y="1252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ne Thing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 Box 1"/>
          <p:cNvSpPr/>
          <p:nvPr/>
        </p:nvSpPr>
        <p:spPr>
          <a:xfrm>
            <a:off x="762120" y="83808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nager’s Brain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"/>
          <p:cNvSpPr/>
          <p:nvPr/>
        </p:nvSpPr>
        <p:spPr>
          <a:xfrm>
            <a:off x="762120" y="5029200"/>
            <a:ext cx="6265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Disclaimer: Image Does Not Reflect Actual Siz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1:17:13Z</dcterms:created>
  <dc:creator>Anton van der Merwe</dc:creator>
  <dc:description/>
  <dc:language>en-US</dc:language>
  <cp:lastModifiedBy>AvdM</cp:lastModifiedBy>
  <cp:lastPrinted>2014-04-28T18:03:48Z</cp:lastPrinted>
  <dcterms:modified xsi:type="dcterms:W3CDTF">2014-04-29T02:09:17Z</dcterms:modified>
  <cp:revision>206</cp:revision>
  <dc:subject/>
  <dc:title>Slide 1</dc:title>
</cp:coreProperties>
</file>