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6.png" ContentType="image/png"/>
  <Override PartName="/ppt/media/image1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25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AutoShape 1"/>
          <p:cNvSpPr/>
          <p:nvPr/>
        </p:nvSpPr>
        <p:spPr>
          <a:xfrm>
            <a:off x="0" y="0"/>
            <a:ext cx="7010280" cy="9236160"/>
          </a:xfrm>
          <a:custGeom>
            <a:avLst/>
            <a:gdLst>
              <a:gd name="textAreaLeft" fmla="*/ 360 w 7010280"/>
              <a:gd name="textAreaRight" fmla="*/ 7009920 w 7010280"/>
              <a:gd name="textAreaTop" fmla="*/ 360 h 9236160"/>
              <a:gd name="textAreaBottom" fmla="*/ 9235800 h 9236160"/>
            </a:gdLst>
            <a:ahLst/>
            <a:rect l="textAreaLeft" t="textAreaTop" r="textAreaRight" b="textAreaBottom"/>
            <a:pathLst>
              <a:path w="21600" h="28458">
                <a:moveTo>
                  <a:pt x="4" y="0"/>
                </a:moveTo>
                <a:arcTo wR="4" hR="4" stAng="16200000" swAng="-5400000"/>
                <a:lnTo>
                  <a:pt x="0" y="28454"/>
                </a:lnTo>
                <a:arcTo wR="4" hR="4" stAng="10800000" swAng="-5400000"/>
                <a:lnTo>
                  <a:pt x="21596" y="28458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AutoShape 2"/>
          <p:cNvSpPr/>
          <p:nvPr/>
        </p:nvSpPr>
        <p:spPr>
          <a:xfrm>
            <a:off x="0" y="0"/>
            <a:ext cx="7010280" cy="9236160"/>
          </a:xfrm>
          <a:custGeom>
            <a:avLst/>
            <a:gdLst>
              <a:gd name="textAreaLeft" fmla="*/ 360 w 7010280"/>
              <a:gd name="textAreaRight" fmla="*/ 7009920 w 7010280"/>
              <a:gd name="textAreaTop" fmla="*/ 360 h 9236160"/>
              <a:gd name="textAreaBottom" fmla="*/ 9235800 h 9236160"/>
            </a:gdLst>
            <a:ahLst/>
            <a:rect l="textAreaLeft" t="textAreaTop" r="textAreaRight" b="textAreaBottom"/>
            <a:pathLst>
              <a:path w="21600" h="28458">
                <a:moveTo>
                  <a:pt x="4" y="0"/>
                </a:moveTo>
                <a:arcTo wR="4" hR="4" stAng="16200000" swAng="-5400000"/>
                <a:lnTo>
                  <a:pt x="0" y="28454"/>
                </a:lnTo>
                <a:arcTo wR="4" hR="4" stAng="10800000" swAng="-5400000"/>
                <a:lnTo>
                  <a:pt x="21596" y="28458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AutoShape 3"/>
          <p:cNvSpPr/>
          <p:nvPr/>
        </p:nvSpPr>
        <p:spPr>
          <a:xfrm>
            <a:off x="0" y="0"/>
            <a:ext cx="7010280" cy="9236160"/>
          </a:xfrm>
          <a:custGeom>
            <a:avLst/>
            <a:gdLst>
              <a:gd name="textAreaLeft" fmla="*/ 360 w 7010280"/>
              <a:gd name="textAreaRight" fmla="*/ 7009920 w 7010280"/>
              <a:gd name="textAreaTop" fmla="*/ 360 h 9236160"/>
              <a:gd name="textAreaBottom" fmla="*/ 9235800 h 9236160"/>
            </a:gdLst>
            <a:ahLst/>
            <a:rect l="textAreaLeft" t="textAreaTop" r="textAreaRight" b="textAreaBottom"/>
            <a:pathLst>
              <a:path w="21600" h="28458">
                <a:moveTo>
                  <a:pt x="4" y="0"/>
                </a:moveTo>
                <a:arcTo wR="4" hR="4" stAng="16200000" swAng="-5400000"/>
                <a:lnTo>
                  <a:pt x="0" y="28454"/>
                </a:lnTo>
                <a:arcTo wR="4" hR="4" stAng="10800000" swAng="-5400000"/>
                <a:lnTo>
                  <a:pt x="21596" y="28458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AutoShape 4"/>
          <p:cNvSpPr/>
          <p:nvPr/>
        </p:nvSpPr>
        <p:spPr>
          <a:xfrm>
            <a:off x="0" y="0"/>
            <a:ext cx="7010280" cy="9236160"/>
          </a:xfrm>
          <a:custGeom>
            <a:avLst/>
            <a:gdLst>
              <a:gd name="textAreaLeft" fmla="*/ 360 w 7010280"/>
              <a:gd name="textAreaRight" fmla="*/ 7009920 w 7010280"/>
              <a:gd name="textAreaTop" fmla="*/ 360 h 9236160"/>
              <a:gd name="textAreaBottom" fmla="*/ 9235800 h 9236160"/>
            </a:gdLst>
            <a:ahLst/>
            <a:rect l="textAreaLeft" t="textAreaTop" r="textAreaRight" b="textAreaBottom"/>
            <a:pathLst>
              <a:path w="21600" h="28458">
                <a:moveTo>
                  <a:pt x="4" y="0"/>
                </a:moveTo>
                <a:arcTo wR="4" hR="4" stAng="16200000" swAng="-5400000"/>
                <a:lnTo>
                  <a:pt x="0" y="28454"/>
                </a:lnTo>
                <a:arcTo wR="4" hR="4" stAng="10800000" swAng="-5400000"/>
                <a:lnTo>
                  <a:pt x="21596" y="28458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AutoShape 5"/>
          <p:cNvSpPr/>
          <p:nvPr/>
        </p:nvSpPr>
        <p:spPr>
          <a:xfrm>
            <a:off x="0" y="0"/>
            <a:ext cx="7010280" cy="9236160"/>
          </a:xfrm>
          <a:custGeom>
            <a:avLst/>
            <a:gdLst>
              <a:gd name="textAreaLeft" fmla="*/ 360 w 7010280"/>
              <a:gd name="textAreaRight" fmla="*/ 7009920 w 7010280"/>
              <a:gd name="textAreaTop" fmla="*/ 360 h 9236160"/>
              <a:gd name="textAreaBottom" fmla="*/ 9235800 h 9236160"/>
            </a:gdLst>
            <a:ahLst/>
            <a:rect l="textAreaLeft" t="textAreaTop" r="textAreaRight" b="textAreaBottom"/>
            <a:pathLst>
              <a:path w="21600" h="28458">
                <a:moveTo>
                  <a:pt x="4" y="0"/>
                </a:moveTo>
                <a:arcTo wR="4" hR="4" stAng="16200000" swAng="-5400000"/>
                <a:lnTo>
                  <a:pt x="0" y="28454"/>
                </a:lnTo>
                <a:arcTo wR="4" hR="4" stAng="10800000" swAng="-5400000"/>
                <a:lnTo>
                  <a:pt x="21596" y="28458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AutoShape 6"/>
          <p:cNvSpPr/>
          <p:nvPr/>
        </p:nvSpPr>
        <p:spPr>
          <a:xfrm>
            <a:off x="0" y="0"/>
            <a:ext cx="7010280" cy="9236160"/>
          </a:xfrm>
          <a:custGeom>
            <a:avLst/>
            <a:gdLst>
              <a:gd name="textAreaLeft" fmla="*/ 360 w 7010280"/>
              <a:gd name="textAreaRight" fmla="*/ 7009920 w 7010280"/>
              <a:gd name="textAreaTop" fmla="*/ 360 h 9236160"/>
              <a:gd name="textAreaBottom" fmla="*/ 9235800 h 9236160"/>
            </a:gdLst>
            <a:ahLst/>
            <a:rect l="textAreaLeft" t="textAreaTop" r="textAreaRight" b="textAreaBottom"/>
            <a:pathLst>
              <a:path w="21600" h="28458">
                <a:moveTo>
                  <a:pt x="4" y="0"/>
                </a:moveTo>
                <a:arcTo wR="4" hR="4" stAng="16200000" swAng="-5400000"/>
                <a:lnTo>
                  <a:pt x="0" y="28454"/>
                </a:lnTo>
                <a:arcTo wR="4" hR="4" stAng="10800000" swAng="-5400000"/>
                <a:lnTo>
                  <a:pt x="21596" y="28458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AutoShape 7"/>
          <p:cNvSpPr/>
          <p:nvPr/>
        </p:nvSpPr>
        <p:spPr>
          <a:xfrm>
            <a:off x="0" y="0"/>
            <a:ext cx="7010280" cy="9236160"/>
          </a:xfrm>
          <a:custGeom>
            <a:avLst/>
            <a:gdLst>
              <a:gd name="textAreaLeft" fmla="*/ 360 w 7010280"/>
              <a:gd name="textAreaRight" fmla="*/ 7009920 w 7010280"/>
              <a:gd name="textAreaTop" fmla="*/ 360 h 9236160"/>
              <a:gd name="textAreaBottom" fmla="*/ 9235800 h 9236160"/>
            </a:gdLst>
            <a:ahLst/>
            <a:rect l="textAreaLeft" t="textAreaTop" r="textAreaRight" b="textAreaBottom"/>
            <a:pathLst>
              <a:path w="21600" h="28458">
                <a:moveTo>
                  <a:pt x="4" y="0"/>
                </a:moveTo>
                <a:arcTo wR="4" hR="4" stAng="16200000" swAng="-5400000"/>
                <a:lnTo>
                  <a:pt x="0" y="28454"/>
                </a:lnTo>
                <a:arcTo wR="4" hR="4" stAng="10800000" swAng="-5400000"/>
                <a:lnTo>
                  <a:pt x="21596" y="28458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8"/>
          <p:cNvSpPr/>
          <p:nvPr/>
        </p:nvSpPr>
        <p:spPr>
          <a:xfrm>
            <a:off x="0" y="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9"/>
          <p:cNvSpPr/>
          <p:nvPr/>
        </p:nvSpPr>
        <p:spPr>
          <a:xfrm>
            <a:off x="3971880" y="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97000" y="691920"/>
            <a:ext cx="4603680" cy="345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33480" y="4387680"/>
            <a:ext cx="5130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12"/>
          <p:cNvSpPr/>
          <p:nvPr/>
        </p:nvSpPr>
        <p:spPr>
          <a:xfrm>
            <a:off x="0" y="877572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Num" idx="6"/>
          </p:nvPr>
        </p:nvSpPr>
        <p:spPr>
          <a:xfrm>
            <a:off x="3971520" y="8774280"/>
            <a:ext cx="30258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26478B-AFEC-43E0-BFC9-11B04E1B75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13"/>
          <p:cNvSpPr/>
          <p:nvPr/>
        </p:nvSpPr>
        <p:spPr>
          <a:xfrm>
            <a:off x="3971880" y="8774280"/>
            <a:ext cx="3025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558344-169E-4702-8E3D-25CF40F10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Text Box 1"/>
          <p:cNvSpPr/>
          <p:nvPr/>
        </p:nvSpPr>
        <p:spPr>
          <a:xfrm>
            <a:off x="3971880" y="877572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6C796A-1DF6-4DA6-B413-EE4911A5E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7720" cy="346536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33120" y="4387680"/>
            <a:ext cx="5141880" cy="41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  <a:ea typeface="MS PGothic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33480" y="4387680"/>
            <a:ext cx="5130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3971880" y="8774280"/>
            <a:ext cx="3025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82400D-AF07-4452-AC4B-342FA7C035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13"/>
          <p:cNvSpPr/>
          <p:nvPr/>
        </p:nvSpPr>
        <p:spPr>
          <a:xfrm>
            <a:off x="3971880" y="8774280"/>
            <a:ext cx="3025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7FE07B-8DD6-4A9F-87F8-64F1B47FA2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7720" cy="346536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33120" y="4387680"/>
            <a:ext cx="5141880" cy="41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33480" y="4387680"/>
            <a:ext cx="5130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3971880" y="8774280"/>
            <a:ext cx="3025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0487B7-4275-4BAA-BE8C-51CDF4091B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933480" y="4387680"/>
            <a:ext cx="5130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3971880" y="8774280"/>
            <a:ext cx="3025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10D19A-B8FB-4C8F-88F6-A5F756F073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13"/>
          <p:cNvSpPr/>
          <p:nvPr/>
        </p:nvSpPr>
        <p:spPr>
          <a:xfrm>
            <a:off x="3971880" y="8774280"/>
            <a:ext cx="3025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AE9CF4-84BA-40D7-8164-C511DA84D2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7720" cy="346536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33120" y="4387680"/>
            <a:ext cx="5141880" cy="41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13"/>
          <p:cNvSpPr/>
          <p:nvPr/>
        </p:nvSpPr>
        <p:spPr>
          <a:xfrm>
            <a:off x="3971880" y="8774280"/>
            <a:ext cx="3025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1FAC49-CE1A-4E2F-8018-5AC9C13915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7720" cy="346536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33120" y="4387680"/>
            <a:ext cx="5141880" cy="41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13"/>
          <p:cNvSpPr/>
          <p:nvPr/>
        </p:nvSpPr>
        <p:spPr>
          <a:xfrm>
            <a:off x="3971880" y="8774280"/>
            <a:ext cx="3025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F78653-E9D6-4643-9D78-C4DF8253A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7720" cy="346536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33120" y="4387680"/>
            <a:ext cx="5141880" cy="41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98440" y="693720"/>
            <a:ext cx="4600800" cy="345132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33480" y="4387680"/>
            <a:ext cx="5130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lide Number Placeholder 3"/>
          <p:cNvSpPr/>
          <p:nvPr/>
        </p:nvSpPr>
        <p:spPr>
          <a:xfrm>
            <a:off x="3971880" y="8774280"/>
            <a:ext cx="3025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F88418-C13A-4A82-B036-6C52CB5A8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98440" y="693720"/>
            <a:ext cx="4600800" cy="345132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933480" y="4387680"/>
            <a:ext cx="5130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lide Number Placeholder 3"/>
          <p:cNvSpPr/>
          <p:nvPr/>
        </p:nvSpPr>
        <p:spPr>
          <a:xfrm>
            <a:off x="3971880" y="8774280"/>
            <a:ext cx="3025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20C89D-E896-41CF-AD81-FCB98610DD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98440" y="693720"/>
            <a:ext cx="4600800" cy="345132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933480" y="4387680"/>
            <a:ext cx="5130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Slide Number Placeholder 3"/>
          <p:cNvSpPr/>
          <p:nvPr/>
        </p:nvSpPr>
        <p:spPr>
          <a:xfrm>
            <a:off x="3971880" y="8774280"/>
            <a:ext cx="3025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736D51-0B63-40F0-BCB4-EFAEA0C9F6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98440" y="693720"/>
            <a:ext cx="4600800" cy="345132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933480" y="4387680"/>
            <a:ext cx="5130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3971880" y="8774280"/>
            <a:ext cx="3025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8B9842-8FE5-41D1-A24F-D1F127AD5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98440" y="693720"/>
            <a:ext cx="4600800" cy="345132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933480" y="4387680"/>
            <a:ext cx="5130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lide Number Placeholder 3"/>
          <p:cNvSpPr/>
          <p:nvPr/>
        </p:nvSpPr>
        <p:spPr>
          <a:xfrm>
            <a:off x="3971880" y="8774280"/>
            <a:ext cx="3025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EF8219-2713-42D1-9466-98CCEFC0D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98440" y="693720"/>
            <a:ext cx="4600800" cy="345132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33480" y="4387680"/>
            <a:ext cx="5130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Slide Number Placeholder 3"/>
          <p:cNvSpPr/>
          <p:nvPr/>
        </p:nvSpPr>
        <p:spPr>
          <a:xfrm>
            <a:off x="3971880" y="8774280"/>
            <a:ext cx="3025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BF7414-91E9-41FB-A1A2-F929257D8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98440" y="693720"/>
            <a:ext cx="4600800" cy="345132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933480" y="4387680"/>
            <a:ext cx="5130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Slide Number Placeholder 3"/>
          <p:cNvSpPr/>
          <p:nvPr/>
        </p:nvSpPr>
        <p:spPr>
          <a:xfrm>
            <a:off x="3971880" y="8774280"/>
            <a:ext cx="3025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A168FE-DC52-401D-AFB8-AF1E6F2CE7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13"/>
          <p:cNvSpPr/>
          <p:nvPr/>
        </p:nvSpPr>
        <p:spPr>
          <a:xfrm>
            <a:off x="3971880" y="8774280"/>
            <a:ext cx="3025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698ECB-03B4-4F8C-B0CA-35433DC7E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7720" cy="346536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33120" y="4387680"/>
            <a:ext cx="5141880" cy="41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13"/>
          <p:cNvSpPr/>
          <p:nvPr/>
        </p:nvSpPr>
        <p:spPr>
          <a:xfrm>
            <a:off x="3971880" y="8774280"/>
            <a:ext cx="3025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3281FA-ED2C-4301-8268-E8DA498473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7720" cy="346536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33120" y="4387320"/>
            <a:ext cx="5132520" cy="41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98440" y="693720"/>
            <a:ext cx="4600800" cy="345132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933480" y="4387680"/>
            <a:ext cx="5130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3971880" y="8774280"/>
            <a:ext cx="3025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C72DA6-58CC-4514-8AB0-B86231428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98440" y="693720"/>
            <a:ext cx="4600800" cy="345132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33480" y="4387680"/>
            <a:ext cx="5130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3971880" y="8774280"/>
            <a:ext cx="3025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34FC89-2FF8-4BC9-9DA7-7479788AA9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13"/>
          <p:cNvSpPr/>
          <p:nvPr/>
        </p:nvSpPr>
        <p:spPr>
          <a:xfrm>
            <a:off x="3971880" y="8774280"/>
            <a:ext cx="3025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CE7042-568E-4528-86AB-3CABBB7F1D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7720" cy="346536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33120" y="4387680"/>
            <a:ext cx="5141880" cy="41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13"/>
          <p:cNvSpPr/>
          <p:nvPr/>
        </p:nvSpPr>
        <p:spPr>
          <a:xfrm>
            <a:off x="3971880" y="8774280"/>
            <a:ext cx="3025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2D1C05-DED8-4865-B14F-3065C9FD72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7720" cy="346536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33120" y="4387680"/>
            <a:ext cx="5141880" cy="41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13"/>
          <p:cNvSpPr/>
          <p:nvPr/>
        </p:nvSpPr>
        <p:spPr>
          <a:xfrm>
            <a:off x="3971880" y="8774280"/>
            <a:ext cx="3025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F668F0-1510-44BC-A2D0-CEF0A34CD6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7720" cy="346536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33120" y="4387320"/>
            <a:ext cx="5132520" cy="41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13"/>
          <p:cNvSpPr/>
          <p:nvPr/>
        </p:nvSpPr>
        <p:spPr>
          <a:xfrm>
            <a:off x="3971880" y="8774280"/>
            <a:ext cx="3025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4C2D86-C0F1-4CED-A78D-3A6C6280B5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7720" cy="346536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33120" y="4387680"/>
            <a:ext cx="5141880" cy="41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13"/>
          <p:cNvSpPr/>
          <p:nvPr/>
        </p:nvSpPr>
        <p:spPr>
          <a:xfrm>
            <a:off x="3971880" y="8774280"/>
            <a:ext cx="3025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413044-90AD-4640-A61A-8A21763648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7720" cy="346536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33120" y="4387320"/>
            <a:ext cx="5132520" cy="41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13"/>
          <p:cNvSpPr/>
          <p:nvPr/>
        </p:nvSpPr>
        <p:spPr>
          <a:xfrm>
            <a:off x="3971880" y="8774280"/>
            <a:ext cx="3025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2B5915-8C9D-410A-9ADA-103714CD2C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7720" cy="346536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33120" y="4387320"/>
            <a:ext cx="5132520" cy="41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81CEE-B108-4113-8C92-A72E01844D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6770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160" y="4124520"/>
            <a:ext cx="6770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5651E-37C3-4355-BB96-FA8B5FC46F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0248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160" y="41245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002480" y="41245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CE60F-B24B-44F2-835D-6FB45E9493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822400" y="19807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111640" y="19807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160" y="41245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822400" y="41245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111640" y="41245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605C4-4500-47D0-9731-5F34A1DB4F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542EA-DB7D-49E4-B9F6-E9FC278D841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33160" y="1980720"/>
            <a:ext cx="677052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AE543-4B64-47C7-B484-608FFC10D0F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67705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623A0-502A-42A4-A3C2-A0DDD793D77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303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02480" y="1980720"/>
            <a:ext cx="3303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EDC79-D04D-46D8-A0CA-447D7C1291F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3837A-FF7E-43F5-8620-50EA03EFDC9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33160" y="457200"/>
            <a:ext cx="677052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F4896-160A-4794-9CB5-6C3CC6E94A6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02480" y="1980720"/>
            <a:ext cx="3303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3160" y="41245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B8F33-B1D4-4FBB-9C5B-84FF9AA8C3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160" y="1980720"/>
            <a:ext cx="677052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42FD0-7950-48E9-A7EA-31DF5B5200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303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0248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002480" y="41245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170E6-2F36-40DF-94C5-4F05D17B18F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00248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160" y="4124520"/>
            <a:ext cx="6770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39E61-F792-433B-8C38-EC79B9413B4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6770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3160" y="4124520"/>
            <a:ext cx="6770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82B4F-1659-4098-B887-46DC0472684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0248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41245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002480" y="41245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EBEE1-D362-4103-A0DF-B0190FFB7D2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822400" y="19807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111640" y="19807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3160" y="41245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822400" y="41245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111640" y="41245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EA70A-D223-408F-AC39-2EF86B901C5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160" y="1980720"/>
            <a:ext cx="677052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67705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303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002480" y="1980720"/>
            <a:ext cx="3303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67705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022B4-F005-407C-BB6D-3C74BCE294E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533160" y="457200"/>
            <a:ext cx="677052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002480" y="1980720"/>
            <a:ext cx="3303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160" y="41245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303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0248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002480" y="41245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00248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160" y="4124520"/>
            <a:ext cx="6770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6770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3160" y="4124520"/>
            <a:ext cx="6770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00248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3160" y="41245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002480" y="41245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822400" y="19807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111640" y="19807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3160" y="41245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2822400" y="41245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111640" y="41245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533160" y="1980720"/>
            <a:ext cx="677052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67705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303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002480" y="1980720"/>
            <a:ext cx="3303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7ECE0-5970-4D00-8B78-8B425F20163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303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002480" y="1980720"/>
            <a:ext cx="3303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533160" y="457200"/>
            <a:ext cx="677052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002480" y="1980720"/>
            <a:ext cx="3303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33160" y="41245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303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00248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002480" y="41245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00248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33160" y="4124520"/>
            <a:ext cx="6770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6770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33160" y="4124520"/>
            <a:ext cx="6770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00248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33160" y="41245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002480" y="41245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2822400" y="19807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111640" y="19807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533160" y="41245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2822400" y="41245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111640" y="41245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79D6-7A7C-46B7-A063-56547CFDBD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18DA5-BAE8-4A33-A501-F6A63063B15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533160" y="1980720"/>
            <a:ext cx="677052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E9D8-86F5-4BC1-8FFF-21FD419B289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67705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6A6D-B22A-437A-92F4-BC8899EDF2E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303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002480" y="1980720"/>
            <a:ext cx="3303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E387-0685-44E3-8E0D-670CB8191BF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E6E1-DEAA-4313-959D-78908888E9E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533160" y="457200"/>
            <a:ext cx="677052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6CBA-F5C2-4F54-9FC0-C651757A8F4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002480" y="1980720"/>
            <a:ext cx="3303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33160" y="41245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7E47-A4A2-4213-BC32-BA81F3F2501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303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00248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002480" y="41245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59A3-BE3E-45FC-973F-DD593C48611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00248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33160" y="4124520"/>
            <a:ext cx="6770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561A-2537-4F95-A5CB-2C6B2136767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6770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33160" y="4124520"/>
            <a:ext cx="6770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D9E3-5B55-4AA7-8A4C-9E47D4DF45B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00248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33160" y="41245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002480" y="41245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0699-BF25-4858-9D22-588C187302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33160" y="457200"/>
            <a:ext cx="677052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C0478-D9D7-4A26-B5FF-FD1DCC1F88A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2822400" y="19807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111640" y="19807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533160" y="41245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2822400" y="41245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5111640" y="41245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50BF-05E8-4F67-AE56-2FE4B61A78B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63DD77-4AF2-4E91-BBA6-F8066562C76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533160" y="1980720"/>
            <a:ext cx="677052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9684FC-A631-4084-A434-9EBBC289A74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67705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C59D37-E526-4E44-833A-6D4C81ECA3B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303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002480" y="1980720"/>
            <a:ext cx="3303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67E8BC-C0B6-4A03-B167-57B53BB060C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1C2A88-62CA-4904-A471-AE3C8701A61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533160" y="457200"/>
            <a:ext cx="677052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874A5D-19E1-4850-9990-43F292D6124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002480" y="1980720"/>
            <a:ext cx="3303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33160" y="41245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121CDA-C1D0-49DE-B46F-ADA31360604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303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00248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002480" y="41245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E36174-9106-4600-B3B1-90C6A554E3F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00248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3160" y="4124520"/>
            <a:ext cx="6770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95A489-4AB0-47A7-9451-8EE3734AAC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002480" y="1980720"/>
            <a:ext cx="3303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160" y="41245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84B79-CFD6-415B-9C81-7EEEE699D56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6770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33160" y="4124520"/>
            <a:ext cx="6770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A579B0-BE63-45EF-92A1-031BBDF5737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00248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33160" y="41245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002480" y="41245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726E4F-00AB-4362-BC87-731A1882B8C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2822400" y="19807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111640" y="19807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33160" y="41245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2822400" y="41245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5111640" y="41245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DF0DB4-5A45-4D31-A0CB-670C75D04E2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CEDA24-6D7D-46C4-9F9D-BD6903705D2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33160" y="1980720"/>
            <a:ext cx="677052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4A508F-CF52-43F1-B74F-0790DF5641C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67705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32FAA8-D547-44D7-A5BA-4174912E42A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303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002480" y="1980720"/>
            <a:ext cx="3303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2D3250-2E16-4E35-8C8F-48EECAE5076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8795C0-4669-4735-AE9E-76A05CAE97F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33160" y="457200"/>
            <a:ext cx="677052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05B867-AD15-490F-AFEC-EA45C915243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002480" y="1980720"/>
            <a:ext cx="3303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33160" y="41245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52345F-337A-44DD-B189-C245D5DDD6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303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00248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002480" y="41245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C2E96-148A-4234-AD57-2C199EF6ECD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303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00248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002480" y="41245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42AF9E-B657-4320-A8B5-506C89B7CAE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00248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33160" y="4124520"/>
            <a:ext cx="6770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72FD18-A1AC-4916-A918-3FB02D841A9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6770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33160" y="4124520"/>
            <a:ext cx="6770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B2CFFC-42EB-4075-9F4F-E1F6DFF798D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00248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33160" y="41245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002480" y="41245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F66564-9EFE-48E8-8A1F-D9888C5D2A4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2822400" y="19807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111640" y="19807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33160" y="41245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2822400" y="41245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5111640" y="41245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D91393-DD54-4D46-953F-8B3385121A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00248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160" y="4124520"/>
            <a:ext cx="6770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D911A-3D4A-4DFC-8781-1D5212D10D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980720"/>
            <a:ext cx="67705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533520" y="6248520"/>
            <a:ext cx="19047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26668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49720" y="6399360"/>
            <a:ext cx="7700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2EF0EB-D129-44F7-B7D0-7188ABF99D9E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7507440" y="0"/>
            <a:ext cx="1672920" cy="6865920"/>
          </a:xfrm>
          <a:prstGeom prst="rect">
            <a:avLst/>
          </a:prstGeom>
          <a:ln w="0">
            <a:noFill/>
          </a:ln>
        </p:spPr>
      </p:pic>
      <p:sp>
        <p:nvSpPr>
          <p:cNvPr id="6" name="Text Box 9"/>
          <p:cNvSpPr/>
          <p:nvPr/>
        </p:nvSpPr>
        <p:spPr>
          <a:xfrm>
            <a:off x="2287440" y="6568920"/>
            <a:ext cx="3961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a Via Consulting All Rights Reserv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2"/>
          <p:cNvSpPr/>
          <p:nvPr/>
        </p:nvSpPr>
        <p:spPr>
          <a:xfrm>
            <a:off x="8763120" y="2286000"/>
            <a:ext cx="609480" cy="507960"/>
          </a:xfrm>
          <a:prstGeom prst="diamond">
            <a:avLst/>
          </a:prstGeom>
          <a:solidFill>
            <a:srgbClr val="3f669a">
              <a:alpha val="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-685800" y="5283360"/>
            <a:ext cx="609480" cy="507960"/>
          </a:xfrm>
          <a:prstGeom prst="diamond">
            <a:avLst/>
          </a:prstGeom>
          <a:solidFill>
            <a:srgbClr val="3f669a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533160" y="1980720"/>
            <a:ext cx="67705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7467120" y="6248160"/>
            <a:ext cx="97956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092564-2891-4D8B-8D98-7FA6B7B918E0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ce6f2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mbria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1" descr=""/>
          <p:cNvPicPr/>
          <p:nvPr/>
        </p:nvPicPr>
        <p:blipFill>
          <a:blip r:embed="rId2"/>
          <a:srcRect l="897" t="710" r="-866" b="-682"/>
          <a:stretch/>
        </p:blipFill>
        <p:spPr>
          <a:xfrm>
            <a:off x="7945560" y="5516640"/>
            <a:ext cx="1163520" cy="1270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533520" y="6248520"/>
            <a:ext cx="19047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26668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7" descr=""/>
          <p:cNvPicPr/>
          <p:nvPr/>
        </p:nvPicPr>
        <p:blipFill>
          <a:blip r:embed="rId2"/>
          <a:stretch/>
        </p:blipFill>
        <p:spPr>
          <a:xfrm>
            <a:off x="7507440" y="0"/>
            <a:ext cx="1672920" cy="68659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9"/>
          <p:cNvSpPr/>
          <p:nvPr/>
        </p:nvSpPr>
        <p:spPr>
          <a:xfrm>
            <a:off x="2287440" y="6568920"/>
            <a:ext cx="3961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a Via Consulting All Rights Reserv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2" descr="F:\avc\avc-us\demos\images\AltaViaConsulting-Banner.jpg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7622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9"/>
          <p:cNvSpPr/>
          <p:nvPr/>
        </p:nvSpPr>
        <p:spPr>
          <a:xfrm>
            <a:off x="0" y="6537240"/>
            <a:ext cx="9144000" cy="121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3" descr="F:\avc\avc-us\demos\images\AltaViaConsulting-Footer.jpg"/>
          <p:cNvPicPr/>
          <p:nvPr/>
        </p:nvPicPr>
        <p:blipFill>
          <a:blip r:embed="rId4"/>
          <a:srcRect l="0" t="0" r="0" b="65969"/>
          <a:stretch/>
        </p:blipFill>
        <p:spPr>
          <a:xfrm>
            <a:off x="0" y="6237360"/>
            <a:ext cx="9144000" cy="6001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11"/>
          <p:cNvSpPr/>
          <p:nvPr/>
        </p:nvSpPr>
        <p:spPr>
          <a:xfrm>
            <a:off x="0" y="1628640"/>
            <a:ext cx="91440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533160" y="1980720"/>
            <a:ext cx="67705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4"/>
          <p:cNvSpPr/>
          <p:nvPr/>
        </p:nvSpPr>
        <p:spPr>
          <a:xfrm>
            <a:off x="533520" y="6248520"/>
            <a:ext cx="19047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26668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7" descr=""/>
          <p:cNvPicPr/>
          <p:nvPr/>
        </p:nvPicPr>
        <p:blipFill>
          <a:blip r:embed="rId2"/>
          <a:stretch/>
        </p:blipFill>
        <p:spPr>
          <a:xfrm>
            <a:off x="7507440" y="0"/>
            <a:ext cx="1672920" cy="686592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9"/>
          <p:cNvSpPr/>
          <p:nvPr/>
        </p:nvSpPr>
        <p:spPr>
          <a:xfrm>
            <a:off x="2287440" y="6568920"/>
            <a:ext cx="3961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a Via Consulting All Rights Reserv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533160" y="1980720"/>
            <a:ext cx="67705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Num" idx="3"/>
          </p:nvPr>
        </p:nvSpPr>
        <p:spPr>
          <a:xfrm>
            <a:off x="6849720" y="6400800"/>
            <a:ext cx="770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F6EE18-A292-44B3-897A-D3FD29FBE58F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4"/>
          <p:cNvSpPr/>
          <p:nvPr/>
        </p:nvSpPr>
        <p:spPr>
          <a:xfrm>
            <a:off x="533520" y="6248520"/>
            <a:ext cx="19047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26668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7" descr=""/>
          <p:cNvPicPr/>
          <p:nvPr/>
        </p:nvPicPr>
        <p:blipFill>
          <a:blip r:embed="rId2"/>
          <a:stretch/>
        </p:blipFill>
        <p:spPr>
          <a:xfrm>
            <a:off x="7507440" y="0"/>
            <a:ext cx="1672920" cy="686592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9"/>
          <p:cNvSpPr/>
          <p:nvPr/>
        </p:nvSpPr>
        <p:spPr>
          <a:xfrm>
            <a:off x="2287440" y="6568920"/>
            <a:ext cx="3961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a Via Consulting All Rights Reserv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533160" y="1980720"/>
            <a:ext cx="67705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4"/>
          </p:nvPr>
        </p:nvSpPr>
        <p:spPr>
          <a:xfrm>
            <a:off x="6621480" y="6399360"/>
            <a:ext cx="9986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629327-BA2A-484E-AA51-F1EB46E6800D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4"/>
          <p:cNvSpPr/>
          <p:nvPr/>
        </p:nvSpPr>
        <p:spPr>
          <a:xfrm>
            <a:off x="533520" y="6248520"/>
            <a:ext cx="19047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26668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7" descr=""/>
          <p:cNvPicPr/>
          <p:nvPr/>
        </p:nvPicPr>
        <p:blipFill>
          <a:blip r:embed="rId2"/>
          <a:stretch/>
        </p:blipFill>
        <p:spPr>
          <a:xfrm>
            <a:off x="7507440" y="0"/>
            <a:ext cx="1672920" cy="686592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9"/>
          <p:cNvSpPr/>
          <p:nvPr/>
        </p:nvSpPr>
        <p:spPr>
          <a:xfrm>
            <a:off x="2287440" y="6568920"/>
            <a:ext cx="3961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a Via Consulting All Rights Reserv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533160" y="1980720"/>
            <a:ext cx="67705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sldNum" idx="5"/>
          </p:nvPr>
        </p:nvSpPr>
        <p:spPr>
          <a:xfrm>
            <a:off x="6773400" y="6399360"/>
            <a:ext cx="8463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DD931E-3992-4A9B-9CB6-04A3F233DB77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image" Target="../media/image17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1"/>
          <p:cNvSpPr/>
          <p:nvPr/>
        </p:nvSpPr>
        <p:spPr>
          <a:xfrm>
            <a:off x="1276200" y="1716120"/>
            <a:ext cx="6643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A: Conceptual Framework for Managerial Co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2"/>
          <p:cNvSpPr/>
          <p:nvPr/>
        </p:nvSpPr>
        <p:spPr>
          <a:xfrm>
            <a:off x="1276200" y="4325760"/>
            <a:ext cx="66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esday, April 2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20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8" name="Picture 2" descr="F:\avc\avc-us\demos\images\AltaViaConsulting-Banner.jpg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176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2"/>
          <p:cNvSpPr/>
          <p:nvPr/>
        </p:nvSpPr>
        <p:spPr>
          <a:xfrm>
            <a:off x="533520" y="49320"/>
            <a:ext cx="6781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Picture 4" descr="brain"/>
          <p:cNvPicPr/>
          <p:nvPr/>
        </p:nvPicPr>
        <p:blipFill>
          <a:blip r:embed="rId1"/>
          <a:stretch/>
        </p:blipFill>
        <p:spPr>
          <a:xfrm>
            <a:off x="5627520" y="762120"/>
            <a:ext cx="1382760" cy="1190520"/>
          </a:xfrm>
          <a:prstGeom prst="rect">
            <a:avLst/>
          </a:prstGeom>
          <a:ln w="0">
            <a:noFill/>
          </a:ln>
        </p:spPr>
      </p:pic>
      <p:sp>
        <p:nvSpPr>
          <p:cNvPr id="368" name="Rectangle 3"/>
          <p:cNvSpPr/>
          <p:nvPr/>
        </p:nvSpPr>
        <p:spPr>
          <a:xfrm>
            <a:off x="378000" y="1859040"/>
            <a:ext cx="7318080" cy="15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125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ation think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92000" indent="-34596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or a given outcome – Understand the caus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92000" indent="-34596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9" name="Picture 10" descr="nonprofit"/>
          <p:cNvPicPr/>
          <p:nvPr/>
        </p:nvPicPr>
        <p:blipFill>
          <a:blip r:embed="rId2"/>
          <a:stretch/>
        </p:blipFill>
        <p:spPr>
          <a:xfrm>
            <a:off x="5224320" y="4764240"/>
            <a:ext cx="871560" cy="871560"/>
          </a:xfrm>
          <a:prstGeom prst="rect">
            <a:avLst/>
          </a:prstGeom>
          <a:ln w="0">
            <a:noFill/>
          </a:ln>
        </p:spPr>
      </p:pic>
      <p:sp>
        <p:nvSpPr>
          <p:cNvPr id="370" name="AutoShape 11"/>
          <p:cNvSpPr/>
          <p:nvPr/>
        </p:nvSpPr>
        <p:spPr>
          <a:xfrm flipH="1">
            <a:off x="1848600" y="4417920"/>
            <a:ext cx="3341880" cy="230400"/>
          </a:xfrm>
          <a:custGeom>
            <a:avLst/>
            <a:gdLst>
              <a:gd name="textAreaLeft" fmla="*/ -360 w 3341880"/>
              <a:gd name="textAreaRight" fmla="*/ 3341880 w 334188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440" y="0"/>
                </a:lnTo>
                <a:lnTo>
                  <a:pt x="21600" y="10800"/>
                </a:lnTo>
                <a:lnTo>
                  <a:pt x="204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7ff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Line 12"/>
          <p:cNvSpPr/>
          <p:nvPr/>
        </p:nvSpPr>
        <p:spPr>
          <a:xfrm flipH="1">
            <a:off x="1887120" y="4532400"/>
            <a:ext cx="3303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2" name="Picture 13" descr="moneybag_dollar"/>
          <p:cNvPicPr/>
          <p:nvPr/>
        </p:nvPicPr>
        <p:blipFill>
          <a:blip r:embed="rId3"/>
          <a:stretch/>
        </p:blipFill>
        <p:spPr>
          <a:xfrm>
            <a:off x="5292720" y="3308400"/>
            <a:ext cx="955800" cy="9558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gears_run"/>
          <p:cNvPicPr/>
          <p:nvPr/>
        </p:nvPicPr>
        <p:blipFill>
          <a:blip r:embed="rId4"/>
          <a:stretch/>
        </p:blipFill>
        <p:spPr>
          <a:xfrm>
            <a:off x="685800" y="4146480"/>
            <a:ext cx="955800" cy="9558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5" descr="delete2"/>
          <p:cNvPicPr/>
          <p:nvPr/>
        </p:nvPicPr>
        <p:blipFill>
          <a:blip r:embed="rId5"/>
          <a:stretch/>
        </p:blipFill>
        <p:spPr>
          <a:xfrm>
            <a:off x="6083280" y="464832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375" name="Rounded Rectangle 16"/>
          <p:cNvGrpSpPr/>
          <p:nvPr/>
        </p:nvGrpSpPr>
        <p:grpSpPr>
          <a:xfrm>
            <a:off x="6072120" y="3260880"/>
            <a:ext cx="1017720" cy="909360"/>
            <a:chOff x="6072120" y="3260880"/>
            <a:chExt cx="1017720" cy="909360"/>
          </a:xfrm>
        </p:grpSpPr>
        <p:pic>
          <p:nvPicPr>
            <p:cNvPr id="376" name="Rounded Rectangle 16" descr=""/>
            <p:cNvPicPr/>
            <p:nvPr/>
          </p:nvPicPr>
          <p:blipFill>
            <a:blip r:embed="rId6"/>
            <a:stretch/>
          </p:blipFill>
          <p:spPr>
            <a:xfrm>
              <a:off x="6072120" y="3260880"/>
              <a:ext cx="1017720" cy="90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"/>
            <p:cNvSpPr/>
            <p:nvPr/>
          </p:nvSpPr>
          <p:spPr>
            <a:xfrm>
              <a:off x="6110280" y="3300480"/>
              <a:ext cx="939960" cy="83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8" name="Rectangle 2"/>
          <p:cNvSpPr/>
          <p:nvPr/>
        </p:nvSpPr>
        <p:spPr>
          <a:xfrm>
            <a:off x="0" y="5214960"/>
            <a:ext cx="22096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Rectangle 2"/>
          <p:cNvSpPr/>
          <p:nvPr/>
        </p:nvSpPr>
        <p:spPr>
          <a:xfrm>
            <a:off x="4978440" y="5649840"/>
            <a:ext cx="22096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533520" y="152280"/>
            <a:ext cx="6781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1" name="Picture 4" descr="brain"/>
          <p:cNvPicPr/>
          <p:nvPr/>
        </p:nvPicPr>
        <p:blipFill>
          <a:blip r:embed="rId1"/>
          <a:stretch/>
        </p:blipFill>
        <p:spPr>
          <a:xfrm>
            <a:off x="5638680" y="757080"/>
            <a:ext cx="1382760" cy="119088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3"/>
          <p:cNvSpPr/>
          <p:nvPr/>
        </p:nvSpPr>
        <p:spPr>
          <a:xfrm>
            <a:off x="378000" y="1859040"/>
            <a:ext cx="7165800" cy="15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125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ation think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97040" indent="-33984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or a given decision – Understand the effect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97040" indent="-33984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3" name="Picture 15" descr="moneybag_dollar"/>
          <p:cNvPicPr/>
          <p:nvPr/>
        </p:nvPicPr>
        <p:blipFill>
          <a:blip r:embed="rId2"/>
          <a:stretch/>
        </p:blipFill>
        <p:spPr>
          <a:xfrm>
            <a:off x="5486400" y="3807000"/>
            <a:ext cx="1069920" cy="10699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6" descr="symbol_questionmark"/>
          <p:cNvPicPr/>
          <p:nvPr/>
        </p:nvPicPr>
        <p:blipFill>
          <a:blip r:embed="rId3"/>
          <a:stretch/>
        </p:blipFill>
        <p:spPr>
          <a:xfrm>
            <a:off x="6550200" y="3882960"/>
            <a:ext cx="917280" cy="917640"/>
          </a:xfrm>
          <a:prstGeom prst="rect">
            <a:avLst/>
          </a:prstGeom>
          <a:ln w="0">
            <a:noFill/>
          </a:ln>
        </p:spPr>
      </p:pic>
      <p:grpSp>
        <p:nvGrpSpPr>
          <p:cNvPr id="385" name="Group 18"/>
          <p:cNvGrpSpPr/>
          <p:nvPr/>
        </p:nvGrpSpPr>
        <p:grpSpPr>
          <a:xfrm>
            <a:off x="1963800" y="4245120"/>
            <a:ext cx="3341520" cy="230040"/>
            <a:chOff x="1963800" y="4245120"/>
            <a:chExt cx="3341520" cy="230040"/>
          </a:xfrm>
        </p:grpSpPr>
        <p:sp>
          <p:nvSpPr>
            <p:cNvPr id="386" name="AutoShape 20"/>
            <p:cNvSpPr/>
            <p:nvPr/>
          </p:nvSpPr>
          <p:spPr>
            <a:xfrm>
              <a:off x="1963800" y="4245120"/>
              <a:ext cx="3341520" cy="230040"/>
            </a:xfrm>
            <a:custGeom>
              <a:avLst/>
              <a:gdLst>
                <a:gd name="textAreaLeft" fmla="*/ 0 w 3341520"/>
                <a:gd name="textAreaRight" fmla="*/ 3341880 w 334152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440" y="0"/>
                  </a:lnTo>
                  <a:lnTo>
                    <a:pt x="21600" y="10800"/>
                  </a:lnTo>
                  <a:lnTo>
                    <a:pt x="2044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b7ffc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Line 21"/>
            <p:cNvSpPr/>
            <p:nvPr/>
          </p:nvSpPr>
          <p:spPr>
            <a:xfrm>
              <a:off x="1964160" y="4359240"/>
              <a:ext cx="330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88" name="Picture 4" descr="gears_run"/>
          <p:cNvPicPr/>
          <p:nvPr/>
        </p:nvPicPr>
        <p:blipFill>
          <a:blip r:embed="rId4"/>
          <a:stretch/>
        </p:blipFill>
        <p:spPr>
          <a:xfrm>
            <a:off x="838080" y="3884760"/>
            <a:ext cx="916200" cy="915840"/>
          </a:xfrm>
          <a:prstGeom prst="rect">
            <a:avLst/>
          </a:prstGeom>
          <a:ln w="0">
            <a:noFill/>
          </a:ln>
        </p:spPr>
      </p:pic>
      <p:sp>
        <p:nvSpPr>
          <p:cNvPr id="389" name="Rectangle 2"/>
          <p:cNvSpPr/>
          <p:nvPr/>
        </p:nvSpPr>
        <p:spPr>
          <a:xfrm>
            <a:off x="152280" y="4876920"/>
            <a:ext cx="22100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Rectangle 2"/>
          <p:cNvSpPr/>
          <p:nvPr/>
        </p:nvSpPr>
        <p:spPr>
          <a:xfrm>
            <a:off x="4978440" y="4986360"/>
            <a:ext cx="22096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0640" y="0"/>
            <a:ext cx="677088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’s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67705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inciple of Caus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inciple of Ana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4"/>
          <p:cNvSpPr/>
          <p:nvPr/>
        </p:nvSpPr>
        <p:spPr>
          <a:xfrm>
            <a:off x="685800" y="1719360"/>
            <a:ext cx="6400800" cy="119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e relation between a managerial objective’s quantifiable output and the inputs that must be consumed if the output is to be achiev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5"/>
          <p:cNvSpPr/>
          <p:nvPr/>
        </p:nvSpPr>
        <p:spPr>
          <a:xfrm>
            <a:off x="685800" y="3753000"/>
            <a:ext cx="6400800" cy="119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How existing cause and effect insights are used to make inferences about the expected outcome of a particular managerial ac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5" name="Picture 1" descr="C:\Users\Barbara England\Desktop\Training Icons\door_open.png"/>
          <p:cNvPicPr/>
          <p:nvPr/>
        </p:nvPicPr>
        <p:blipFill>
          <a:blip r:embed="rId1"/>
          <a:stretch/>
        </p:blipFill>
        <p:spPr>
          <a:xfrm>
            <a:off x="685800" y="50292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1"/>
          <p:cNvSpPr/>
          <p:nvPr/>
        </p:nvSpPr>
        <p:spPr>
          <a:xfrm>
            <a:off x="1905120" y="2514600"/>
            <a:ext cx="6275160" cy="457200"/>
          </a:xfrm>
          <a:prstGeom prst="rect">
            <a:avLst/>
          </a:prstGeom>
          <a:solidFill>
            <a:srgbClr val="99ccff">
              <a:alpha val="35000"/>
            </a:srgbClr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2"/>
          <p:cNvSpPr/>
          <p:nvPr/>
        </p:nvSpPr>
        <p:spPr>
          <a:xfrm>
            <a:off x="1538280" y="433440"/>
            <a:ext cx="6781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3"/>
          <p:cNvSpPr/>
          <p:nvPr/>
        </p:nvSpPr>
        <p:spPr>
          <a:xfrm>
            <a:off x="1538280" y="1469880"/>
            <a:ext cx="6781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Alta Vi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ach to Conceptual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ing Its 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hip and Change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ble Cost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7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7529400" cy="5759280"/>
          </a:xfrm>
          <a:prstGeom prst="rect">
            <a:avLst/>
          </a:prstGeom>
          <a:ln w="0">
            <a:noFill/>
          </a:ln>
        </p:spPr>
      </p:pic>
      <p:sp>
        <p:nvSpPr>
          <p:cNvPr id="400" name="Rectangle 10"/>
          <p:cNvSpPr/>
          <p:nvPr/>
        </p:nvSpPr>
        <p:spPr>
          <a:xfrm>
            <a:off x="606600" y="4495680"/>
            <a:ext cx="6860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125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EO is a BI/BW-based In-memory Best of Breed Managerial Costing Appl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2" descr="http://capriza3.files.wordpress.com/2013/11/sap-ecc.jpg"/>
          <p:cNvPicPr/>
          <p:nvPr/>
        </p:nvPicPr>
        <p:blipFill>
          <a:blip r:embed="rId1"/>
          <a:stretch/>
        </p:blipFill>
        <p:spPr>
          <a:xfrm>
            <a:off x="0" y="533520"/>
            <a:ext cx="75121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"/>
          <p:cNvSpPr/>
          <p:nvPr/>
        </p:nvSpPr>
        <p:spPr>
          <a:xfrm>
            <a:off x="1905120" y="3048120"/>
            <a:ext cx="6275160" cy="457200"/>
          </a:xfrm>
          <a:prstGeom prst="rect">
            <a:avLst/>
          </a:prstGeom>
          <a:solidFill>
            <a:srgbClr val="99ccff">
              <a:alpha val="35000"/>
            </a:srgbClr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2"/>
          <p:cNvSpPr/>
          <p:nvPr/>
        </p:nvSpPr>
        <p:spPr>
          <a:xfrm>
            <a:off x="1538280" y="433440"/>
            <a:ext cx="6781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3"/>
          <p:cNvSpPr/>
          <p:nvPr/>
        </p:nvSpPr>
        <p:spPr>
          <a:xfrm>
            <a:off x="1538280" y="1469880"/>
            <a:ext cx="6781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Alta Vi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ach to Conceptual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ing Its 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hip and Change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ble Cost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7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1"/>
          <p:cNvSpPr/>
          <p:nvPr/>
        </p:nvSpPr>
        <p:spPr>
          <a:xfrm>
            <a:off x="770040" y="125280"/>
            <a:ext cx="6265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Statement 4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6" name="Picture 2" descr="C:\Users\Barbara England\Desktop\Training Icons\sign_warning.png"/>
          <p:cNvPicPr/>
          <p:nvPr/>
        </p:nvPicPr>
        <p:blipFill>
          <a:blip r:embed="rId1"/>
          <a:stretch/>
        </p:blipFill>
        <p:spPr>
          <a:xfrm>
            <a:off x="2514600" y="190512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1"/>
          <p:cNvSpPr/>
          <p:nvPr/>
        </p:nvSpPr>
        <p:spPr>
          <a:xfrm>
            <a:off x="0" y="0"/>
            <a:ext cx="9220320" cy="685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Rectangle 3"/>
          <p:cNvSpPr/>
          <p:nvPr/>
        </p:nvSpPr>
        <p:spPr>
          <a:xfrm>
            <a:off x="577800" y="604800"/>
            <a:ext cx="7912080" cy="126216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Rectangle 5"/>
          <p:cNvSpPr/>
          <p:nvPr/>
        </p:nvSpPr>
        <p:spPr>
          <a:xfrm>
            <a:off x="835200" y="934920"/>
            <a:ext cx="2035080" cy="731880"/>
          </a:xfrm>
          <a:prstGeom prst="rect">
            <a:avLst/>
          </a:prstGeom>
          <a:solidFill>
            <a:srgbClr val="adad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6"/>
          <p:cNvSpPr/>
          <p:nvPr/>
        </p:nvSpPr>
        <p:spPr>
          <a:xfrm>
            <a:off x="894240" y="946080"/>
            <a:ext cx="190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NCI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Rectangle 7"/>
          <p:cNvSpPr/>
          <p:nvPr/>
        </p:nvSpPr>
        <p:spPr>
          <a:xfrm>
            <a:off x="6437160" y="934920"/>
            <a:ext cx="1803600" cy="7318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 Box 8"/>
          <p:cNvSpPr/>
          <p:nvPr/>
        </p:nvSpPr>
        <p:spPr>
          <a:xfrm>
            <a:off x="6367680" y="946080"/>
            <a:ext cx="190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X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Rectangle 9"/>
          <p:cNvSpPr/>
          <p:nvPr/>
        </p:nvSpPr>
        <p:spPr>
          <a:xfrm>
            <a:off x="3765600" y="934920"/>
            <a:ext cx="2084400" cy="731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Text Box 10"/>
          <p:cNvSpPr/>
          <p:nvPr/>
        </p:nvSpPr>
        <p:spPr>
          <a:xfrm>
            <a:off x="3830760" y="946080"/>
            <a:ext cx="197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RI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11"/>
          <p:cNvSpPr/>
          <p:nvPr/>
        </p:nvSpPr>
        <p:spPr>
          <a:xfrm>
            <a:off x="576360" y="406440"/>
            <a:ext cx="1965240" cy="36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12"/>
          <p:cNvSpPr/>
          <p:nvPr/>
        </p:nvSpPr>
        <p:spPr>
          <a:xfrm>
            <a:off x="641520" y="42228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Rectangle 16"/>
          <p:cNvSpPr/>
          <p:nvPr/>
        </p:nvSpPr>
        <p:spPr>
          <a:xfrm>
            <a:off x="3919680" y="2179800"/>
            <a:ext cx="4070160" cy="954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 Box 17"/>
          <p:cNvSpPr/>
          <p:nvPr/>
        </p:nvSpPr>
        <p:spPr>
          <a:xfrm>
            <a:off x="3956040" y="2211480"/>
            <a:ext cx="403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Quantitative Model of the Economic Flow of Goods and Services Based on Cause and Effect Relationshi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Rectangle 18"/>
          <p:cNvSpPr/>
          <p:nvPr/>
        </p:nvSpPr>
        <p:spPr>
          <a:xfrm>
            <a:off x="662040" y="2179800"/>
            <a:ext cx="2381040" cy="954000"/>
          </a:xfrm>
          <a:prstGeom prst="rect">
            <a:avLst/>
          </a:prstGeom>
          <a:solidFill>
            <a:srgbClr val="adad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19"/>
          <p:cNvSpPr/>
          <p:nvPr/>
        </p:nvSpPr>
        <p:spPr>
          <a:xfrm>
            <a:off x="654120" y="2173320"/>
            <a:ext cx="238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 Accoun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inancial Accounting Principles Appl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21" name="AutoShape 20"/>
          <p:cNvCxnSpPr>
            <a:stCxn id="419" idx="0"/>
            <a:endCxn id="409" idx="2"/>
          </p:cNvCxnSpPr>
          <p:nvPr/>
        </p:nvCxnSpPr>
        <p:spPr>
          <a:xfrm flipV="1">
            <a:off x="1852200" y="1666080"/>
            <a:ext cx="1080" cy="513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422" name="Line 21"/>
          <p:cNvSpPr/>
          <p:nvPr/>
        </p:nvSpPr>
        <p:spPr>
          <a:xfrm flipH="1">
            <a:off x="5952600" y="4400640"/>
            <a:ext cx="1800" cy="21510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Line 22"/>
          <p:cNvSpPr/>
          <p:nvPr/>
        </p:nvSpPr>
        <p:spPr>
          <a:xfrm flipH="1">
            <a:off x="577440" y="6551640"/>
            <a:ext cx="5234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Line 23"/>
          <p:cNvSpPr/>
          <p:nvPr/>
        </p:nvSpPr>
        <p:spPr>
          <a:xfrm>
            <a:off x="6107040" y="6551640"/>
            <a:ext cx="2382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 Box 24"/>
          <p:cNvSpPr/>
          <p:nvPr/>
        </p:nvSpPr>
        <p:spPr>
          <a:xfrm>
            <a:off x="6990840" y="6369120"/>
            <a:ext cx="766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 Box 25"/>
          <p:cNvSpPr/>
          <p:nvPr/>
        </p:nvSpPr>
        <p:spPr>
          <a:xfrm>
            <a:off x="2844360" y="6369120"/>
            <a:ext cx="8132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Line 26"/>
          <p:cNvSpPr/>
          <p:nvPr/>
        </p:nvSpPr>
        <p:spPr>
          <a:xfrm flipH="1">
            <a:off x="3034800" y="2635200"/>
            <a:ext cx="8845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Line 28"/>
          <p:cNvSpPr/>
          <p:nvPr/>
        </p:nvSpPr>
        <p:spPr>
          <a:xfrm>
            <a:off x="4800600" y="1658880"/>
            <a:ext cx="0" cy="520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Line 29"/>
          <p:cNvSpPr/>
          <p:nvPr/>
        </p:nvSpPr>
        <p:spPr>
          <a:xfrm>
            <a:off x="5952240" y="3133800"/>
            <a:ext cx="1800" cy="384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Rectangle 30"/>
          <p:cNvSpPr/>
          <p:nvPr/>
        </p:nvSpPr>
        <p:spPr>
          <a:xfrm>
            <a:off x="6145200" y="4592520"/>
            <a:ext cx="2190600" cy="1768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Text Box 31"/>
          <p:cNvSpPr/>
          <p:nvPr/>
        </p:nvSpPr>
        <p:spPr>
          <a:xfrm>
            <a:off x="6167520" y="4606920"/>
            <a:ext cx="224460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 Managers’ Inferences as to Future Outcome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ategy Formul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-if Analysi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ision Support/Adaptive Action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Rectangle 32"/>
          <p:cNvSpPr/>
          <p:nvPr/>
        </p:nvSpPr>
        <p:spPr>
          <a:xfrm>
            <a:off x="3765600" y="4592520"/>
            <a:ext cx="1958760" cy="1768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Text Box 33"/>
          <p:cNvSpPr/>
          <p:nvPr/>
        </p:nvSpPr>
        <p:spPr>
          <a:xfrm>
            <a:off x="3787920" y="4606920"/>
            <a:ext cx="209052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 Managers’ Inferences as to What Transpired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284040" indent="-284040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Strategic Assessmen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284040" indent="-284040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Analysis &amp; Contro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284040" indent="-284040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Learnin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284040" indent="-284040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Corrective Action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Line 34"/>
          <p:cNvSpPr/>
          <p:nvPr/>
        </p:nvSpPr>
        <p:spPr>
          <a:xfrm flipH="1">
            <a:off x="4711680" y="4170240"/>
            <a:ext cx="1241280" cy="42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Line 35"/>
          <p:cNvSpPr/>
          <p:nvPr/>
        </p:nvSpPr>
        <p:spPr>
          <a:xfrm>
            <a:off x="5952960" y="4170240"/>
            <a:ext cx="1386000" cy="42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27"/>
          <p:cNvSpPr/>
          <p:nvPr/>
        </p:nvSpPr>
        <p:spPr>
          <a:xfrm>
            <a:off x="3919680" y="3517920"/>
            <a:ext cx="4070160" cy="652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ation of the quantitative cost mode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line with optimization objectiv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Oval 2"/>
          <p:cNvSpPr/>
          <p:nvPr/>
        </p:nvSpPr>
        <p:spPr>
          <a:xfrm>
            <a:off x="406440" y="1949400"/>
            <a:ext cx="2844720" cy="1403280"/>
          </a:xfrm>
          <a:prstGeom prst="ellipse">
            <a:avLst/>
          </a:prstGeom>
          <a:noFill/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Oval 34"/>
          <p:cNvSpPr/>
          <p:nvPr/>
        </p:nvSpPr>
        <p:spPr>
          <a:xfrm>
            <a:off x="3782880" y="1949400"/>
            <a:ext cx="4370400" cy="1403280"/>
          </a:xfrm>
          <a:prstGeom prst="ellipse">
            <a:avLst/>
          </a:prstGeom>
          <a:noFill/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Straight Connector 33"/>
          <p:cNvSpPr/>
          <p:nvPr/>
        </p:nvSpPr>
        <p:spPr>
          <a:xfrm>
            <a:off x="3505320" y="1990800"/>
            <a:ext cx="0" cy="4410000"/>
          </a:xfrm>
          <a:prstGeom prst="line">
            <a:avLst/>
          </a:prstGeom>
          <a:ln w="28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TextBox 34"/>
          <p:cNvSpPr/>
          <p:nvPr/>
        </p:nvSpPr>
        <p:spPr>
          <a:xfrm>
            <a:off x="528480" y="4286160"/>
            <a:ext cx="272268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.g., Paragraphs 13 and 14 in Statement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ext Box 1"/>
          <p:cNvSpPr/>
          <p:nvPr/>
        </p:nvSpPr>
        <p:spPr>
          <a:xfrm>
            <a:off x="770040" y="76320"/>
            <a:ext cx="6265800" cy="9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ucial Dif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492120" y="1096920"/>
            <a:ext cx="2711520" cy="731880"/>
          </a:xfrm>
          <a:prstGeom prst="rect">
            <a:avLst/>
          </a:prstGeom>
          <a:solidFill>
            <a:srgbClr val="adad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Text Box 6"/>
          <p:cNvSpPr/>
          <p:nvPr/>
        </p:nvSpPr>
        <p:spPr>
          <a:xfrm>
            <a:off x="498600" y="1109520"/>
            <a:ext cx="269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st Accounting fo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ernal Repor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5"/>
          <p:cNvSpPr/>
          <p:nvPr/>
        </p:nvSpPr>
        <p:spPr>
          <a:xfrm>
            <a:off x="4324320" y="1096920"/>
            <a:ext cx="3019320" cy="731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 Box 10"/>
          <p:cNvSpPr/>
          <p:nvPr/>
        </p:nvSpPr>
        <p:spPr>
          <a:xfrm>
            <a:off x="4332600" y="1109520"/>
            <a:ext cx="305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rial Account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Decision Sup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Straight Connector 7"/>
          <p:cNvSpPr/>
          <p:nvPr/>
        </p:nvSpPr>
        <p:spPr>
          <a:xfrm>
            <a:off x="3809880" y="1066680"/>
            <a:ext cx="0" cy="5291280"/>
          </a:xfrm>
          <a:prstGeom prst="line">
            <a:avLst/>
          </a:prstGeom>
          <a:ln w="28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Box 8"/>
          <p:cNvSpPr/>
          <p:nvPr/>
        </p:nvSpPr>
        <p:spPr>
          <a:xfrm>
            <a:off x="228600" y="2133720"/>
            <a:ext cx="3505320" cy="34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3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’s Matching &amp; Periodic Principles App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3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, Causal, and Other Assignment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3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city not in 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3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 Cost Propos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3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ial Depreci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Box 9"/>
          <p:cNvSpPr/>
          <p:nvPr/>
        </p:nvSpPr>
        <p:spPr>
          <a:xfrm>
            <a:off x="3962520" y="2133720"/>
            <a:ext cx="3581280" cy="34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3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’s Causality &amp; Analogy Principles App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3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Causal Assignments Subscribed 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3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city at Its C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3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ributable Cost Propos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3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ual Usage Depreci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Slide Number Placeholder 1"/>
          <p:cNvSpPr/>
          <p:nvPr/>
        </p:nvSpPr>
        <p:spPr>
          <a:xfrm>
            <a:off x="7467480" y="6248520"/>
            <a:ext cx="11797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DC396D-5F2E-4277-9376-79CD8B70AB2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Rectangle 1"/>
          <p:cNvSpPr/>
          <p:nvPr/>
        </p:nvSpPr>
        <p:spPr>
          <a:xfrm>
            <a:off x="1878120" y="1500120"/>
            <a:ext cx="6275160" cy="457200"/>
          </a:xfrm>
          <a:prstGeom prst="rect">
            <a:avLst/>
          </a:prstGeom>
          <a:solidFill>
            <a:srgbClr val="99ccff">
              <a:alpha val="35000"/>
            </a:srgbClr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Text Box 2"/>
          <p:cNvSpPr/>
          <p:nvPr/>
        </p:nvSpPr>
        <p:spPr>
          <a:xfrm>
            <a:off x="1538280" y="433440"/>
            <a:ext cx="6781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3"/>
          <p:cNvSpPr/>
          <p:nvPr/>
        </p:nvSpPr>
        <p:spPr>
          <a:xfrm>
            <a:off x="1538280" y="1469880"/>
            <a:ext cx="6781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Alta Vi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ach to Conceptual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ing Its 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hip and Change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ble Cost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7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1"/>
          <p:cNvSpPr/>
          <p:nvPr/>
        </p:nvSpPr>
        <p:spPr>
          <a:xfrm>
            <a:off x="770040" y="125280"/>
            <a:ext cx="6265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ementation Over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0" name="Picture 3" descr=""/>
          <p:cNvPicPr/>
          <p:nvPr/>
        </p:nvPicPr>
        <p:blipFill>
          <a:blip r:embed="rId1"/>
          <a:stretch/>
        </p:blipFill>
        <p:spPr>
          <a:xfrm>
            <a:off x="237960" y="1514520"/>
            <a:ext cx="715356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1"/>
          <p:cNvSpPr/>
          <p:nvPr/>
        </p:nvSpPr>
        <p:spPr>
          <a:xfrm>
            <a:off x="1905120" y="3581280"/>
            <a:ext cx="6275160" cy="457200"/>
          </a:xfrm>
          <a:prstGeom prst="rect">
            <a:avLst/>
          </a:prstGeom>
          <a:solidFill>
            <a:srgbClr val="99ccff">
              <a:alpha val="35000"/>
            </a:srgbClr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2"/>
          <p:cNvSpPr/>
          <p:nvPr/>
        </p:nvSpPr>
        <p:spPr>
          <a:xfrm>
            <a:off x="1538280" y="433440"/>
            <a:ext cx="6781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1538280" y="1469880"/>
            <a:ext cx="6781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Alta Vi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ach to Conceptual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ing Its 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hip and Change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ble Cost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7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 Box 1"/>
          <p:cNvSpPr/>
          <p:nvPr/>
        </p:nvSpPr>
        <p:spPr>
          <a:xfrm>
            <a:off x="152280" y="12528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1920" indent="-331920" algn="ctr">
              <a:spcBef>
                <a:spcPts val="700"/>
              </a:spcBef>
              <a:tabLst>
                <a:tab algn="l" pos="0"/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ad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Rectangle 2"/>
          <p:cNvSpPr/>
          <p:nvPr/>
        </p:nvSpPr>
        <p:spPr>
          <a:xfrm>
            <a:off x="304920" y="1415880"/>
            <a:ext cx="7086600" cy="50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125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on developing a cost culture which requir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9988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An organization with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sing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focus of supporting managerial costing within the entit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9988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A champion in senior management to drive the initia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9988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A Long-term dedication to shifting from a budget-centric mind-set to a cost informed environ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9988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A recognition that cost informed decisions rely on the principles causality and ana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9988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1"/>
          <p:cNvSpPr/>
          <p:nvPr/>
        </p:nvSpPr>
        <p:spPr>
          <a:xfrm>
            <a:off x="152280" y="12528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1920" indent="-331920" algn="ctr">
              <a:spcBef>
                <a:spcPts val="700"/>
              </a:spcBef>
              <a:tabLst>
                <a:tab algn="l" pos="0"/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ad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Rectangle 2"/>
          <p:cNvSpPr/>
          <p:nvPr/>
        </p:nvSpPr>
        <p:spPr>
          <a:xfrm>
            <a:off x="304920" y="1328760"/>
            <a:ext cx="71625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125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es all Perspectiv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9988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trateg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– Long-range defining  What  and Why; e.g. Objective X Should Cost Y in Year 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9988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Tacti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– Mid-range defining of How to translate the strategic cost objective into practical and specific actions; e.g. optimize process A to meet strategic objec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9988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Operatio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– Day-to-day execution of specific tasks to deliver the outputs; e.g. utilize contract support or overtime to provide output X at cost impact of 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1"/>
          <p:cNvSpPr/>
          <p:nvPr/>
        </p:nvSpPr>
        <p:spPr>
          <a:xfrm>
            <a:off x="152280" y="12528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1920" indent="-331920" algn="ctr">
              <a:spcBef>
                <a:spcPts val="700"/>
              </a:spcBef>
              <a:tabLst>
                <a:tab algn="l" pos="0"/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ad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Rectangle 2"/>
          <p:cNvSpPr/>
          <p:nvPr/>
        </p:nvSpPr>
        <p:spPr>
          <a:xfrm>
            <a:off x="304920" y="1268280"/>
            <a:ext cx="71625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125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es Domains (Financial versus Operation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4740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erceived to be the responsibility of the Financial domain since cost is a monetary valu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4740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Reality is Operational domain manages the input/output relationships and therefore are closer to understanding causalit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4740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Operational managers have direct influence on optimization decisions (planning and controlling) and financial managers support through providing cost data (accounting and analysi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 Box 1"/>
          <p:cNvSpPr/>
          <p:nvPr/>
        </p:nvSpPr>
        <p:spPr>
          <a:xfrm>
            <a:off x="152280" y="12528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1920" indent="-331920" algn="ctr">
              <a:spcBef>
                <a:spcPts val="700"/>
              </a:spcBef>
              <a:tabLst>
                <a:tab algn="l" pos="0"/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Rectangle 2"/>
          <p:cNvSpPr/>
          <p:nvPr/>
        </p:nvSpPr>
        <p:spPr>
          <a:xfrm>
            <a:off x="219240" y="2128680"/>
            <a:ext cx="2295360" cy="2907000"/>
          </a:xfrm>
          <a:prstGeom prst="rect">
            <a:avLst/>
          </a:prstGeom>
          <a:solidFill>
            <a:srgbClr val="ccecff"/>
          </a:solidFill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2" name="Group 29"/>
          <p:cNvGrpSpPr/>
          <p:nvPr/>
        </p:nvGrpSpPr>
        <p:grpSpPr>
          <a:xfrm>
            <a:off x="2590920" y="3343320"/>
            <a:ext cx="2112840" cy="1361160"/>
            <a:chOff x="2590920" y="3343320"/>
            <a:chExt cx="2112840" cy="1361160"/>
          </a:xfrm>
        </p:grpSpPr>
        <p:grpSp>
          <p:nvGrpSpPr>
            <p:cNvPr id="463" name="Group 17"/>
            <p:cNvGrpSpPr/>
            <p:nvPr/>
          </p:nvGrpSpPr>
          <p:grpSpPr>
            <a:xfrm>
              <a:off x="3175560" y="3359160"/>
              <a:ext cx="1014480" cy="308880"/>
              <a:chOff x="3175560" y="3359160"/>
              <a:chExt cx="1014480" cy="308880"/>
            </a:xfrm>
          </p:grpSpPr>
          <p:sp>
            <p:nvSpPr>
              <p:cNvPr id="464" name="AutoShape 18"/>
              <p:cNvSpPr/>
              <p:nvPr/>
            </p:nvSpPr>
            <p:spPr>
              <a:xfrm>
                <a:off x="3175560" y="3359160"/>
                <a:ext cx="378360" cy="29592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295920"/>
                  <a:gd name="textAreaBottom" fmla="*/ 296280 h 295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846" y="0"/>
                    </a:lnTo>
                    <a:lnTo>
                      <a:pt x="21600" y="10800"/>
                    </a:lnTo>
                    <a:lnTo>
                      <a:pt x="14846" y="21600"/>
                    </a:lnTo>
                    <a:lnTo>
                      <a:pt x="0" y="21600"/>
                    </a:lnTo>
                    <a:lnTo>
                      <a:pt x="6754" y="10800"/>
                    </a:lnTo>
                    <a:close/>
                  </a:path>
                </a:pathLst>
              </a:custGeom>
              <a:solidFill>
                <a:srgbClr val="33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AutoShape 19"/>
              <p:cNvSpPr/>
              <p:nvPr/>
            </p:nvSpPr>
            <p:spPr>
              <a:xfrm>
                <a:off x="3504960" y="3371400"/>
                <a:ext cx="377640" cy="296640"/>
              </a:xfrm>
              <a:custGeom>
                <a:avLst/>
                <a:gdLst>
                  <a:gd name="textAreaLeft" fmla="*/ 0 w 377640"/>
                  <a:gd name="textAreaRight" fmla="*/ 378000 w 377640"/>
                  <a:gd name="textAreaTop" fmla="*/ 0 h 296640"/>
                  <a:gd name="textAreaBottom" fmla="*/ 297000 h 296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816" y="0"/>
                    </a:lnTo>
                    <a:lnTo>
                      <a:pt x="21600" y="10800"/>
                    </a:lnTo>
                    <a:lnTo>
                      <a:pt x="14816" y="21600"/>
                    </a:lnTo>
                    <a:lnTo>
                      <a:pt x="0" y="21600"/>
                    </a:lnTo>
                    <a:lnTo>
                      <a:pt x="6784" y="10800"/>
                    </a:lnTo>
                    <a:close/>
                  </a:path>
                </a:pathLst>
              </a:custGeom>
              <a:solidFill>
                <a:srgbClr val="33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AutoShape 20"/>
              <p:cNvSpPr/>
              <p:nvPr/>
            </p:nvSpPr>
            <p:spPr>
              <a:xfrm>
                <a:off x="3812400" y="3371400"/>
                <a:ext cx="377640" cy="296640"/>
              </a:xfrm>
              <a:custGeom>
                <a:avLst/>
                <a:gdLst>
                  <a:gd name="textAreaLeft" fmla="*/ 0 w 377640"/>
                  <a:gd name="textAreaRight" fmla="*/ 378000 w 377640"/>
                  <a:gd name="textAreaTop" fmla="*/ 0 h 296640"/>
                  <a:gd name="textAreaBottom" fmla="*/ 297000 h 296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816" y="0"/>
                    </a:lnTo>
                    <a:lnTo>
                      <a:pt x="21600" y="10800"/>
                    </a:lnTo>
                    <a:lnTo>
                      <a:pt x="14816" y="21600"/>
                    </a:lnTo>
                    <a:lnTo>
                      <a:pt x="0" y="21600"/>
                    </a:lnTo>
                    <a:lnTo>
                      <a:pt x="6784" y="10800"/>
                    </a:lnTo>
                    <a:close/>
                  </a:path>
                </a:pathLst>
              </a:custGeom>
              <a:solidFill>
                <a:srgbClr val="33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7" name="Text Box 21"/>
            <p:cNvSpPr/>
            <p:nvPr/>
          </p:nvSpPr>
          <p:spPr>
            <a:xfrm>
              <a:off x="2590920" y="3849480"/>
              <a:ext cx="2112840" cy="8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9920" indent="-169920">
                <a:lnSpc>
                  <a:spcPct val="80000"/>
                </a:lnSpc>
                <a:spcBef>
                  <a:spcPts val="27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rocess Improvement (Lean 6-Sigma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marL="169920" indent="-169920">
                <a:lnSpc>
                  <a:spcPct val="80000"/>
                </a:lnSpc>
                <a:spcBef>
                  <a:spcPts val="27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Integrated Business Desig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marL="169920" indent="-169920">
                <a:lnSpc>
                  <a:spcPct val="80000"/>
                </a:lnSpc>
                <a:spcBef>
                  <a:spcPts val="27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AutoShape 22"/>
            <p:cNvSpPr/>
            <p:nvPr/>
          </p:nvSpPr>
          <p:spPr>
            <a:xfrm>
              <a:off x="2661480" y="3343320"/>
              <a:ext cx="456840" cy="456840"/>
            </a:xfrm>
            <a:prstGeom prst="flowChartInputOutpu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lic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AutoShape 23"/>
            <p:cNvSpPr/>
            <p:nvPr/>
          </p:nvSpPr>
          <p:spPr>
            <a:xfrm>
              <a:off x="4267440" y="3343320"/>
              <a:ext cx="354600" cy="456840"/>
            </a:xfrm>
            <a:prstGeom prst="flowChartDocumen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ow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’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Oval 24"/>
          <p:cNvSpPr/>
          <p:nvPr/>
        </p:nvSpPr>
        <p:spPr>
          <a:xfrm>
            <a:off x="4724280" y="2122560"/>
            <a:ext cx="2667240" cy="3058920"/>
          </a:xfrm>
          <a:prstGeom prst="ellipse">
            <a:avLst/>
          </a:prstGeom>
          <a:solidFill>
            <a:srgbClr val="ffe8d1"/>
          </a:solidFill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1" name="Group 25"/>
          <p:cNvGrpSpPr/>
          <p:nvPr/>
        </p:nvGrpSpPr>
        <p:grpSpPr>
          <a:xfrm>
            <a:off x="1295280" y="5867280"/>
            <a:ext cx="5943600" cy="617760"/>
            <a:chOff x="1295280" y="5867280"/>
            <a:chExt cx="5943600" cy="617760"/>
          </a:xfrm>
        </p:grpSpPr>
        <p:grpSp>
          <p:nvGrpSpPr>
            <p:cNvPr id="472" name="AutoShape 26"/>
            <p:cNvGrpSpPr/>
            <p:nvPr/>
          </p:nvGrpSpPr>
          <p:grpSpPr>
            <a:xfrm>
              <a:off x="1295280" y="5867280"/>
              <a:ext cx="5943600" cy="617760"/>
              <a:chOff x="1295280" y="5867280"/>
              <a:chExt cx="5943600" cy="617760"/>
            </a:xfrm>
          </p:grpSpPr>
          <p:pic>
            <p:nvPicPr>
              <p:cNvPr id="473" name="AutoShape 26" descr=""/>
              <p:cNvPicPr/>
              <p:nvPr/>
            </p:nvPicPr>
            <p:blipFill>
              <a:blip r:embed="rId1"/>
              <a:stretch/>
            </p:blipFill>
            <p:spPr>
              <a:xfrm>
                <a:off x="1295280" y="5867280"/>
                <a:ext cx="5943600" cy="617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4" name=""/>
              <p:cNvSpPr/>
              <p:nvPr/>
            </p:nvSpPr>
            <p:spPr>
              <a:xfrm>
                <a:off x="2218320" y="6023520"/>
                <a:ext cx="4232880" cy="29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5" name="Text Box 27"/>
            <p:cNvSpPr/>
            <p:nvPr/>
          </p:nvSpPr>
          <p:spPr>
            <a:xfrm>
              <a:off x="2476440" y="5981400"/>
              <a:ext cx="257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nablers of Chang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6" name="Text Box 29"/>
          <p:cNvSpPr/>
          <p:nvPr/>
        </p:nvSpPr>
        <p:spPr>
          <a:xfrm>
            <a:off x="279360" y="2362320"/>
            <a:ext cx="2235240" cy="27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dget-focus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d rate driven – inpu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formance objective -99.9% obligat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goods has infinite demand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Rectangle 30"/>
          <p:cNvSpPr/>
          <p:nvPr/>
        </p:nvSpPr>
        <p:spPr>
          <a:xfrm>
            <a:off x="5029200" y="2459160"/>
            <a:ext cx="2400480" cy="28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st and performance focus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5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ults driven - output &amp; outco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5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formance objective – resource consumption optimization (efficiency &amp; effectivenes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5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what is necessary to obtain the objectiv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Rectangle 31"/>
          <p:cNvSpPr/>
          <p:nvPr/>
        </p:nvSpPr>
        <p:spPr>
          <a:xfrm>
            <a:off x="16200" y="1719360"/>
            <a:ext cx="27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Culture of Entitlement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Rectangle 32"/>
          <p:cNvSpPr/>
          <p:nvPr/>
        </p:nvSpPr>
        <p:spPr>
          <a:xfrm>
            <a:off x="4890600" y="1749600"/>
            <a:ext cx="24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Culture of Influence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0" name="Group 30"/>
          <p:cNvGrpSpPr/>
          <p:nvPr/>
        </p:nvGrpSpPr>
        <p:grpSpPr>
          <a:xfrm>
            <a:off x="2666880" y="4468680"/>
            <a:ext cx="2360880" cy="1211400"/>
            <a:chOff x="2666880" y="4468680"/>
            <a:chExt cx="2360880" cy="1211400"/>
          </a:xfrm>
        </p:grpSpPr>
        <p:sp>
          <p:nvSpPr>
            <p:cNvPr id="481" name="Text Box 16"/>
            <p:cNvSpPr/>
            <p:nvPr/>
          </p:nvSpPr>
          <p:spPr>
            <a:xfrm>
              <a:off x="2666880" y="5114520"/>
              <a:ext cx="2360880" cy="5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9920" indent="-169920">
                <a:lnSpc>
                  <a:spcPct val="80000"/>
                </a:lnSpc>
                <a:spcBef>
                  <a:spcPts val="27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ERP Applications  (e.g. SAP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marL="169920" indent="-169920">
                <a:lnSpc>
                  <a:spcPct val="80000"/>
                </a:lnSpc>
                <a:spcBef>
                  <a:spcPts val="27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Business Warehous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marL="169920" indent="-169920">
                <a:lnSpc>
                  <a:spcPct val="80000"/>
                </a:lnSpc>
                <a:spcBef>
                  <a:spcPts val="27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Executive Scorecard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82" name="Picture 34" descr="clients"/>
            <p:cNvPicPr/>
            <p:nvPr/>
          </p:nvPicPr>
          <p:blipFill>
            <a:blip r:embed="rId2"/>
            <a:stretch/>
          </p:blipFill>
          <p:spPr>
            <a:xfrm>
              <a:off x="3351600" y="4468680"/>
              <a:ext cx="914760" cy="64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3" name="Group 28"/>
          <p:cNvGrpSpPr/>
          <p:nvPr/>
        </p:nvGrpSpPr>
        <p:grpSpPr>
          <a:xfrm>
            <a:off x="2590920" y="1752480"/>
            <a:ext cx="2361960" cy="1308960"/>
            <a:chOff x="2590920" y="1752480"/>
            <a:chExt cx="2361960" cy="1308960"/>
          </a:xfrm>
        </p:grpSpPr>
        <p:sp>
          <p:nvSpPr>
            <p:cNvPr id="484" name="Text Box 14"/>
            <p:cNvSpPr/>
            <p:nvPr/>
          </p:nvSpPr>
          <p:spPr>
            <a:xfrm>
              <a:off x="2590920" y="2495880"/>
              <a:ext cx="2361960" cy="5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9920" indent="-169920">
                <a:lnSpc>
                  <a:spcPct val="80000"/>
                </a:lnSpc>
                <a:spcBef>
                  <a:spcPts val="27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Develop/Recruit Analyst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marL="169920" indent="-169920">
                <a:lnSpc>
                  <a:spcPct val="80000"/>
                </a:lnSpc>
                <a:spcBef>
                  <a:spcPts val="27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Enhance Training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marL="169920" indent="-169920">
                <a:lnSpc>
                  <a:spcPct val="80000"/>
                </a:lnSpc>
                <a:spcBef>
                  <a:spcPts val="27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erformance Focu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85" name="Picture 33" descr="businessmen"/>
            <p:cNvPicPr/>
            <p:nvPr/>
          </p:nvPicPr>
          <p:blipFill>
            <a:blip r:embed="rId3"/>
            <a:stretch/>
          </p:blipFill>
          <p:spPr>
            <a:xfrm>
              <a:off x="2971440" y="1858320"/>
              <a:ext cx="607320" cy="45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6" name="Picture 35" descr="branch"/>
            <p:cNvPicPr/>
            <p:nvPr/>
          </p:nvPicPr>
          <p:blipFill>
            <a:blip r:embed="rId4"/>
            <a:stretch/>
          </p:blipFill>
          <p:spPr>
            <a:xfrm>
              <a:off x="3711600" y="1752480"/>
              <a:ext cx="860040" cy="77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7" name="Slide Number Placeholder 12"/>
          <p:cNvSpPr/>
          <p:nvPr/>
        </p:nvSpPr>
        <p:spPr>
          <a:xfrm>
            <a:off x="655308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5C832-5389-43CC-8F9A-38A72114DE8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 Box 1"/>
          <p:cNvSpPr/>
          <p:nvPr/>
        </p:nvSpPr>
        <p:spPr>
          <a:xfrm>
            <a:off x="152280" y="12528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1920" indent="-331920" algn="ctr">
              <a:spcBef>
                <a:spcPts val="700"/>
              </a:spcBef>
              <a:tabLst>
                <a:tab algn="l" pos="0"/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 Management -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9" name="Group 28"/>
          <p:cNvGrpSpPr/>
          <p:nvPr/>
        </p:nvGrpSpPr>
        <p:grpSpPr>
          <a:xfrm>
            <a:off x="5486400" y="838080"/>
            <a:ext cx="2361960" cy="1204200"/>
            <a:chOff x="5486400" y="838080"/>
            <a:chExt cx="2361960" cy="1204200"/>
          </a:xfrm>
        </p:grpSpPr>
        <p:sp>
          <p:nvSpPr>
            <p:cNvPr id="490" name="Text Box 14"/>
            <p:cNvSpPr/>
            <p:nvPr/>
          </p:nvSpPr>
          <p:spPr>
            <a:xfrm>
              <a:off x="5486400" y="1476720"/>
              <a:ext cx="2361960" cy="5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9920" indent="-169920">
                <a:lnSpc>
                  <a:spcPct val="80000"/>
                </a:lnSpc>
                <a:spcBef>
                  <a:spcPts val="27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Develop/Recruit Analyst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marL="169920" indent="-169920">
                <a:lnSpc>
                  <a:spcPct val="80000"/>
                </a:lnSpc>
                <a:spcBef>
                  <a:spcPts val="27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Enhance Training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marL="169920" indent="-169920">
                <a:lnSpc>
                  <a:spcPct val="80000"/>
                </a:lnSpc>
                <a:spcBef>
                  <a:spcPts val="27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erformance Focu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91" name="Picture 33" descr="businessmen"/>
            <p:cNvPicPr/>
            <p:nvPr/>
          </p:nvPicPr>
          <p:blipFill>
            <a:blip r:embed="rId1"/>
            <a:stretch/>
          </p:blipFill>
          <p:spPr>
            <a:xfrm>
              <a:off x="5932800" y="938160"/>
              <a:ext cx="618840" cy="42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2" name="Picture 35" descr="branch"/>
            <p:cNvPicPr/>
            <p:nvPr/>
          </p:nvPicPr>
          <p:blipFill>
            <a:blip r:embed="rId2"/>
            <a:stretch/>
          </p:blipFill>
          <p:spPr>
            <a:xfrm>
              <a:off x="6629400" y="838080"/>
              <a:ext cx="1057680" cy="727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3" name="Slide Number Placeholder 12"/>
          <p:cNvSpPr/>
          <p:nvPr/>
        </p:nvSpPr>
        <p:spPr>
          <a:xfrm>
            <a:off x="655308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B2616-49BC-4BB6-938A-0AAEEC4F5C0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Rectangle 27"/>
          <p:cNvSpPr/>
          <p:nvPr/>
        </p:nvSpPr>
        <p:spPr>
          <a:xfrm>
            <a:off x="228600" y="1600200"/>
            <a:ext cx="7315200" cy="43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125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uctured Organiza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9988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hift resources to “hub” like kind activities togeth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9988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Decentralize to incorporate analysts with oper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125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efined Ro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9988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Development of new positions (e.g. cost analys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9988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hifting budget-centric roles to include cost analy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125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ed Skills &amp; Knowledg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9988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Introduction of principles into Training pro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 Box 1"/>
          <p:cNvSpPr/>
          <p:nvPr/>
        </p:nvSpPr>
        <p:spPr>
          <a:xfrm>
            <a:off x="152280" y="12528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1920" indent="-331920" algn="ctr">
              <a:spcBef>
                <a:spcPts val="700"/>
              </a:spcBef>
              <a:tabLst>
                <a:tab algn="l" pos="0"/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 Management - 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6" name="Group 29"/>
          <p:cNvGrpSpPr/>
          <p:nvPr/>
        </p:nvGrpSpPr>
        <p:grpSpPr>
          <a:xfrm>
            <a:off x="5029200" y="1143000"/>
            <a:ext cx="2112840" cy="1361520"/>
            <a:chOff x="5029200" y="1143000"/>
            <a:chExt cx="2112840" cy="1361520"/>
          </a:xfrm>
        </p:grpSpPr>
        <p:grpSp>
          <p:nvGrpSpPr>
            <p:cNvPr id="497" name="Group 17"/>
            <p:cNvGrpSpPr/>
            <p:nvPr/>
          </p:nvGrpSpPr>
          <p:grpSpPr>
            <a:xfrm>
              <a:off x="5613840" y="1159200"/>
              <a:ext cx="1014480" cy="309240"/>
              <a:chOff x="5613840" y="1159200"/>
              <a:chExt cx="1014480" cy="309240"/>
            </a:xfrm>
          </p:grpSpPr>
          <p:sp>
            <p:nvSpPr>
              <p:cNvPr id="498" name="AutoShape 18"/>
              <p:cNvSpPr/>
              <p:nvPr/>
            </p:nvSpPr>
            <p:spPr>
              <a:xfrm>
                <a:off x="5613840" y="1159200"/>
                <a:ext cx="378360" cy="29592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295920"/>
                  <a:gd name="textAreaBottom" fmla="*/ 296280 h 295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846" y="0"/>
                    </a:lnTo>
                    <a:lnTo>
                      <a:pt x="21600" y="10800"/>
                    </a:lnTo>
                    <a:lnTo>
                      <a:pt x="14846" y="21600"/>
                    </a:lnTo>
                    <a:lnTo>
                      <a:pt x="0" y="21600"/>
                    </a:lnTo>
                    <a:lnTo>
                      <a:pt x="6754" y="10800"/>
                    </a:lnTo>
                    <a:close/>
                  </a:path>
                </a:pathLst>
              </a:custGeom>
              <a:solidFill>
                <a:srgbClr val="33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AutoShape 19"/>
              <p:cNvSpPr/>
              <p:nvPr/>
            </p:nvSpPr>
            <p:spPr>
              <a:xfrm>
                <a:off x="5943240" y="1171440"/>
                <a:ext cx="377640" cy="297000"/>
              </a:xfrm>
              <a:custGeom>
                <a:avLst/>
                <a:gdLst>
                  <a:gd name="textAreaLeft" fmla="*/ 0 w 377640"/>
                  <a:gd name="textAreaRight" fmla="*/ 378000 w 377640"/>
                  <a:gd name="textAreaTop" fmla="*/ 0 h 297000"/>
                  <a:gd name="textAreaBottom" fmla="*/ 297360 h 297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816" y="0"/>
                    </a:lnTo>
                    <a:lnTo>
                      <a:pt x="21600" y="10800"/>
                    </a:lnTo>
                    <a:lnTo>
                      <a:pt x="14816" y="21600"/>
                    </a:lnTo>
                    <a:lnTo>
                      <a:pt x="0" y="21600"/>
                    </a:lnTo>
                    <a:lnTo>
                      <a:pt x="6784" y="10800"/>
                    </a:lnTo>
                    <a:close/>
                  </a:path>
                </a:pathLst>
              </a:custGeom>
              <a:solidFill>
                <a:srgbClr val="33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AutoShape 20"/>
              <p:cNvSpPr/>
              <p:nvPr/>
            </p:nvSpPr>
            <p:spPr>
              <a:xfrm>
                <a:off x="6250680" y="1171440"/>
                <a:ext cx="377640" cy="297000"/>
              </a:xfrm>
              <a:custGeom>
                <a:avLst/>
                <a:gdLst>
                  <a:gd name="textAreaLeft" fmla="*/ 0 w 377640"/>
                  <a:gd name="textAreaRight" fmla="*/ 378000 w 377640"/>
                  <a:gd name="textAreaTop" fmla="*/ 0 h 297000"/>
                  <a:gd name="textAreaBottom" fmla="*/ 297360 h 297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816" y="0"/>
                    </a:lnTo>
                    <a:lnTo>
                      <a:pt x="21600" y="10800"/>
                    </a:lnTo>
                    <a:lnTo>
                      <a:pt x="14816" y="21600"/>
                    </a:lnTo>
                    <a:lnTo>
                      <a:pt x="0" y="21600"/>
                    </a:lnTo>
                    <a:lnTo>
                      <a:pt x="6784" y="10800"/>
                    </a:lnTo>
                    <a:close/>
                  </a:path>
                </a:pathLst>
              </a:custGeom>
              <a:solidFill>
                <a:srgbClr val="33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1" name="Text Box 21"/>
            <p:cNvSpPr/>
            <p:nvPr/>
          </p:nvSpPr>
          <p:spPr>
            <a:xfrm>
              <a:off x="5029200" y="1649520"/>
              <a:ext cx="2112840" cy="8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9920" indent="-169920">
                <a:lnSpc>
                  <a:spcPct val="80000"/>
                </a:lnSpc>
                <a:spcBef>
                  <a:spcPts val="27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rocess Improvement (Lean 6-Sigma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marL="169920" indent="-169920">
                <a:lnSpc>
                  <a:spcPct val="80000"/>
                </a:lnSpc>
                <a:spcBef>
                  <a:spcPts val="27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Integrated Business Desig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marL="169920" indent="-169920">
                <a:lnSpc>
                  <a:spcPct val="80000"/>
                </a:lnSpc>
                <a:spcBef>
                  <a:spcPts val="27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AutoShape 22"/>
            <p:cNvSpPr/>
            <p:nvPr/>
          </p:nvSpPr>
          <p:spPr>
            <a:xfrm>
              <a:off x="5099760" y="1143000"/>
              <a:ext cx="456840" cy="457200"/>
            </a:xfrm>
            <a:prstGeom prst="flowChartInputOutpu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lic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AutoShape 23"/>
            <p:cNvSpPr/>
            <p:nvPr/>
          </p:nvSpPr>
          <p:spPr>
            <a:xfrm>
              <a:off x="6705720" y="1143000"/>
              <a:ext cx="354600" cy="457200"/>
            </a:xfrm>
            <a:prstGeom prst="flowChartDocumen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ow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’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4" name="Slide Number Placeholder 12"/>
          <p:cNvSpPr/>
          <p:nvPr/>
        </p:nvSpPr>
        <p:spPr>
          <a:xfrm>
            <a:off x="655308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F8B6A-224D-47B7-B430-8ED2D6445BF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Rectangle 18"/>
          <p:cNvSpPr/>
          <p:nvPr/>
        </p:nvSpPr>
        <p:spPr>
          <a:xfrm>
            <a:off x="457200" y="1422360"/>
            <a:ext cx="6934320" cy="48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125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Polici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9988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erform Time Track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9988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Usage-based vs Financial Depreci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125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Procedur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9988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unding requests need cost benefit analysis back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9988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Optimization need to take into consideration co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125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Focu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9988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erformance variance analy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9988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Obtain non-financial metr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1"/>
          <p:cNvSpPr/>
          <p:nvPr/>
        </p:nvSpPr>
        <p:spPr>
          <a:xfrm>
            <a:off x="152280" y="12528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1920" indent="-331920" algn="ctr">
              <a:spcBef>
                <a:spcPts val="700"/>
              </a:spcBef>
              <a:tabLst>
                <a:tab algn="l" pos="0"/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 Management - Techn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7" name="Group 30"/>
          <p:cNvGrpSpPr/>
          <p:nvPr/>
        </p:nvGrpSpPr>
        <p:grpSpPr>
          <a:xfrm>
            <a:off x="5105520" y="1023840"/>
            <a:ext cx="2743200" cy="1359000"/>
            <a:chOff x="5105520" y="1023840"/>
            <a:chExt cx="2743200" cy="1359000"/>
          </a:xfrm>
        </p:grpSpPr>
        <p:sp>
          <p:nvSpPr>
            <p:cNvPr id="508" name="Text Box 16"/>
            <p:cNvSpPr/>
            <p:nvPr/>
          </p:nvSpPr>
          <p:spPr>
            <a:xfrm>
              <a:off x="5105520" y="1817280"/>
              <a:ext cx="2743200" cy="5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9920" indent="-169920">
                <a:lnSpc>
                  <a:spcPct val="80000"/>
                </a:lnSpc>
                <a:spcBef>
                  <a:spcPts val="27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ERP Applications  (e.g. SAP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marL="169920" indent="-169920">
                <a:lnSpc>
                  <a:spcPct val="80000"/>
                </a:lnSpc>
                <a:spcBef>
                  <a:spcPts val="27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Business Warehous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marL="169920" indent="-169920">
                <a:lnSpc>
                  <a:spcPct val="80000"/>
                </a:lnSpc>
                <a:spcBef>
                  <a:spcPts val="27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Executive Scorecard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09" name="Picture 34" descr="clients"/>
            <p:cNvPicPr/>
            <p:nvPr/>
          </p:nvPicPr>
          <p:blipFill>
            <a:blip r:embed="rId1"/>
            <a:stretch/>
          </p:blipFill>
          <p:spPr>
            <a:xfrm>
              <a:off x="5901120" y="1023840"/>
              <a:ext cx="1062720" cy="79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0" name="Slide Number Placeholder 12"/>
          <p:cNvSpPr/>
          <p:nvPr/>
        </p:nvSpPr>
        <p:spPr>
          <a:xfrm>
            <a:off x="655308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F6EAF-1D33-4493-BB86-615A3BF07E6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Rectangle 18"/>
          <p:cNvSpPr/>
          <p:nvPr/>
        </p:nvSpPr>
        <p:spPr>
          <a:xfrm>
            <a:off x="304920" y="1422360"/>
            <a:ext cx="7162560" cy="48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125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g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9988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Larger data sets avail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9988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Consolidation of operational data with financial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125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9988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Ability to “crunch” through more advanced calcul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9988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Real or near-real time accessi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125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9988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ore user-friendly graphical interfa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9988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rovide information versus data s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1"/>
          <p:cNvSpPr/>
          <p:nvPr/>
        </p:nvSpPr>
        <p:spPr>
          <a:xfrm>
            <a:off x="1905120" y="4114800"/>
            <a:ext cx="6275160" cy="457200"/>
          </a:xfrm>
          <a:prstGeom prst="rect">
            <a:avLst/>
          </a:prstGeom>
          <a:solidFill>
            <a:srgbClr val="99ccff">
              <a:alpha val="35000"/>
            </a:srgbClr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Text Box 2"/>
          <p:cNvSpPr/>
          <p:nvPr/>
        </p:nvSpPr>
        <p:spPr>
          <a:xfrm>
            <a:off x="1538280" y="433440"/>
            <a:ext cx="6781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Text Box 3"/>
          <p:cNvSpPr/>
          <p:nvPr/>
        </p:nvSpPr>
        <p:spPr>
          <a:xfrm>
            <a:off x="1538280" y="1469880"/>
            <a:ext cx="6781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Alta Vi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ach to Conceptual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ing Its 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hip and Change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ble Cost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7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Slide Number Placeholder 1"/>
          <p:cNvSpPr/>
          <p:nvPr/>
        </p:nvSpPr>
        <p:spPr>
          <a:xfrm>
            <a:off x="6621480" y="6399360"/>
            <a:ext cx="9986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6258CE-87E9-4196-B81F-0AB9A887BB2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Rectangle 1"/>
          <p:cNvSpPr/>
          <p:nvPr/>
        </p:nvSpPr>
        <p:spPr>
          <a:xfrm>
            <a:off x="1440" y="-1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2"/>
          <p:cNvSpPr/>
          <p:nvPr/>
        </p:nvSpPr>
        <p:spPr>
          <a:xfrm>
            <a:off x="533520" y="-12600"/>
            <a:ext cx="67658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is Alta Vi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533520" y="985680"/>
            <a:ext cx="6995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Are a Niche Service Provider in the Areas of Managerial Accounting and the Managerial Processes of Planning, Simulation, Control, and Decision Sup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ished in 1998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 Consultants Across North and South America, Africa, and Europ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Partner With Various Managerial Accounting and Decision Support Tool Vendors e.g., SAP, proEO, and Jedo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1663920" y="5102280"/>
            <a:ext cx="445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Better Use of Information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Picture 8" descr=""/>
          <p:cNvPicPr/>
          <p:nvPr/>
        </p:nvPicPr>
        <p:blipFill>
          <a:blip r:embed="rId1"/>
          <a:stretch/>
        </p:blipFill>
        <p:spPr>
          <a:xfrm>
            <a:off x="0" y="5454720"/>
            <a:ext cx="1663560" cy="14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 Box 1"/>
          <p:cNvSpPr/>
          <p:nvPr/>
        </p:nvSpPr>
        <p:spPr>
          <a:xfrm>
            <a:off x="152280" y="12528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1920" indent="-331920" algn="ctr">
              <a:spcBef>
                <a:spcPts val="700"/>
              </a:spcBef>
              <a:tabLst>
                <a:tab algn="l" pos="0"/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able Cost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04920" y="1295280"/>
            <a:ext cx="7162560" cy="54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125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Per Uni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9988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Tracking of non-financial measures (e.g. # of tax returns, # of soldiers trained, etc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9988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Inclusion of supports costs (provided outside of manager’s budget) (e.g. IT Network Suppor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99880">
              <a:lnSpc>
                <a:spcPct val="125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125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y Consumption – “Free Goods Have Infinite Demand”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9988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Identification of causality in support relationships (e.g. Square Footage, Cancelled Class) – change behavi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9988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 Box 1"/>
          <p:cNvSpPr/>
          <p:nvPr/>
        </p:nvSpPr>
        <p:spPr>
          <a:xfrm>
            <a:off x="152280" y="12528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1920" indent="-331920" algn="ctr">
              <a:spcBef>
                <a:spcPts val="700"/>
              </a:spcBef>
              <a:tabLst>
                <a:tab algn="l" pos="0"/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able Cost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57200" y="1066680"/>
            <a:ext cx="6781680" cy="24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93720" indent="-299880">
              <a:lnSpc>
                <a:spcPct val="125000"/>
              </a:lnSpc>
              <a:spcBef>
                <a:spcPts val="11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125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stifica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9988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If X output then Y inputs need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9988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If process A can be changed then Inputs required are 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Text Box 2"/>
          <p:cNvSpPr/>
          <p:nvPr/>
        </p:nvSpPr>
        <p:spPr>
          <a:xfrm>
            <a:off x="1538280" y="0"/>
            <a:ext cx="6781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itional 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Text Box 3"/>
          <p:cNvSpPr/>
          <p:nvPr/>
        </p:nvSpPr>
        <p:spPr>
          <a:xfrm>
            <a:off x="1219320" y="9907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nagement Accounting Philosophy se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ebating the Principle se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tabLst>
                <a:tab algn="l" pos="0"/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h available from Alta Via: http://www.altavia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FAC International Good Practice Guide on Cos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tabLst>
                <a:tab algn="l" pos="0"/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ifac.org/sites/default/files/publications/files/IGPG-Evaluating-and-Improving-Costing-July-2009.pd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FAC Costing Continu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tabLst>
                <a:tab algn="l" pos="0"/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ifac.org/sites/default/files/publications/files/IFAC-Evaluating-the-Costing-Journey_0.pd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2"/>
          <p:cNvSpPr/>
          <p:nvPr/>
        </p:nvSpPr>
        <p:spPr>
          <a:xfrm>
            <a:off x="1538280" y="0"/>
            <a:ext cx="6781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ank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Text Box 3"/>
          <p:cNvSpPr/>
          <p:nvPr/>
        </p:nvSpPr>
        <p:spPr>
          <a:xfrm>
            <a:off x="1219320" y="9907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on van der Merw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tabLst>
                <a:tab algn="l" pos="0"/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onvdm@altavia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tabLst>
                <a:tab algn="l" pos="0"/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: 513-257-74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wn Sedgl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tabLst>
                <a:tab algn="l" pos="0"/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sedgley@altavia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tabLst>
                <a:tab algn="l" pos="0"/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: 214-649-258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Explosion 2 1"/>
          <p:cNvSpPr/>
          <p:nvPr/>
        </p:nvSpPr>
        <p:spPr>
          <a:xfrm>
            <a:off x="92160" y="4191120"/>
            <a:ext cx="7361280" cy="99036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Slide Number Placeholder 1"/>
          <p:cNvSpPr/>
          <p:nvPr/>
        </p:nvSpPr>
        <p:spPr>
          <a:xfrm>
            <a:off x="6621480" y="6399360"/>
            <a:ext cx="9986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B71A74-D94D-42BD-A2A2-67B416CDAEC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1"/>
          <p:cNvSpPr/>
          <p:nvPr/>
        </p:nvSpPr>
        <p:spPr>
          <a:xfrm>
            <a:off x="1440" y="-1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2"/>
          <p:cNvSpPr/>
          <p:nvPr/>
        </p:nvSpPr>
        <p:spPr>
          <a:xfrm>
            <a:off x="533520" y="203040"/>
            <a:ext cx="6765840" cy="93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is Alta Vi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457200" y="1125360"/>
            <a:ext cx="699624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a Via Wrote the Book on Activity-based Costing in S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ipated in the IFAC Committee that Wrote Their International Good Practice Guide Establishing Principles for Management Accoun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d on A Task Force for Similar Principles Document for the Institute of Management Accountants (the MCCF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a Via Sponsors a Professorship for Management Accounting at Northern Illinois Univer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Picture 4" descr=""/>
          <p:cNvPicPr/>
          <p:nvPr/>
        </p:nvPicPr>
        <p:blipFill>
          <a:blip r:embed="rId1"/>
          <a:srcRect l="38405" t="65624" r="54607" b="28325"/>
          <a:stretch/>
        </p:blipFill>
        <p:spPr>
          <a:xfrm>
            <a:off x="1208160" y="5549760"/>
            <a:ext cx="1306440" cy="85104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6" descr=""/>
          <p:cNvPicPr/>
          <p:nvPr/>
        </p:nvPicPr>
        <p:blipFill>
          <a:blip r:embed="rId2"/>
          <a:srcRect l="10064" t="0" r="14411" b="0"/>
          <a:stretch/>
        </p:blipFill>
        <p:spPr>
          <a:xfrm>
            <a:off x="5943600" y="4944960"/>
            <a:ext cx="1371600" cy="188748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4"/>
          <p:cNvSpPr/>
          <p:nvPr/>
        </p:nvSpPr>
        <p:spPr>
          <a:xfrm>
            <a:off x="1370160" y="4495680"/>
            <a:ext cx="463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Are Your Costing Geeks!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1"/>
          <p:cNvSpPr/>
          <p:nvPr/>
        </p:nvSpPr>
        <p:spPr>
          <a:xfrm>
            <a:off x="1905120" y="2044800"/>
            <a:ext cx="6275160" cy="457200"/>
          </a:xfrm>
          <a:prstGeom prst="rect">
            <a:avLst/>
          </a:prstGeom>
          <a:solidFill>
            <a:srgbClr val="99ccff">
              <a:alpha val="35000"/>
            </a:srgbClr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2"/>
          <p:cNvSpPr/>
          <p:nvPr/>
        </p:nvSpPr>
        <p:spPr>
          <a:xfrm>
            <a:off x="1538280" y="433440"/>
            <a:ext cx="6781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1538280" y="1469880"/>
            <a:ext cx="6781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Alta Vi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ach to Conceptual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ing Its 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hip and Change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ble Cost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7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Slide Number Placeholder 1"/>
          <p:cNvSpPr/>
          <p:nvPr/>
        </p:nvSpPr>
        <p:spPr>
          <a:xfrm>
            <a:off x="6621480" y="6399360"/>
            <a:ext cx="9986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408591-AD94-485F-BE52-6FF8A8990FD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3"/>
          <p:cNvSpPr/>
          <p:nvPr/>
        </p:nvSpPr>
        <p:spPr>
          <a:xfrm>
            <a:off x="1440" y="-1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Rectangle 1"/>
          <p:cNvSpPr/>
          <p:nvPr/>
        </p:nvSpPr>
        <p:spPr>
          <a:xfrm>
            <a:off x="457200" y="762120"/>
            <a:ext cx="3200400" cy="25146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Rectangle 7"/>
          <p:cNvSpPr/>
          <p:nvPr/>
        </p:nvSpPr>
        <p:spPr>
          <a:xfrm>
            <a:off x="3809880" y="762120"/>
            <a:ext cx="3200400" cy="25146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8"/>
          <p:cNvSpPr/>
          <p:nvPr/>
        </p:nvSpPr>
        <p:spPr>
          <a:xfrm>
            <a:off x="3809880" y="3429000"/>
            <a:ext cx="3200400" cy="2514600"/>
          </a:xfrm>
          <a:prstGeom prst="rect">
            <a:avLst/>
          </a:prstGeom>
          <a:solidFill>
            <a:srgbClr val="b2b2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Rectangle 9"/>
          <p:cNvSpPr/>
          <p:nvPr/>
        </p:nvSpPr>
        <p:spPr>
          <a:xfrm>
            <a:off x="457200" y="3429000"/>
            <a:ext cx="3200400" cy="2514600"/>
          </a:xfrm>
          <a:prstGeom prst="rect">
            <a:avLst/>
          </a:prstGeom>
          <a:solidFill>
            <a:srgbClr val="b2b2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Box 2"/>
          <p:cNvSpPr/>
          <p:nvPr/>
        </p:nvSpPr>
        <p:spPr>
          <a:xfrm>
            <a:off x="610560" y="1235160"/>
            <a:ext cx="2893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1772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Box 11"/>
          <p:cNvSpPr/>
          <p:nvPr/>
        </p:nvSpPr>
        <p:spPr>
          <a:xfrm>
            <a:off x="4302360" y="1235160"/>
            <a:ext cx="221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237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Box 12"/>
          <p:cNvSpPr/>
          <p:nvPr/>
        </p:nvSpPr>
        <p:spPr>
          <a:xfrm>
            <a:off x="1627920" y="390204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Box 13"/>
          <p:cNvSpPr/>
          <p:nvPr/>
        </p:nvSpPr>
        <p:spPr>
          <a:xfrm>
            <a:off x="4881600" y="390204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Slide Number Placeholder 1"/>
          <p:cNvSpPr/>
          <p:nvPr/>
        </p:nvSpPr>
        <p:spPr>
          <a:xfrm>
            <a:off x="6621480" y="6399360"/>
            <a:ext cx="9986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3F0BD3-5775-4825-AF6C-16B2DEB3099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1440" y="-1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Rectangle 1"/>
          <p:cNvSpPr/>
          <p:nvPr/>
        </p:nvSpPr>
        <p:spPr>
          <a:xfrm>
            <a:off x="457200" y="762120"/>
            <a:ext cx="3200400" cy="25146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7"/>
          <p:cNvSpPr/>
          <p:nvPr/>
        </p:nvSpPr>
        <p:spPr>
          <a:xfrm>
            <a:off x="3809880" y="762120"/>
            <a:ext cx="3200400" cy="25146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angle 8"/>
          <p:cNvSpPr/>
          <p:nvPr/>
        </p:nvSpPr>
        <p:spPr>
          <a:xfrm>
            <a:off x="3809880" y="3429000"/>
            <a:ext cx="3200400" cy="2514600"/>
          </a:xfrm>
          <a:prstGeom prst="rect">
            <a:avLst/>
          </a:prstGeom>
          <a:solidFill>
            <a:srgbClr val="b2b2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9"/>
          <p:cNvSpPr/>
          <p:nvPr/>
        </p:nvSpPr>
        <p:spPr>
          <a:xfrm>
            <a:off x="457200" y="3429000"/>
            <a:ext cx="3200400" cy="2514600"/>
          </a:xfrm>
          <a:prstGeom prst="rect">
            <a:avLst/>
          </a:prstGeom>
          <a:solidFill>
            <a:srgbClr val="b2b2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Box 14"/>
          <p:cNvSpPr/>
          <p:nvPr/>
        </p:nvSpPr>
        <p:spPr>
          <a:xfrm>
            <a:off x="3871800" y="1203480"/>
            <a:ext cx="30625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37 - the Number of Years MA Operated without Principles (from 1772 to 2009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Box 15"/>
          <p:cNvSpPr/>
          <p:nvPr/>
        </p:nvSpPr>
        <p:spPr>
          <a:xfrm>
            <a:off x="541440" y="3870360"/>
            <a:ext cx="30607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 - the Number of  Principles that Govern MA namely: Causality and Ana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Box 16"/>
          <p:cNvSpPr/>
          <p:nvPr/>
        </p:nvSpPr>
        <p:spPr>
          <a:xfrm>
            <a:off x="3886200" y="3870360"/>
            <a:ext cx="30621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 - the Number of Principle-based MA Approaches in the Marketplace: R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Box 2"/>
          <p:cNvSpPr/>
          <p:nvPr/>
        </p:nvSpPr>
        <p:spPr>
          <a:xfrm>
            <a:off x="527040" y="819000"/>
            <a:ext cx="306072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772 – Approximate  Year the Concept of Variable Cost First Appears in the Literature and Arguably the Beginning of 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1"/>
          <p:cNvSpPr/>
          <p:nvPr/>
        </p:nvSpPr>
        <p:spPr>
          <a:xfrm>
            <a:off x="770040" y="125280"/>
            <a:ext cx="6265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One Thing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1" name="Picture 4" descr="preferences_edit"/>
          <p:cNvPicPr/>
          <p:nvPr/>
        </p:nvPicPr>
        <p:blipFill>
          <a:blip r:embed="rId1"/>
          <a:stretch/>
        </p:blipFill>
        <p:spPr>
          <a:xfrm>
            <a:off x="3075120" y="2590920"/>
            <a:ext cx="134460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"/>
          <p:cNvPicPr/>
          <p:nvPr/>
        </p:nvPicPr>
        <p:blipFill>
          <a:blip r:embed="rId1"/>
          <a:stretch/>
        </p:blipFill>
        <p:spPr>
          <a:xfrm>
            <a:off x="1974960" y="1830240"/>
            <a:ext cx="3968640" cy="342756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1"/>
          <p:cNvSpPr/>
          <p:nvPr/>
        </p:nvSpPr>
        <p:spPr>
          <a:xfrm>
            <a:off x="770040" y="125280"/>
            <a:ext cx="6265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One Thing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1"/>
          <p:cNvSpPr/>
          <p:nvPr/>
        </p:nvSpPr>
        <p:spPr>
          <a:xfrm>
            <a:off x="762120" y="838080"/>
            <a:ext cx="6265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Manager’s Brain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1"/>
          <p:cNvSpPr/>
          <p:nvPr/>
        </p:nvSpPr>
        <p:spPr>
          <a:xfrm>
            <a:off x="762120" y="5029200"/>
            <a:ext cx="6265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Disclaimer: Image Does Not Reflect Actual Siz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5T21:17:13Z</dcterms:created>
  <dc:creator>Anton van der Merwe</dc:creator>
  <dc:description/>
  <dc:language>en-US</dc:language>
  <cp:lastModifiedBy>AvdM</cp:lastModifiedBy>
  <cp:lastPrinted>2014-04-28T18:03:48Z</cp:lastPrinted>
  <dcterms:modified xsi:type="dcterms:W3CDTF">2014-04-29T02:09:17Z</dcterms:modified>
  <cp:revision>206</cp:revision>
  <dc:subject/>
  <dc:title>Slide 1</dc:title>
</cp:coreProperties>
</file>