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0" y="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3971880" y="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7000" y="691920"/>
            <a:ext cx="4603680" cy="34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0" y="877572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6"/>
          </p:nvPr>
        </p:nvSpPr>
        <p:spPr>
          <a:xfrm>
            <a:off x="397152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82CE4-AAD3-4683-9570-D0CAEB422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1247A-5498-4CF3-9D80-CB9E70922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1"/>
          <p:cNvSpPr/>
          <p:nvPr/>
        </p:nvSpPr>
        <p:spPr>
          <a:xfrm>
            <a:off x="3971880" y="877572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78DF0-3D76-4334-8935-2624FCC6F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B26BA-751A-48D6-9179-52BDF85C3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3D113-A759-4FB3-8BFB-09B6C5897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51B3A-904C-44DD-B308-653815367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9BF8A-FB2C-4334-945D-C33D60E35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686AE-D204-490A-9B12-74DB64EA9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04ADB-0D93-41D0-B322-486CFDC46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EBCAA-D12D-4E39-83B7-D0D03414D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F78EA-BC3B-4F14-B6AA-4C7685800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88BE5-1412-4A7D-9280-D16FDD8CD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A77E0-5533-4E34-B374-718AA8396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98B4E-D6C7-4CC5-8F99-057FBF22F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ADDA9-4121-4722-9DBB-A2C4FA3DE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67ECC-12CF-40C8-823A-E7AAC498E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E5CCA-1B16-4C19-8D1D-F24CB546B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054CD-2CC4-448C-AFD1-A428FFB62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C2836-D5E2-403A-9C2B-EBC8BD718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387320"/>
            <a:ext cx="513252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BCA06-1A89-4984-8B41-060ED01DC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71C8F-7340-4EE5-A17E-CF0613BB2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D04C4-4931-477D-89EB-27A76F971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88F87-F55A-46EC-9F98-4AD1004F7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DEE1A-3A63-44C9-B900-343565BB6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3120" y="4387320"/>
            <a:ext cx="513252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8F2C7-051B-4AC6-83F9-0C346D026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F132B-B264-46B9-B264-C4D7D34A6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3120" y="4387320"/>
            <a:ext cx="513252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AAC5F-2D78-4F6F-8FE9-EB4DC815F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3120" y="4387320"/>
            <a:ext cx="513252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5710-B517-4B04-9777-9D4CCE4CF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4308-FF8B-4DC5-99FF-02B5B0B10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6476-6A99-47A5-86B1-090B7E986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FD5B-9B85-4D69-921F-A24AA0102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33AEA-1165-49FE-BD1E-031C7E97D2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77365-6651-4749-B2B1-63047E2336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BAFEA-9666-4E1F-9BF3-C5B5A1612B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4737-44E1-4104-8D83-9F20C9E4AC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155E-A457-4562-9091-5765824D7D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4088F-501C-42BF-B206-1DF6A4F223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89D1-6790-421D-B6B8-CB01A3B658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B414-9336-4C8A-B22D-0749EC986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6186-0071-4418-BB10-3B2BC8BD48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8363C-6E1A-49A6-9149-482F54F0C3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244E-BB45-4EA2-9CB2-E443646B03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3DFC-ED10-4EDF-8332-0E2AC95756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3314-7961-4C73-B06D-D78F104AD9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D6BD-5862-4836-A2EC-DC5840CE20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87D9-A22B-4195-AA62-E1E128C39A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FEE-6631-4BDB-A9B1-B0FC42AB1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15AF-4499-48E0-A9C9-2FCE282FC97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A2E-1649-43CA-A629-45F6F1E358C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147-CD83-48E9-AF45-C7D079B82A4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E23-E107-4804-A3AC-53B4DE61049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86F-8346-41CD-9DD8-DF11C500CE7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477-2A19-4303-8348-3D94576690B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178-F6B6-47D7-AE63-160F9E91128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CD1-7BE4-4B28-9E09-1060993E5CC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A97-91DC-4E21-80AE-081BD1934C4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1FA-E78D-4854-B1C9-24EAF8A4AA4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63E-8DE0-4B2F-A9F9-F274F2892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8495-8C30-496B-9415-22C75E5A908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8C2-5BFC-457C-8F3F-EA75A872DA3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02A3B-E400-4B7C-AB2D-ABBEA81AD65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B6091-B802-4802-B462-1395EA549C3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84206-7884-49E7-8615-57404DE8A39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65BB4-D650-48CB-84FD-7E124C26F4D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C9435-2B5B-435A-A3C3-F54B20BB686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D3D74-C563-4BAF-B267-BE9B85B6A24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6AF46-C4EC-4F64-9BEF-57AF90D7F0C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E5310-A993-4729-8C7B-58CF1B7784E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7ECA1-7C5F-4AFB-9E92-9A11A7CC8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187D-0CB3-4773-A62C-C96452CA055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F7C19-191E-4831-A79E-1F69ACC8F39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1AC22-F83E-4AE9-851D-CD2591BA8EF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9DFD7-673D-4756-893F-854CEEFA182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377DC-D2EA-4F0B-A28C-5A1F8714466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939D2-D4A2-4CAB-9CD8-8456BA1D765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DF16E-0CA0-4254-8889-410A3DAA0ED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87FA7-6E7F-4F87-A4AD-65EE678D467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A2851-5279-4C64-9060-95BD764427E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E7B42-535D-491C-BC69-76E0F790D1B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78B94-0FCB-45D6-B719-349C336DC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7C71-76F8-4B7B-B271-D5E3A57D104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AAD53-1B96-42E2-8177-2038EAF02D1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FB28E-3404-450B-9B1C-589EEC98300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EA6A4-F2B9-4BBE-AA13-C5E47D812E4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6985A-DC4F-4079-B459-3D29731A00E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5C63D-35F7-466A-89F3-FE2580C6B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88FB-9C9D-4795-B572-72D4976B0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533520" y="6248520"/>
            <a:ext cx="1904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6668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9720" y="6399360"/>
            <a:ext cx="770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B05C1-440F-4A6C-9130-901C9E0FF1C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507440" y="0"/>
            <a:ext cx="1672920" cy="6865920"/>
          </a:xfrm>
          <a:prstGeom prst="rect">
            <a:avLst/>
          </a:prstGeom>
          <a:ln w="0">
            <a:noFill/>
          </a:ln>
        </p:spPr>
      </p:pic>
      <p:sp>
        <p:nvSpPr>
          <p:cNvPr id="6" name="Text Box 9"/>
          <p:cNvSpPr/>
          <p:nvPr/>
        </p:nvSpPr>
        <p:spPr>
          <a:xfrm>
            <a:off x="2287440" y="6568920"/>
            <a:ext cx="396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a Via Consulting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8763120" y="2286000"/>
            <a:ext cx="609480" cy="507960"/>
          </a:xfrm>
          <a:prstGeom prst="diamond">
            <a:avLst/>
          </a:prstGeom>
          <a:solidFill>
            <a:srgbClr val="3f669a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-685800" y="5283360"/>
            <a:ext cx="609480" cy="507960"/>
          </a:xfrm>
          <a:prstGeom prst="diamond">
            <a:avLst/>
          </a:prstGeom>
          <a:solidFill>
            <a:srgbClr val="3f669a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467120" y="6248160"/>
            <a:ext cx="979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B4713-6A38-4C3C-95A2-5BB900DEFF8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e6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2"/>
          <a:srcRect l="897" t="710" r="-866" b="-682"/>
          <a:stretch/>
        </p:blipFill>
        <p:spPr>
          <a:xfrm>
            <a:off x="7945560" y="5516640"/>
            <a:ext cx="1163520" cy="127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533520" y="6248520"/>
            <a:ext cx="1904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6668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7507440" y="0"/>
            <a:ext cx="1672920" cy="6865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2287440" y="6568920"/>
            <a:ext cx="396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a Via Consulting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F:\avc\avc-us\demos\images\AltaViaConsulting-Banner.jpg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7622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0" y="6537240"/>
            <a:ext cx="9144000" cy="121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F:\avc\avc-us\demos\images\AltaViaConsulting-Footer.jpg"/>
          <p:cNvPicPr/>
          <p:nvPr/>
        </p:nvPicPr>
        <p:blipFill>
          <a:blip r:embed="rId4"/>
          <a:srcRect l="0" t="0" r="0" b="65969"/>
          <a:stretch/>
        </p:blipFill>
        <p:spPr>
          <a:xfrm>
            <a:off x="0" y="6237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0" y="1628640"/>
            <a:ext cx="9144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533520" y="6248520"/>
            <a:ext cx="1904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6668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7507440" y="0"/>
            <a:ext cx="1672920" cy="68659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2287440" y="6568920"/>
            <a:ext cx="396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a Via Consulting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3"/>
          </p:nvPr>
        </p:nvSpPr>
        <p:spPr>
          <a:xfrm>
            <a:off x="6849720" y="6400800"/>
            <a:ext cx="77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AD450-2868-4EA9-BAC1-62F88993963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533520" y="6248520"/>
            <a:ext cx="1904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6668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7507440" y="0"/>
            <a:ext cx="1672920" cy="6865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2287440" y="6568920"/>
            <a:ext cx="396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a Via Consulting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4"/>
          </p:nvPr>
        </p:nvSpPr>
        <p:spPr>
          <a:xfrm>
            <a:off x="6621480" y="6399360"/>
            <a:ext cx="9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C5552-E3C7-44C1-9B60-5DA9AA83015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533520" y="6248520"/>
            <a:ext cx="1904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6668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7" descr=""/>
          <p:cNvPicPr/>
          <p:nvPr/>
        </p:nvPicPr>
        <p:blipFill>
          <a:blip r:embed="rId2"/>
          <a:stretch/>
        </p:blipFill>
        <p:spPr>
          <a:xfrm>
            <a:off x="7507440" y="0"/>
            <a:ext cx="1672920" cy="68659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9"/>
          <p:cNvSpPr/>
          <p:nvPr/>
        </p:nvSpPr>
        <p:spPr>
          <a:xfrm>
            <a:off x="2287440" y="6568920"/>
            <a:ext cx="396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a Via Consulting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5"/>
          </p:nvPr>
        </p:nvSpPr>
        <p:spPr>
          <a:xfrm>
            <a:off x="6773400" y="6399360"/>
            <a:ext cx="846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64427-4FD5-4ADF-BC40-EF56424710A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1276200" y="1716120"/>
            <a:ext cx="66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: Conceptual Framework for Managerial Co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1276200" y="432576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, April 2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2" descr="F:\avc\avc-us\demos\images\AltaViaConsulting-Banner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533520" y="4932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brain"/>
          <p:cNvPicPr/>
          <p:nvPr/>
        </p:nvPicPr>
        <p:blipFill>
          <a:blip r:embed="rId1"/>
          <a:stretch/>
        </p:blipFill>
        <p:spPr>
          <a:xfrm>
            <a:off x="5627520" y="762120"/>
            <a:ext cx="1382760" cy="119052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3"/>
          <p:cNvSpPr/>
          <p:nvPr/>
        </p:nvSpPr>
        <p:spPr>
          <a:xfrm>
            <a:off x="378000" y="1859040"/>
            <a:ext cx="73180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think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345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a given outcome – Understand the caus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345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10" descr="nonprofit"/>
          <p:cNvPicPr/>
          <p:nvPr/>
        </p:nvPicPr>
        <p:blipFill>
          <a:blip r:embed="rId2"/>
          <a:stretch/>
        </p:blipFill>
        <p:spPr>
          <a:xfrm>
            <a:off x="5224320" y="4764240"/>
            <a:ext cx="871560" cy="87156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11"/>
          <p:cNvSpPr/>
          <p:nvPr/>
        </p:nvSpPr>
        <p:spPr>
          <a:xfrm flipH="1">
            <a:off x="1848600" y="4417920"/>
            <a:ext cx="3341880" cy="230400"/>
          </a:xfrm>
          <a:custGeom>
            <a:avLst/>
            <a:gdLst>
              <a:gd name="textAreaLeft" fmla="*/ -360 w 3341880"/>
              <a:gd name="textAreaRight" fmla="*/ 3341880 w 334188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40" y="0"/>
                </a:lnTo>
                <a:lnTo>
                  <a:pt x="21600" y="10800"/>
                </a:lnTo>
                <a:lnTo>
                  <a:pt x="204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7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12"/>
          <p:cNvSpPr/>
          <p:nvPr/>
        </p:nvSpPr>
        <p:spPr>
          <a:xfrm flipH="1">
            <a:off x="1887120" y="4532400"/>
            <a:ext cx="330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13" descr="moneybag_dollar"/>
          <p:cNvPicPr/>
          <p:nvPr/>
        </p:nvPicPr>
        <p:blipFill>
          <a:blip r:embed="rId3"/>
          <a:stretch/>
        </p:blipFill>
        <p:spPr>
          <a:xfrm>
            <a:off x="5292720" y="33084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gears_run"/>
          <p:cNvPicPr/>
          <p:nvPr/>
        </p:nvPicPr>
        <p:blipFill>
          <a:blip r:embed="rId4"/>
          <a:stretch/>
        </p:blipFill>
        <p:spPr>
          <a:xfrm>
            <a:off x="685800" y="414648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delete2"/>
          <p:cNvPicPr/>
          <p:nvPr/>
        </p:nvPicPr>
        <p:blipFill>
          <a:blip r:embed="rId5"/>
          <a:stretch/>
        </p:blipFill>
        <p:spPr>
          <a:xfrm>
            <a:off x="6083280" y="4648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5" name="Rounded Rectangle 16"/>
          <p:cNvGrpSpPr/>
          <p:nvPr/>
        </p:nvGrpSpPr>
        <p:grpSpPr>
          <a:xfrm>
            <a:off x="6072120" y="3260880"/>
            <a:ext cx="1017720" cy="909360"/>
            <a:chOff x="6072120" y="3260880"/>
            <a:chExt cx="1017720" cy="909360"/>
          </a:xfrm>
        </p:grpSpPr>
        <p:pic>
          <p:nvPicPr>
            <p:cNvPr id="376" name="Rounded Rectangle 16" descr=""/>
            <p:cNvPicPr/>
            <p:nvPr/>
          </p:nvPicPr>
          <p:blipFill>
            <a:blip r:embed="rId6"/>
            <a:stretch/>
          </p:blipFill>
          <p:spPr>
            <a:xfrm>
              <a:off x="6072120" y="3260880"/>
              <a:ext cx="101772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110280" y="3300480"/>
              <a:ext cx="93996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" name="Rectangle 2"/>
          <p:cNvSpPr/>
          <p:nvPr/>
        </p:nvSpPr>
        <p:spPr>
          <a:xfrm>
            <a:off x="0" y="5214960"/>
            <a:ext cx="2209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4978440" y="5649840"/>
            <a:ext cx="2209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533520" y="15228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4" descr="brain"/>
          <p:cNvPicPr/>
          <p:nvPr/>
        </p:nvPicPr>
        <p:blipFill>
          <a:blip r:embed="rId1"/>
          <a:stretch/>
        </p:blipFill>
        <p:spPr>
          <a:xfrm>
            <a:off x="5638680" y="757080"/>
            <a:ext cx="1382760" cy="11908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378000" y="1859040"/>
            <a:ext cx="71658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think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97040" indent="-33984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a given decision – Understand the effec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7040" indent="-33984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15" descr="moneybag_dollar"/>
          <p:cNvPicPr/>
          <p:nvPr/>
        </p:nvPicPr>
        <p:blipFill>
          <a:blip r:embed="rId2"/>
          <a:stretch/>
        </p:blipFill>
        <p:spPr>
          <a:xfrm>
            <a:off x="5486400" y="3807000"/>
            <a:ext cx="1069920" cy="1069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6" descr="symbol_questionmark"/>
          <p:cNvPicPr/>
          <p:nvPr/>
        </p:nvPicPr>
        <p:blipFill>
          <a:blip r:embed="rId3"/>
          <a:stretch/>
        </p:blipFill>
        <p:spPr>
          <a:xfrm>
            <a:off x="6550200" y="3882960"/>
            <a:ext cx="917280" cy="917640"/>
          </a:xfrm>
          <a:prstGeom prst="rect">
            <a:avLst/>
          </a:prstGeom>
          <a:ln w="0">
            <a:noFill/>
          </a:ln>
        </p:spPr>
      </p:pic>
      <p:grpSp>
        <p:nvGrpSpPr>
          <p:cNvPr id="385" name="Group 18"/>
          <p:cNvGrpSpPr/>
          <p:nvPr/>
        </p:nvGrpSpPr>
        <p:grpSpPr>
          <a:xfrm>
            <a:off x="1963800" y="4245120"/>
            <a:ext cx="3341520" cy="230040"/>
            <a:chOff x="1963800" y="4245120"/>
            <a:chExt cx="3341520" cy="230040"/>
          </a:xfrm>
        </p:grpSpPr>
        <p:sp>
          <p:nvSpPr>
            <p:cNvPr id="386" name="AutoShape 20"/>
            <p:cNvSpPr/>
            <p:nvPr/>
          </p:nvSpPr>
          <p:spPr>
            <a:xfrm>
              <a:off x="1963800" y="4245120"/>
              <a:ext cx="3341520" cy="230040"/>
            </a:xfrm>
            <a:custGeom>
              <a:avLst/>
              <a:gdLst>
                <a:gd name="textAreaLeft" fmla="*/ 0 w 3341520"/>
                <a:gd name="textAreaRight" fmla="*/ 3341880 w 33415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40" y="0"/>
                  </a:lnTo>
                  <a:lnTo>
                    <a:pt x="21600" y="10800"/>
                  </a:lnTo>
                  <a:lnTo>
                    <a:pt x="2044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7ff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1"/>
            <p:cNvSpPr/>
            <p:nvPr/>
          </p:nvSpPr>
          <p:spPr>
            <a:xfrm>
              <a:off x="1964160" y="4359240"/>
              <a:ext cx="330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8" name="Picture 4" descr="gears_run"/>
          <p:cNvPicPr/>
          <p:nvPr/>
        </p:nvPicPr>
        <p:blipFill>
          <a:blip r:embed="rId4"/>
          <a:stretch/>
        </p:blipFill>
        <p:spPr>
          <a:xfrm>
            <a:off x="838080" y="3884760"/>
            <a:ext cx="916200" cy="91584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2"/>
          <p:cNvSpPr/>
          <p:nvPr/>
        </p:nvSpPr>
        <p:spPr>
          <a:xfrm>
            <a:off x="152280" y="4876920"/>
            <a:ext cx="22100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4978440" y="4986360"/>
            <a:ext cx="2209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0640" y="0"/>
            <a:ext cx="67708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’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nciple of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nciple of Ana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685800" y="1719360"/>
            <a:ext cx="64008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relation between a managerial objective’s quantifiable output and the inputs that must be consumed if the output is to be achie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685800" y="3753000"/>
            <a:ext cx="64008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 existing cause and effect insights are used to make inferences about the expected outcome of a particular managerial 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1" descr="C:\Users\Barbara England\Desktop\Training Icons\door_open.png"/>
          <p:cNvPicPr/>
          <p:nvPr/>
        </p:nvPicPr>
        <p:blipFill>
          <a:blip r:embed="rId1"/>
          <a:stretch/>
        </p:blipFill>
        <p:spPr>
          <a:xfrm>
            <a:off x="6858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"/>
          <p:cNvSpPr/>
          <p:nvPr/>
        </p:nvSpPr>
        <p:spPr>
          <a:xfrm>
            <a:off x="1905120" y="251460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7529400" cy="57592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0"/>
          <p:cNvSpPr/>
          <p:nvPr/>
        </p:nvSpPr>
        <p:spPr>
          <a:xfrm>
            <a:off x="606600" y="4495680"/>
            <a:ext cx="686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EO is a BI/BW-based In-memory Best of Breed Managerial Costing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http://capriza3.files.wordpress.com/2013/11/sap-ecc.jpg"/>
          <p:cNvPicPr/>
          <p:nvPr/>
        </p:nvPicPr>
        <p:blipFill>
          <a:blip r:embed="rId1"/>
          <a:stretch/>
        </p:blipFill>
        <p:spPr>
          <a:xfrm>
            <a:off x="0" y="533520"/>
            <a:ext cx="7512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1905120" y="304812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770040" y="12528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Statement 4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2" descr="C:\Users\Barbara England\Desktop\Training Icons\sign_warning.png"/>
          <p:cNvPicPr/>
          <p:nvPr/>
        </p:nvPicPr>
        <p:blipFill>
          <a:blip r:embed="rId1"/>
          <a:stretch/>
        </p:blipFill>
        <p:spPr>
          <a:xfrm>
            <a:off x="2514600" y="19051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0" y="0"/>
            <a:ext cx="9220320" cy="685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577800" y="604800"/>
            <a:ext cx="7912080" cy="126216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835200" y="934920"/>
            <a:ext cx="2035080" cy="7318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894240" y="946080"/>
            <a:ext cx="19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6437160" y="934920"/>
            <a:ext cx="1803600" cy="731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6367680" y="946080"/>
            <a:ext cx="19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3765600" y="934920"/>
            <a:ext cx="2084400" cy="731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3830760" y="946080"/>
            <a:ext cx="197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576360" y="406440"/>
            <a:ext cx="1965240" cy="36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641520" y="422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3919680" y="2179800"/>
            <a:ext cx="4070160" cy="95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3956040" y="221148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antitative Model of the Economic Flow of Goods and Services Based on Cause and Effect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8"/>
          <p:cNvSpPr/>
          <p:nvPr/>
        </p:nvSpPr>
        <p:spPr>
          <a:xfrm>
            <a:off x="662040" y="2179800"/>
            <a:ext cx="2381040" cy="95400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9"/>
          <p:cNvSpPr/>
          <p:nvPr/>
        </p:nvSpPr>
        <p:spPr>
          <a:xfrm>
            <a:off x="654120" y="2173320"/>
            <a:ext cx="238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Accou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inancial Accounting Principles App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1" name="AutoShape 20"/>
          <p:cNvCxnSpPr>
            <a:stCxn id="419" idx="0"/>
            <a:endCxn id="409" idx="2"/>
          </p:cNvCxnSpPr>
          <p:nvPr/>
        </p:nvCxnSpPr>
        <p:spPr>
          <a:xfrm flipV="1">
            <a:off x="1852200" y="1666080"/>
            <a:ext cx="1080" cy="51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22" name="Line 21"/>
          <p:cNvSpPr/>
          <p:nvPr/>
        </p:nvSpPr>
        <p:spPr>
          <a:xfrm flipH="1">
            <a:off x="5952600" y="4400640"/>
            <a:ext cx="1800" cy="2151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2"/>
          <p:cNvSpPr/>
          <p:nvPr/>
        </p:nvSpPr>
        <p:spPr>
          <a:xfrm flipH="1">
            <a:off x="577440" y="6551640"/>
            <a:ext cx="5234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3"/>
          <p:cNvSpPr/>
          <p:nvPr/>
        </p:nvSpPr>
        <p:spPr>
          <a:xfrm>
            <a:off x="6107040" y="6551640"/>
            <a:ext cx="2382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4"/>
          <p:cNvSpPr/>
          <p:nvPr/>
        </p:nvSpPr>
        <p:spPr>
          <a:xfrm>
            <a:off x="6990840" y="6369120"/>
            <a:ext cx="76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5"/>
          <p:cNvSpPr/>
          <p:nvPr/>
        </p:nvSpPr>
        <p:spPr>
          <a:xfrm>
            <a:off x="2844360" y="6369120"/>
            <a:ext cx="813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6"/>
          <p:cNvSpPr/>
          <p:nvPr/>
        </p:nvSpPr>
        <p:spPr>
          <a:xfrm flipH="1">
            <a:off x="3034800" y="2635200"/>
            <a:ext cx="884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8"/>
          <p:cNvSpPr/>
          <p:nvPr/>
        </p:nvSpPr>
        <p:spPr>
          <a:xfrm>
            <a:off x="4800600" y="1658880"/>
            <a:ext cx="0" cy="52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29"/>
          <p:cNvSpPr/>
          <p:nvPr/>
        </p:nvSpPr>
        <p:spPr>
          <a:xfrm>
            <a:off x="5952240" y="3133800"/>
            <a:ext cx="1800" cy="38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30"/>
          <p:cNvSpPr/>
          <p:nvPr/>
        </p:nvSpPr>
        <p:spPr>
          <a:xfrm>
            <a:off x="6145200" y="4592520"/>
            <a:ext cx="2190600" cy="1768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31"/>
          <p:cNvSpPr/>
          <p:nvPr/>
        </p:nvSpPr>
        <p:spPr>
          <a:xfrm>
            <a:off x="6167520" y="4606920"/>
            <a:ext cx="22446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Managers’ Inferences as to Future Outcom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Formul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-if Analys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Support/Adaptive Ac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32"/>
          <p:cNvSpPr/>
          <p:nvPr/>
        </p:nvSpPr>
        <p:spPr>
          <a:xfrm>
            <a:off x="3765600" y="4592520"/>
            <a:ext cx="1958760" cy="1768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33"/>
          <p:cNvSpPr/>
          <p:nvPr/>
        </p:nvSpPr>
        <p:spPr>
          <a:xfrm>
            <a:off x="3787920" y="4606920"/>
            <a:ext cx="20905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Managers’ Inferences as to What Transpire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trategic Assess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Analysis &amp; Contro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Learn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Corrective Ac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4"/>
          <p:cNvSpPr/>
          <p:nvPr/>
        </p:nvSpPr>
        <p:spPr>
          <a:xfrm flipH="1">
            <a:off x="4711680" y="4170240"/>
            <a:ext cx="1241280" cy="42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5"/>
          <p:cNvSpPr/>
          <p:nvPr/>
        </p:nvSpPr>
        <p:spPr>
          <a:xfrm>
            <a:off x="5952960" y="4170240"/>
            <a:ext cx="1386000" cy="42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7"/>
          <p:cNvSpPr/>
          <p:nvPr/>
        </p:nvSpPr>
        <p:spPr>
          <a:xfrm>
            <a:off x="3919680" y="3517920"/>
            <a:ext cx="4070160" cy="652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ation of the quantitative cost mo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ine with optimization objectiv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2"/>
          <p:cNvSpPr/>
          <p:nvPr/>
        </p:nvSpPr>
        <p:spPr>
          <a:xfrm>
            <a:off x="406440" y="1949400"/>
            <a:ext cx="2844720" cy="1403280"/>
          </a:xfrm>
          <a:prstGeom prst="ellipse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34"/>
          <p:cNvSpPr/>
          <p:nvPr/>
        </p:nvSpPr>
        <p:spPr>
          <a:xfrm>
            <a:off x="3782880" y="1949400"/>
            <a:ext cx="4370400" cy="1403280"/>
          </a:xfrm>
          <a:prstGeom prst="ellipse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traight Connector 33"/>
          <p:cNvSpPr/>
          <p:nvPr/>
        </p:nvSpPr>
        <p:spPr>
          <a:xfrm>
            <a:off x="3505320" y="1990800"/>
            <a:ext cx="0" cy="4410000"/>
          </a:xfrm>
          <a:prstGeom prst="line">
            <a:avLst/>
          </a:prstGeom>
          <a:ln w="28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34"/>
          <p:cNvSpPr/>
          <p:nvPr/>
        </p:nvSpPr>
        <p:spPr>
          <a:xfrm>
            <a:off x="528480" y="4286160"/>
            <a:ext cx="27226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Paragraphs 13 and 14 in Statement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770040" y="76320"/>
            <a:ext cx="626580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ucial Dif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492120" y="1096920"/>
            <a:ext cx="2711520" cy="7318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498600" y="1109520"/>
            <a:ext cx="269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Accounting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4324320" y="1096920"/>
            <a:ext cx="3019320" cy="731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4332600" y="1109520"/>
            <a:ext cx="305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ial Accoun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Decision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Straight Connector 7"/>
          <p:cNvSpPr/>
          <p:nvPr/>
        </p:nvSpPr>
        <p:spPr>
          <a:xfrm>
            <a:off x="3809880" y="1066680"/>
            <a:ext cx="0" cy="5291280"/>
          </a:xfrm>
          <a:prstGeom prst="line">
            <a:avLst/>
          </a:prstGeom>
          <a:ln w="28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228600" y="2133720"/>
            <a:ext cx="350532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’s Matching &amp; Periodic Principles Ap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, Causal, and Other Assignment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not in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Cost Pro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Deprec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3962520" y="2133720"/>
            <a:ext cx="358128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’s Causality &amp; Analogy Principles Ap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Causal Assignments Subscribed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at Its C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able Cost Pro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Usage Deprec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1"/>
          <p:cNvSpPr/>
          <p:nvPr/>
        </p:nvSpPr>
        <p:spPr>
          <a:xfrm>
            <a:off x="7467480" y="6248520"/>
            <a:ext cx="1179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D72F1-C3FC-4F1D-B7A0-EB98B827636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1878120" y="150012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770040" y="12528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237960" y="1514520"/>
            <a:ext cx="71535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"/>
          <p:cNvSpPr/>
          <p:nvPr/>
        </p:nvSpPr>
        <p:spPr>
          <a:xfrm>
            <a:off x="1905120" y="358128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304920" y="1415880"/>
            <a:ext cx="70866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developing a cost culture which requi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n organization with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focus of supporting managerial costing within the ent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 champion in senior management to drive the 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 Long-term dedication to shifting from a budget-centric mind-set to a cost informed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 recognition that cost informed decisions rely on the principles causality and ana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304920" y="1328760"/>
            <a:ext cx="7162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es all Perspectiv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trateg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– Long-range defining  What  and Why; e.g. Objective X Should Cost Y in Year 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ac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– Mid-range defining of How to translate the strategic cost objective into practical and specific actions; e.g. optimize process A to meet strategic obj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per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– Day-to-day execution of specific tasks to deliver the outputs; e.g. utilize contract support or overtime to provide output X at cost impact of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304920" y="1268280"/>
            <a:ext cx="7162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es Domains (Financial versus Opera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740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erceived to be the responsibility of the Financial domain since cost is a monetary 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740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Reality is Operational domain manages the input/output relationships and therefore are closer to understanding causal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740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perational managers have direct influence on optimization decisions (planning and controlling) and financial managers support through providing cost data (accounting and analy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219240" y="2128680"/>
            <a:ext cx="2295360" cy="2907000"/>
          </a:xfrm>
          <a:prstGeom prst="rect">
            <a:avLst/>
          </a:prstGeom>
          <a:solidFill>
            <a:srgbClr val="ccec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29"/>
          <p:cNvGrpSpPr/>
          <p:nvPr/>
        </p:nvGrpSpPr>
        <p:grpSpPr>
          <a:xfrm>
            <a:off x="2590920" y="3343320"/>
            <a:ext cx="2112840" cy="1361160"/>
            <a:chOff x="2590920" y="3343320"/>
            <a:chExt cx="2112840" cy="1361160"/>
          </a:xfrm>
        </p:grpSpPr>
        <p:grpSp>
          <p:nvGrpSpPr>
            <p:cNvPr id="463" name="Group 17"/>
            <p:cNvGrpSpPr/>
            <p:nvPr/>
          </p:nvGrpSpPr>
          <p:grpSpPr>
            <a:xfrm>
              <a:off x="3175560" y="3359160"/>
              <a:ext cx="1014480" cy="308880"/>
              <a:chOff x="3175560" y="3359160"/>
              <a:chExt cx="1014480" cy="308880"/>
            </a:xfrm>
          </p:grpSpPr>
          <p:sp>
            <p:nvSpPr>
              <p:cNvPr id="464" name="AutoShape 18"/>
              <p:cNvSpPr/>
              <p:nvPr/>
            </p:nvSpPr>
            <p:spPr>
              <a:xfrm>
                <a:off x="3175560" y="3359160"/>
                <a:ext cx="378360" cy="29592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295920"/>
                  <a:gd name="textAreaBottom" fmla="*/ 296280 h 29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46" y="0"/>
                    </a:lnTo>
                    <a:lnTo>
                      <a:pt x="21600" y="10800"/>
                    </a:lnTo>
                    <a:lnTo>
                      <a:pt x="14846" y="21600"/>
                    </a:lnTo>
                    <a:lnTo>
                      <a:pt x="0" y="21600"/>
                    </a:lnTo>
                    <a:lnTo>
                      <a:pt x="675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AutoShape 19"/>
              <p:cNvSpPr/>
              <p:nvPr/>
            </p:nvSpPr>
            <p:spPr>
              <a:xfrm>
                <a:off x="3504960" y="3371400"/>
                <a:ext cx="377640" cy="29664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16" y="0"/>
                    </a:lnTo>
                    <a:lnTo>
                      <a:pt x="21600" y="10800"/>
                    </a:lnTo>
                    <a:lnTo>
                      <a:pt x="14816" y="21600"/>
                    </a:lnTo>
                    <a:lnTo>
                      <a:pt x="0" y="21600"/>
                    </a:lnTo>
                    <a:lnTo>
                      <a:pt x="678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AutoShape 20"/>
              <p:cNvSpPr/>
              <p:nvPr/>
            </p:nvSpPr>
            <p:spPr>
              <a:xfrm>
                <a:off x="3812400" y="3371400"/>
                <a:ext cx="377640" cy="29664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16" y="0"/>
                    </a:lnTo>
                    <a:lnTo>
                      <a:pt x="21600" y="10800"/>
                    </a:lnTo>
                    <a:lnTo>
                      <a:pt x="14816" y="21600"/>
                    </a:lnTo>
                    <a:lnTo>
                      <a:pt x="0" y="21600"/>
                    </a:lnTo>
                    <a:lnTo>
                      <a:pt x="678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Text Box 21"/>
            <p:cNvSpPr/>
            <p:nvPr/>
          </p:nvSpPr>
          <p:spPr>
            <a:xfrm>
              <a:off x="2590920" y="3849480"/>
              <a:ext cx="21128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cess Improvement (Lean 6-Sigma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grated Business Desig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AutoShape 22"/>
            <p:cNvSpPr/>
            <p:nvPr/>
          </p:nvSpPr>
          <p:spPr>
            <a:xfrm>
              <a:off x="2661480" y="3343320"/>
              <a:ext cx="456840" cy="456840"/>
            </a:xfrm>
            <a:prstGeom prst="flowChartInputOutpu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>
              <a:off x="4267440" y="3343320"/>
              <a:ext cx="354600" cy="456840"/>
            </a:xfrm>
            <a:prstGeom prst="flowChartDocumen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w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’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Oval 24"/>
          <p:cNvSpPr/>
          <p:nvPr/>
        </p:nvSpPr>
        <p:spPr>
          <a:xfrm>
            <a:off x="4724280" y="2122560"/>
            <a:ext cx="2667240" cy="3058920"/>
          </a:xfrm>
          <a:prstGeom prst="ellipse">
            <a:avLst/>
          </a:prstGeom>
          <a:solidFill>
            <a:srgbClr val="ffe8d1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Group 25"/>
          <p:cNvGrpSpPr/>
          <p:nvPr/>
        </p:nvGrpSpPr>
        <p:grpSpPr>
          <a:xfrm>
            <a:off x="1295280" y="5867280"/>
            <a:ext cx="5943600" cy="617760"/>
            <a:chOff x="1295280" y="5867280"/>
            <a:chExt cx="5943600" cy="617760"/>
          </a:xfrm>
        </p:grpSpPr>
        <p:grpSp>
          <p:nvGrpSpPr>
            <p:cNvPr id="472" name="AutoShape 26"/>
            <p:cNvGrpSpPr/>
            <p:nvPr/>
          </p:nvGrpSpPr>
          <p:grpSpPr>
            <a:xfrm>
              <a:off x="1295280" y="5867280"/>
              <a:ext cx="5943600" cy="617760"/>
              <a:chOff x="1295280" y="5867280"/>
              <a:chExt cx="5943600" cy="617760"/>
            </a:xfrm>
          </p:grpSpPr>
          <p:pic>
            <p:nvPicPr>
              <p:cNvPr id="473" name="AutoShape 26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5867280"/>
                <a:ext cx="5943600" cy="61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2218320" y="6023520"/>
                <a:ext cx="423288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5" name="Text Box 27"/>
            <p:cNvSpPr/>
            <p:nvPr/>
          </p:nvSpPr>
          <p:spPr>
            <a:xfrm>
              <a:off x="2476440" y="59814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ablers of Chan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6" name="Text Box 29"/>
          <p:cNvSpPr/>
          <p:nvPr/>
        </p:nvSpPr>
        <p:spPr>
          <a:xfrm>
            <a:off x="279360" y="2362320"/>
            <a:ext cx="223524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-focus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d rate driven – inpu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objective -99.9% oblig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goods has infinite deman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5029200" y="2459160"/>
            <a:ext cx="240048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 and performance focus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s driven - output &amp; outc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objective – resource consumption optimization (efficiency &amp; effective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what is necessary to obtain the objec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16200" y="1719360"/>
            <a:ext cx="27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ulture of Entitlement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32"/>
          <p:cNvSpPr/>
          <p:nvPr/>
        </p:nvSpPr>
        <p:spPr>
          <a:xfrm>
            <a:off x="4890600" y="1749600"/>
            <a:ext cx="24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ulture of Influenc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30"/>
          <p:cNvGrpSpPr/>
          <p:nvPr/>
        </p:nvGrpSpPr>
        <p:grpSpPr>
          <a:xfrm>
            <a:off x="2666880" y="4468680"/>
            <a:ext cx="2360880" cy="1211400"/>
            <a:chOff x="2666880" y="4468680"/>
            <a:chExt cx="2360880" cy="1211400"/>
          </a:xfrm>
        </p:grpSpPr>
        <p:sp>
          <p:nvSpPr>
            <p:cNvPr id="481" name="Text Box 16"/>
            <p:cNvSpPr/>
            <p:nvPr/>
          </p:nvSpPr>
          <p:spPr>
            <a:xfrm>
              <a:off x="2666880" y="5114520"/>
              <a:ext cx="236088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RP Applications  (e.g. SAP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usiness Warehous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xecutive Scorecar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2" name="Picture 34" descr="clients"/>
            <p:cNvPicPr/>
            <p:nvPr/>
          </p:nvPicPr>
          <p:blipFill>
            <a:blip r:embed="rId2"/>
            <a:stretch/>
          </p:blipFill>
          <p:spPr>
            <a:xfrm>
              <a:off x="3351600" y="4468680"/>
              <a:ext cx="914760" cy="64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Group 28"/>
          <p:cNvGrpSpPr/>
          <p:nvPr/>
        </p:nvGrpSpPr>
        <p:grpSpPr>
          <a:xfrm>
            <a:off x="2590920" y="1752480"/>
            <a:ext cx="2361960" cy="1308960"/>
            <a:chOff x="2590920" y="1752480"/>
            <a:chExt cx="2361960" cy="1308960"/>
          </a:xfrm>
        </p:grpSpPr>
        <p:sp>
          <p:nvSpPr>
            <p:cNvPr id="484" name="Text Box 14"/>
            <p:cNvSpPr/>
            <p:nvPr/>
          </p:nvSpPr>
          <p:spPr>
            <a:xfrm>
              <a:off x="2590920" y="2495880"/>
              <a:ext cx="23619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velop/Recruit Analys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hance Train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formance Focu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5" name="Picture 33" descr="businessmen"/>
            <p:cNvPicPr/>
            <p:nvPr/>
          </p:nvPicPr>
          <p:blipFill>
            <a:blip r:embed="rId3"/>
            <a:stretch/>
          </p:blipFill>
          <p:spPr>
            <a:xfrm>
              <a:off x="2971440" y="1858320"/>
              <a:ext cx="607320" cy="4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35" descr="branch"/>
            <p:cNvPicPr/>
            <p:nvPr/>
          </p:nvPicPr>
          <p:blipFill>
            <a:blip r:embed="rId4"/>
            <a:stretch/>
          </p:blipFill>
          <p:spPr>
            <a:xfrm>
              <a:off x="3711600" y="1752480"/>
              <a:ext cx="860040" cy="77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7" name="Slide Number Placeholder 12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E1C3-AFAC-4115-A374-B989E6B75F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Management -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Group 28"/>
          <p:cNvGrpSpPr/>
          <p:nvPr/>
        </p:nvGrpSpPr>
        <p:grpSpPr>
          <a:xfrm>
            <a:off x="5486400" y="838080"/>
            <a:ext cx="2361960" cy="1204200"/>
            <a:chOff x="5486400" y="838080"/>
            <a:chExt cx="2361960" cy="1204200"/>
          </a:xfrm>
        </p:grpSpPr>
        <p:sp>
          <p:nvSpPr>
            <p:cNvPr id="490" name="Text Box 14"/>
            <p:cNvSpPr/>
            <p:nvPr/>
          </p:nvSpPr>
          <p:spPr>
            <a:xfrm>
              <a:off x="5486400" y="1476720"/>
              <a:ext cx="23619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velop/Recruit Analys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hance Train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formance Focu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1" name="Picture 33" descr="businessmen"/>
            <p:cNvPicPr/>
            <p:nvPr/>
          </p:nvPicPr>
          <p:blipFill>
            <a:blip r:embed="rId1"/>
            <a:stretch/>
          </p:blipFill>
          <p:spPr>
            <a:xfrm>
              <a:off x="5932800" y="938160"/>
              <a:ext cx="618840" cy="42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35" descr="branch"/>
            <p:cNvPicPr/>
            <p:nvPr/>
          </p:nvPicPr>
          <p:blipFill>
            <a:blip r:embed="rId2"/>
            <a:stretch/>
          </p:blipFill>
          <p:spPr>
            <a:xfrm>
              <a:off x="6629400" y="838080"/>
              <a:ext cx="1057680" cy="72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Slide Number Placeholder 12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932E-5B90-4CED-8C1E-7D22889F66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7"/>
          <p:cNvSpPr/>
          <p:nvPr/>
        </p:nvSpPr>
        <p:spPr>
          <a:xfrm>
            <a:off x="228600" y="1600200"/>
            <a:ext cx="731520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uctured Organiz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hift resources to “hub” like kind activities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centralize to incorporate analysts with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fined Ro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velopment of new positions (e.g. cost analys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hifting budget-centric roles to include cost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Skills &amp; Knowled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troduction of principles into Training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Management -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29"/>
          <p:cNvGrpSpPr/>
          <p:nvPr/>
        </p:nvGrpSpPr>
        <p:grpSpPr>
          <a:xfrm>
            <a:off x="5029200" y="1143000"/>
            <a:ext cx="2112840" cy="1361520"/>
            <a:chOff x="5029200" y="1143000"/>
            <a:chExt cx="2112840" cy="1361520"/>
          </a:xfrm>
        </p:grpSpPr>
        <p:grpSp>
          <p:nvGrpSpPr>
            <p:cNvPr id="497" name="Group 17"/>
            <p:cNvGrpSpPr/>
            <p:nvPr/>
          </p:nvGrpSpPr>
          <p:grpSpPr>
            <a:xfrm>
              <a:off x="5613840" y="1159200"/>
              <a:ext cx="1014480" cy="309240"/>
              <a:chOff x="5613840" y="1159200"/>
              <a:chExt cx="1014480" cy="309240"/>
            </a:xfrm>
          </p:grpSpPr>
          <p:sp>
            <p:nvSpPr>
              <p:cNvPr id="498" name="AutoShape 18"/>
              <p:cNvSpPr/>
              <p:nvPr/>
            </p:nvSpPr>
            <p:spPr>
              <a:xfrm>
                <a:off x="5613840" y="1159200"/>
                <a:ext cx="378360" cy="29592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295920"/>
                  <a:gd name="textAreaBottom" fmla="*/ 296280 h 29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46" y="0"/>
                    </a:lnTo>
                    <a:lnTo>
                      <a:pt x="21600" y="10800"/>
                    </a:lnTo>
                    <a:lnTo>
                      <a:pt x="14846" y="21600"/>
                    </a:lnTo>
                    <a:lnTo>
                      <a:pt x="0" y="21600"/>
                    </a:lnTo>
                    <a:lnTo>
                      <a:pt x="675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AutoShape 19"/>
              <p:cNvSpPr/>
              <p:nvPr/>
            </p:nvSpPr>
            <p:spPr>
              <a:xfrm>
                <a:off x="5943240" y="1171440"/>
                <a:ext cx="377640" cy="29700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16" y="0"/>
                    </a:lnTo>
                    <a:lnTo>
                      <a:pt x="21600" y="10800"/>
                    </a:lnTo>
                    <a:lnTo>
                      <a:pt x="14816" y="21600"/>
                    </a:lnTo>
                    <a:lnTo>
                      <a:pt x="0" y="21600"/>
                    </a:lnTo>
                    <a:lnTo>
                      <a:pt x="678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AutoShape 20"/>
              <p:cNvSpPr/>
              <p:nvPr/>
            </p:nvSpPr>
            <p:spPr>
              <a:xfrm>
                <a:off x="6250680" y="1171440"/>
                <a:ext cx="377640" cy="29700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16" y="0"/>
                    </a:lnTo>
                    <a:lnTo>
                      <a:pt x="21600" y="10800"/>
                    </a:lnTo>
                    <a:lnTo>
                      <a:pt x="14816" y="21600"/>
                    </a:lnTo>
                    <a:lnTo>
                      <a:pt x="0" y="21600"/>
                    </a:lnTo>
                    <a:lnTo>
                      <a:pt x="678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Text Box 21"/>
            <p:cNvSpPr/>
            <p:nvPr/>
          </p:nvSpPr>
          <p:spPr>
            <a:xfrm>
              <a:off x="5029200" y="1649520"/>
              <a:ext cx="21128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cess Improvement (Lean 6-Sigma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grated Business Desig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AutoShape 22"/>
            <p:cNvSpPr/>
            <p:nvPr/>
          </p:nvSpPr>
          <p:spPr>
            <a:xfrm>
              <a:off x="5099760" y="1143000"/>
              <a:ext cx="456840" cy="457200"/>
            </a:xfrm>
            <a:prstGeom prst="flowChartInputOutpu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AutoShape 23"/>
            <p:cNvSpPr/>
            <p:nvPr/>
          </p:nvSpPr>
          <p:spPr>
            <a:xfrm>
              <a:off x="6705720" y="1143000"/>
              <a:ext cx="354600" cy="457200"/>
            </a:xfrm>
            <a:prstGeom prst="flowChartDocumen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w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’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Slide Number Placeholder 12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9467-5153-48C1-8CE9-8A0D026A9F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457200" y="1422360"/>
            <a:ext cx="693432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olic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erform Time Trac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Usage-based vs Financial Deprec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ced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unding requests need cost benefit analysis 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ptimization need to take into consideration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cu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erformance variance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btain non-financial metr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Management -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Group 30"/>
          <p:cNvGrpSpPr/>
          <p:nvPr/>
        </p:nvGrpSpPr>
        <p:grpSpPr>
          <a:xfrm>
            <a:off x="5105520" y="1023840"/>
            <a:ext cx="2743200" cy="1359000"/>
            <a:chOff x="5105520" y="1023840"/>
            <a:chExt cx="2743200" cy="1359000"/>
          </a:xfrm>
        </p:grpSpPr>
        <p:sp>
          <p:nvSpPr>
            <p:cNvPr id="508" name="Text Box 16"/>
            <p:cNvSpPr/>
            <p:nvPr/>
          </p:nvSpPr>
          <p:spPr>
            <a:xfrm>
              <a:off x="5105520" y="1817280"/>
              <a:ext cx="274320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RP Applications  (e.g. SAP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usiness Warehous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xecutive Scorecar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9" name="Picture 34" descr="clients"/>
            <p:cNvPicPr/>
            <p:nvPr/>
          </p:nvPicPr>
          <p:blipFill>
            <a:blip r:embed="rId1"/>
            <a:stretch/>
          </p:blipFill>
          <p:spPr>
            <a:xfrm>
              <a:off x="5901120" y="1023840"/>
              <a:ext cx="1062720" cy="79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" name="Slide Number Placeholder 12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1B0E-3459-4383-8B0D-E20E334C52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04920" y="1422360"/>
            <a:ext cx="716256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arger data set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solidation of operational data with financial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bility to “crunch” through more advanced calc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Real or near-real time acces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user-friendly graphical interfa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rovide information versus data 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"/>
          <p:cNvSpPr/>
          <p:nvPr/>
        </p:nvSpPr>
        <p:spPr>
          <a:xfrm>
            <a:off x="1905120" y="411480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1"/>
          <p:cNvSpPr/>
          <p:nvPr/>
        </p:nvSpPr>
        <p:spPr>
          <a:xfrm>
            <a:off x="6621480" y="6399360"/>
            <a:ext cx="998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63843-9F0D-4D74-8384-9D8BE212F5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144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533520" y="-12600"/>
            <a:ext cx="6765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is Alta V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533520" y="985680"/>
            <a:ext cx="699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a Niche Service Provider in the Areas of Managerial Accounting and the Managerial Processes of Planning, Simulation, Control, and Decision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d in 1998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Consultants Across North and South America, Africa, and Eur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artner With Various Managerial Accounting and Decision Support Tool Vendors e.g., SAP, proEO, and Jed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663920" y="5102280"/>
            <a:ext cx="44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etter Use of Inform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8" descr=""/>
          <p:cNvPicPr/>
          <p:nvPr/>
        </p:nvPicPr>
        <p:blipFill>
          <a:blip r:embed="rId1"/>
          <a:stretch/>
        </p:blipFill>
        <p:spPr>
          <a:xfrm>
            <a:off x="0" y="5454720"/>
            <a:ext cx="166356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1295280"/>
            <a:ext cx="7162560" cy="54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Uni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racking of non-financial measures (e.g. # of tax returns, # of soldiers trained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clusion of supports costs (provided outside of manager’s budget) (e.g. IT Network Suppo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Consumption – “Free Goods Have Infinite Demand”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dentification of causality in support relationships (e.g. Square Footage, Cancelled Class) – change behavi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1066680"/>
            <a:ext cx="6781680" cy="24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93720" indent="-299880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if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f X output then Y input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f process A can be changed then Inputs required are 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153828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219320" y="9907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nagement Accounting Philosophy s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bating the Principle s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available from Alta Via: http://www.altavia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FAC International Good Practice Guide on Co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fac.org/sites/default/files/publications/files/IGPG-Evaluating-and-Improving-Costing-July-2009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FAC Costing Continu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fac.org/sites/default/files/publications/files/IFAC-Evaluating-the-Costing-Journey_0.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153828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1219320" y="9907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 van der Merw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vdm@altavia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: 513-257-74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wn Sedg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edgley@altavia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: 214-649-258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xplosion 2 1"/>
          <p:cNvSpPr/>
          <p:nvPr/>
        </p:nvSpPr>
        <p:spPr>
          <a:xfrm>
            <a:off x="92160" y="4191120"/>
            <a:ext cx="7361280" cy="990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Slide Number Placeholder 1"/>
          <p:cNvSpPr/>
          <p:nvPr/>
        </p:nvSpPr>
        <p:spPr>
          <a:xfrm>
            <a:off x="6621480" y="6399360"/>
            <a:ext cx="998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F39F8-D66B-49ED-B9D7-50C065E0D2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"/>
          <p:cNvSpPr/>
          <p:nvPr/>
        </p:nvSpPr>
        <p:spPr>
          <a:xfrm>
            <a:off x="144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533520" y="203040"/>
            <a:ext cx="6765840" cy="9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is Alta V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457200" y="1125360"/>
            <a:ext cx="69962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Via Wrote the Book on Activity-based Costing in S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d in the IFAC Committee that Wrote Their International Good Practice Guide Establishing Principles for Management Accou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d on A Task Force for Similar Principles Document for the Institute of Management Accountants (the MCC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Via Sponsors a Professorship for Management Accounting at Northern Illinois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rcRect l="38405" t="65624" r="54607" b="28325"/>
          <a:stretch/>
        </p:blipFill>
        <p:spPr>
          <a:xfrm>
            <a:off x="1208160" y="5549760"/>
            <a:ext cx="1306440" cy="851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"/>
          <p:cNvPicPr/>
          <p:nvPr/>
        </p:nvPicPr>
        <p:blipFill>
          <a:blip r:embed="rId2"/>
          <a:srcRect l="10064" t="0" r="14411" b="0"/>
          <a:stretch/>
        </p:blipFill>
        <p:spPr>
          <a:xfrm>
            <a:off x="5943600" y="4944960"/>
            <a:ext cx="1371600" cy="18874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"/>
          <p:cNvSpPr/>
          <p:nvPr/>
        </p:nvSpPr>
        <p:spPr>
          <a:xfrm>
            <a:off x="1370160" y="449568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Your Costing Geeks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"/>
          <p:cNvSpPr/>
          <p:nvPr/>
        </p:nvSpPr>
        <p:spPr>
          <a:xfrm>
            <a:off x="1905120" y="204480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1"/>
          <p:cNvSpPr/>
          <p:nvPr/>
        </p:nvSpPr>
        <p:spPr>
          <a:xfrm>
            <a:off x="6621480" y="6399360"/>
            <a:ext cx="998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9CC68-CD4C-4BBF-8178-3C77A819C1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144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"/>
          <p:cNvSpPr/>
          <p:nvPr/>
        </p:nvSpPr>
        <p:spPr>
          <a:xfrm>
            <a:off x="457200" y="762120"/>
            <a:ext cx="3200400" cy="2514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09880" y="762120"/>
            <a:ext cx="3200400" cy="2514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809880" y="3429000"/>
            <a:ext cx="3200400" cy="2514600"/>
          </a:xfrm>
          <a:prstGeom prst="rect">
            <a:avLst/>
          </a:prstGeom>
          <a:solidFill>
            <a:srgbClr val="b2b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457200" y="3429000"/>
            <a:ext cx="3200400" cy="2514600"/>
          </a:xfrm>
          <a:prstGeom prst="rect">
            <a:avLst/>
          </a:prstGeom>
          <a:solidFill>
            <a:srgbClr val="b2b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2"/>
          <p:cNvSpPr/>
          <p:nvPr/>
        </p:nvSpPr>
        <p:spPr>
          <a:xfrm>
            <a:off x="610560" y="1235160"/>
            <a:ext cx="289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77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4302360" y="1235160"/>
            <a:ext cx="221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237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1627920" y="39020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4881600" y="39020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1"/>
          <p:cNvSpPr/>
          <p:nvPr/>
        </p:nvSpPr>
        <p:spPr>
          <a:xfrm>
            <a:off x="6621480" y="6399360"/>
            <a:ext cx="998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D354D-743D-4A2C-8273-6ADBBB351A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144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"/>
          <p:cNvSpPr/>
          <p:nvPr/>
        </p:nvSpPr>
        <p:spPr>
          <a:xfrm>
            <a:off x="457200" y="762120"/>
            <a:ext cx="3200400" cy="2514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09880" y="762120"/>
            <a:ext cx="3200400" cy="2514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809880" y="3429000"/>
            <a:ext cx="3200400" cy="2514600"/>
          </a:xfrm>
          <a:prstGeom prst="rect">
            <a:avLst/>
          </a:prstGeom>
          <a:solidFill>
            <a:srgbClr val="b2b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457200" y="3429000"/>
            <a:ext cx="3200400" cy="2514600"/>
          </a:xfrm>
          <a:prstGeom prst="rect">
            <a:avLst/>
          </a:prstGeom>
          <a:solidFill>
            <a:srgbClr val="b2b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4"/>
          <p:cNvSpPr/>
          <p:nvPr/>
        </p:nvSpPr>
        <p:spPr>
          <a:xfrm>
            <a:off x="3871800" y="1203480"/>
            <a:ext cx="3062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7 - the Number of Years MA Operated without Principles (from 1772 to 200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5"/>
          <p:cNvSpPr/>
          <p:nvPr/>
        </p:nvSpPr>
        <p:spPr>
          <a:xfrm>
            <a:off x="541440" y="3870360"/>
            <a:ext cx="306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 - the Number of  Principles that Govern MA namely: Causality and Ana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3886200" y="3870360"/>
            <a:ext cx="3062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- the Number of Principle-based MA Approaches in the Marketplace: R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2"/>
          <p:cNvSpPr/>
          <p:nvPr/>
        </p:nvSpPr>
        <p:spPr>
          <a:xfrm>
            <a:off x="527040" y="819000"/>
            <a:ext cx="3060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72 – Approximate  Year the Concept of Variable Cost First Appears in the Literature and Arguably the Beginning of 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770040" y="12528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ne Th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4" descr="preferences_edit"/>
          <p:cNvPicPr/>
          <p:nvPr/>
        </p:nvPicPr>
        <p:blipFill>
          <a:blip r:embed="rId1"/>
          <a:stretch/>
        </p:blipFill>
        <p:spPr>
          <a:xfrm>
            <a:off x="3075120" y="259092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1974960" y="1830240"/>
            <a:ext cx="3968640" cy="34275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"/>
          <p:cNvSpPr/>
          <p:nvPr/>
        </p:nvSpPr>
        <p:spPr>
          <a:xfrm>
            <a:off x="770040" y="12528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ne Th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762120" y="83808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nager’s Brai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762120" y="502920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sclaimer: Image Does Not Reflect Actual Siz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5T21:17:13Z</dcterms:created>
  <dc:creator>Anton van der Merwe</dc:creator>
  <dc:description/>
  <dc:language>en-US</dc:language>
  <cp:lastModifiedBy>AvdM</cp:lastModifiedBy>
  <cp:lastPrinted>2014-04-28T18:03:48Z</cp:lastPrinted>
  <dcterms:modified xsi:type="dcterms:W3CDTF">2014-04-29T02:09:17Z</dcterms:modified>
  <cp:revision>206</cp:revision>
  <dc:subject/>
  <dc:title>Slide 1</dc:title>
</cp:coreProperties>
</file>