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8C5820D-E6FE-41A1-AC8B-C5B43CAFCE13}" type="doc">
      <dgm:prSet loTypeId="urn:microsoft.com/office/officeart/2005/8/layout/cycle4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270BEF38-190E-4B2B-B971-B9D2DAEBE582}">
      <dgm:prSet phldrT="[Text]"/>
      <dgm:spPr/>
      <dgm:t>
        <a:bodyPr/>
        <a:lstStyle/>
        <a:p>
          <a:r>
            <a:rPr lang="en-US" dirty="0" smtClean="0"/>
            <a:t>Functions</a:t>
          </a:r>
          <a:endParaRPr lang="en-US" dirty="0"/>
        </a:p>
      </dgm:t>
    </dgm:pt>
    <dgm:pt modelId="{4BEB6119-A481-45C3-865F-52D3C0BBAB4D}" type="parTrans" cxnId="{907AB933-3285-4555-A295-921C0E2DA3B8}">
      <dgm:prSet/>
      <dgm:spPr/>
      <dgm:t>
        <a:bodyPr/>
        <a:lstStyle/>
        <a:p>
          <a:endParaRPr lang="en-US"/>
        </a:p>
      </dgm:t>
    </dgm:pt>
    <dgm:pt modelId="{28B055FE-7506-4EBE-98A3-C1214AFCA223}" type="sibTrans" cxnId="{907AB933-3285-4555-A295-921C0E2DA3B8}">
      <dgm:prSet/>
      <dgm:spPr/>
      <dgm:t>
        <a:bodyPr/>
        <a:lstStyle/>
        <a:p>
          <a:endParaRPr lang="en-US"/>
        </a:p>
      </dgm:t>
    </dgm:pt>
    <dgm:pt modelId="{35E4C41C-29A0-45D1-A5C2-3E5354710F65}">
      <dgm:prSet phldrT="[Text]"/>
      <dgm:spPr/>
      <dgm:t>
        <a:bodyPr/>
        <a:lstStyle/>
        <a:p>
          <a:r>
            <a:rPr lang="en-US" dirty="0" err="1" smtClean="0"/>
            <a:t>Subfunctions</a:t>
          </a:r>
          <a:endParaRPr lang="en-US" dirty="0"/>
        </a:p>
      </dgm:t>
    </dgm:pt>
    <dgm:pt modelId="{E0687495-4D11-4D75-8F40-325420B7FB4F}" type="parTrans" cxnId="{15780283-4F32-42EE-B4F4-5ED943C88FEC}">
      <dgm:prSet/>
      <dgm:spPr/>
      <dgm:t>
        <a:bodyPr/>
        <a:lstStyle/>
        <a:p>
          <a:endParaRPr lang="en-US"/>
        </a:p>
      </dgm:t>
    </dgm:pt>
    <dgm:pt modelId="{994D093A-CE30-4550-9256-48DCC9557AEA}" type="sibTrans" cxnId="{15780283-4F32-42EE-B4F4-5ED943C88FEC}">
      <dgm:prSet/>
      <dgm:spPr/>
      <dgm:t>
        <a:bodyPr/>
        <a:lstStyle/>
        <a:p>
          <a:endParaRPr lang="en-US"/>
        </a:p>
      </dgm:t>
    </dgm:pt>
    <dgm:pt modelId="{4FC4996B-FB20-4DDC-AAF1-9A15D1A31C92}">
      <dgm:prSet phldrT="[Text]"/>
      <dgm:spPr/>
      <dgm:t>
        <a:bodyPr/>
        <a:lstStyle/>
        <a:p>
          <a:r>
            <a:rPr lang="en-US" dirty="0" smtClean="0"/>
            <a:t>Organizations</a:t>
          </a:r>
          <a:endParaRPr lang="en-US" dirty="0"/>
        </a:p>
      </dgm:t>
    </dgm:pt>
    <dgm:pt modelId="{3DB7879E-F011-45F8-80EA-68E8D0DAF11E}" type="parTrans" cxnId="{68F0D3A7-B788-4B0A-9207-F43C77B20527}">
      <dgm:prSet/>
      <dgm:spPr/>
      <dgm:t>
        <a:bodyPr/>
        <a:lstStyle/>
        <a:p>
          <a:endParaRPr lang="en-US"/>
        </a:p>
      </dgm:t>
    </dgm:pt>
    <dgm:pt modelId="{58E50A02-B464-41BB-B874-2CF22E1C9993}" type="sibTrans" cxnId="{68F0D3A7-B788-4B0A-9207-F43C77B20527}">
      <dgm:prSet/>
      <dgm:spPr/>
      <dgm:t>
        <a:bodyPr/>
        <a:lstStyle/>
        <a:p>
          <a:endParaRPr lang="en-US"/>
        </a:p>
      </dgm:t>
    </dgm:pt>
    <dgm:pt modelId="{486315A9-58FD-429B-B38D-4D6CA0002159}">
      <dgm:prSet phldrT="[Text]"/>
      <dgm:spPr/>
      <dgm:t>
        <a:bodyPr/>
        <a:lstStyle/>
        <a:p>
          <a:r>
            <a:rPr lang="en-US" dirty="0" smtClean="0"/>
            <a:t>Responsibility Segments</a:t>
          </a:r>
          <a:endParaRPr lang="en-US" dirty="0"/>
        </a:p>
      </dgm:t>
    </dgm:pt>
    <dgm:pt modelId="{B82BD7A3-8E1F-4723-A615-71DF569E1B04}" type="parTrans" cxnId="{33329980-60AD-4908-826F-66EEF5DC862C}">
      <dgm:prSet/>
      <dgm:spPr/>
      <dgm:t>
        <a:bodyPr/>
        <a:lstStyle/>
        <a:p>
          <a:endParaRPr lang="en-US"/>
        </a:p>
      </dgm:t>
    </dgm:pt>
    <dgm:pt modelId="{2D2DA508-0343-4BFC-BD02-E473EEC02096}" type="sibTrans" cxnId="{33329980-60AD-4908-826F-66EEF5DC862C}">
      <dgm:prSet/>
      <dgm:spPr/>
      <dgm:t>
        <a:bodyPr/>
        <a:lstStyle/>
        <a:p>
          <a:endParaRPr lang="en-US"/>
        </a:p>
      </dgm:t>
    </dgm:pt>
    <dgm:pt modelId="{18387DB3-3982-4A2D-99FD-B0A6E941B2A6}">
      <dgm:prSet phldrT="[Text]"/>
      <dgm:spPr/>
      <dgm:t>
        <a:bodyPr/>
        <a:lstStyle/>
        <a:p>
          <a:r>
            <a:rPr lang="en-US" dirty="0" smtClean="0"/>
            <a:t>Natural Classification</a:t>
          </a:r>
          <a:endParaRPr lang="en-US" dirty="0"/>
        </a:p>
      </dgm:t>
    </dgm:pt>
    <dgm:pt modelId="{EA555052-B324-4F9B-9187-558267EE22C5}" type="parTrans" cxnId="{B662C5B6-B676-4E12-81EF-AFEDB2977650}">
      <dgm:prSet/>
      <dgm:spPr/>
      <dgm:t>
        <a:bodyPr/>
        <a:lstStyle/>
        <a:p>
          <a:endParaRPr lang="en-US"/>
        </a:p>
      </dgm:t>
    </dgm:pt>
    <dgm:pt modelId="{82A90F7F-29DB-4A93-84DE-B2DD201352D7}" type="sibTrans" cxnId="{B662C5B6-B676-4E12-81EF-AFEDB2977650}">
      <dgm:prSet/>
      <dgm:spPr/>
      <dgm:t>
        <a:bodyPr/>
        <a:lstStyle/>
        <a:p>
          <a:endParaRPr lang="en-US"/>
        </a:p>
      </dgm:t>
    </dgm:pt>
    <dgm:pt modelId="{A97F2719-5B18-4A87-8340-249F3CA51D25}">
      <dgm:prSet phldrT="[Text]"/>
      <dgm:spPr/>
      <dgm:t>
        <a:bodyPr/>
        <a:lstStyle/>
        <a:p>
          <a:r>
            <a:rPr lang="en-US" dirty="0" smtClean="0"/>
            <a:t>Salaries</a:t>
          </a:r>
          <a:endParaRPr lang="en-US" dirty="0"/>
        </a:p>
      </dgm:t>
    </dgm:pt>
    <dgm:pt modelId="{21627653-6E21-4E5C-A5BA-6EAC2E964F98}" type="parTrans" cxnId="{459965D3-4FEF-4F4F-B512-B587051082C3}">
      <dgm:prSet/>
      <dgm:spPr/>
      <dgm:t>
        <a:bodyPr/>
        <a:lstStyle/>
        <a:p>
          <a:endParaRPr lang="en-US"/>
        </a:p>
      </dgm:t>
    </dgm:pt>
    <dgm:pt modelId="{1E52CF1F-3950-4D45-AE93-EBE7CCBC3EBF}" type="sibTrans" cxnId="{459965D3-4FEF-4F4F-B512-B587051082C3}">
      <dgm:prSet/>
      <dgm:spPr/>
      <dgm:t>
        <a:bodyPr/>
        <a:lstStyle/>
        <a:p>
          <a:endParaRPr lang="en-US"/>
        </a:p>
      </dgm:t>
    </dgm:pt>
    <dgm:pt modelId="{8660D4C5-1D88-4568-AF19-7C89B65B7D09}">
      <dgm:prSet phldrT="[Text]"/>
      <dgm:spPr/>
      <dgm:t>
        <a:bodyPr/>
        <a:lstStyle/>
        <a:p>
          <a:r>
            <a:rPr lang="en-US" dirty="0" smtClean="0"/>
            <a:t>Strategic Goals</a:t>
          </a:r>
          <a:endParaRPr lang="en-US" dirty="0"/>
        </a:p>
      </dgm:t>
    </dgm:pt>
    <dgm:pt modelId="{08374A9C-5F8A-4D04-9FE6-39AE1F5F5411}" type="parTrans" cxnId="{5E4B2C7B-7C9F-48AE-AE8F-43FBF7FB2244}">
      <dgm:prSet/>
      <dgm:spPr/>
      <dgm:t>
        <a:bodyPr/>
        <a:lstStyle/>
        <a:p>
          <a:endParaRPr lang="en-US"/>
        </a:p>
      </dgm:t>
    </dgm:pt>
    <dgm:pt modelId="{4D637061-CD4E-4097-903C-DA118367D3AA}" type="sibTrans" cxnId="{5E4B2C7B-7C9F-48AE-AE8F-43FBF7FB2244}">
      <dgm:prSet/>
      <dgm:spPr/>
      <dgm:t>
        <a:bodyPr/>
        <a:lstStyle/>
        <a:p>
          <a:endParaRPr lang="en-US"/>
        </a:p>
      </dgm:t>
    </dgm:pt>
    <dgm:pt modelId="{D4A1668D-3A59-4820-9FD5-2FF2AA35CBDB}">
      <dgm:prSet phldrT="[Text]"/>
      <dgm:spPr/>
      <dgm:t>
        <a:bodyPr/>
        <a:lstStyle/>
        <a:p>
          <a:r>
            <a:rPr lang="en-US" dirty="0" smtClean="0"/>
            <a:t>Programs</a:t>
          </a:r>
          <a:endParaRPr lang="en-US" dirty="0"/>
        </a:p>
      </dgm:t>
    </dgm:pt>
    <dgm:pt modelId="{E34FDC82-AD99-435E-8EE9-23CB979E36EE}" type="parTrans" cxnId="{7C404B74-A757-4ADF-B742-62F56CD6B676}">
      <dgm:prSet/>
      <dgm:spPr/>
      <dgm:t>
        <a:bodyPr/>
        <a:lstStyle/>
        <a:p>
          <a:endParaRPr lang="en-US"/>
        </a:p>
      </dgm:t>
    </dgm:pt>
    <dgm:pt modelId="{D16F1FD3-E2E8-4756-8FF9-47CFD3126F36}" type="sibTrans" cxnId="{7C404B74-A757-4ADF-B742-62F56CD6B676}">
      <dgm:prSet/>
      <dgm:spPr/>
      <dgm:t>
        <a:bodyPr/>
        <a:lstStyle/>
        <a:p>
          <a:endParaRPr lang="en-US"/>
        </a:p>
      </dgm:t>
    </dgm:pt>
    <dgm:pt modelId="{42AF032D-C548-4F86-82DD-6F181FFBAB26}">
      <dgm:prSet phldrT="[Text]"/>
      <dgm:spPr/>
      <dgm:t>
        <a:bodyPr/>
        <a:lstStyle/>
        <a:p>
          <a:r>
            <a:rPr lang="en-US" dirty="0" smtClean="0"/>
            <a:t>Activities</a:t>
          </a:r>
          <a:endParaRPr lang="en-US" dirty="0"/>
        </a:p>
      </dgm:t>
    </dgm:pt>
    <dgm:pt modelId="{ACD3671D-D584-4A5F-937D-D2550ECC66B8}" type="parTrans" cxnId="{0EA20921-6FFA-4763-8190-0266C33375C3}">
      <dgm:prSet/>
      <dgm:spPr/>
      <dgm:t>
        <a:bodyPr/>
        <a:lstStyle/>
        <a:p>
          <a:endParaRPr lang="en-US"/>
        </a:p>
      </dgm:t>
    </dgm:pt>
    <dgm:pt modelId="{56220D43-36AF-440D-984C-0C2CBDCE5ECC}" type="sibTrans" cxnId="{0EA20921-6FFA-4763-8190-0266C33375C3}">
      <dgm:prSet/>
      <dgm:spPr/>
      <dgm:t>
        <a:bodyPr/>
        <a:lstStyle/>
        <a:p>
          <a:endParaRPr lang="en-US"/>
        </a:p>
      </dgm:t>
    </dgm:pt>
    <dgm:pt modelId="{72DDD473-5D81-45E2-A898-058313238DDB}">
      <dgm:prSet phldrT="[Text]"/>
      <dgm:spPr/>
      <dgm:t>
        <a:bodyPr/>
        <a:lstStyle/>
        <a:p>
          <a:r>
            <a:rPr lang="en-US" dirty="0" smtClean="0"/>
            <a:t>Facilities</a:t>
          </a:r>
          <a:endParaRPr lang="en-US" dirty="0"/>
        </a:p>
      </dgm:t>
    </dgm:pt>
    <dgm:pt modelId="{B6EF1A25-466E-4D0B-9A80-CCE056C35D42}" type="parTrans" cxnId="{E30864F9-4CE6-4C4B-98CB-A67F4FB3F77C}">
      <dgm:prSet/>
      <dgm:spPr/>
      <dgm:t>
        <a:bodyPr/>
        <a:lstStyle/>
        <a:p>
          <a:endParaRPr lang="en-US"/>
        </a:p>
      </dgm:t>
    </dgm:pt>
    <dgm:pt modelId="{F7016AF8-9A27-449D-8944-AD493D71A0C6}" type="sibTrans" cxnId="{E30864F9-4CE6-4C4B-98CB-A67F4FB3F77C}">
      <dgm:prSet/>
      <dgm:spPr/>
      <dgm:t>
        <a:bodyPr/>
        <a:lstStyle/>
        <a:p>
          <a:endParaRPr lang="en-US"/>
        </a:p>
      </dgm:t>
    </dgm:pt>
    <dgm:pt modelId="{FF8FF449-FCD0-46B0-9F12-EC9AC38BA63A}">
      <dgm:prSet phldrT="[Text]"/>
      <dgm:spPr/>
      <dgm:t>
        <a:bodyPr/>
        <a:lstStyle/>
        <a:p>
          <a:r>
            <a:rPr lang="en-US" dirty="0" smtClean="0"/>
            <a:t>Grants</a:t>
          </a:r>
          <a:endParaRPr lang="en-US" dirty="0"/>
        </a:p>
      </dgm:t>
    </dgm:pt>
    <dgm:pt modelId="{03D9A7FF-69A7-4296-B9AE-A7FFE8A71156}" type="parTrans" cxnId="{9442C986-0F45-4FF9-AA52-A477F6C32732}">
      <dgm:prSet/>
      <dgm:spPr/>
      <dgm:t>
        <a:bodyPr/>
        <a:lstStyle/>
        <a:p>
          <a:endParaRPr lang="en-US"/>
        </a:p>
      </dgm:t>
    </dgm:pt>
    <dgm:pt modelId="{A5F70DBC-607D-4437-A36C-951F22512615}" type="sibTrans" cxnId="{9442C986-0F45-4FF9-AA52-A477F6C32732}">
      <dgm:prSet/>
      <dgm:spPr/>
      <dgm:t>
        <a:bodyPr/>
        <a:lstStyle/>
        <a:p>
          <a:endParaRPr lang="en-US"/>
        </a:p>
      </dgm:t>
    </dgm:pt>
    <dgm:pt modelId="{702AC069-82EB-41F1-B228-EBD6EA9F927A}">
      <dgm:prSet phldrT="[Text]"/>
      <dgm:spPr/>
      <dgm:t>
        <a:bodyPr/>
        <a:lstStyle/>
        <a:p>
          <a:r>
            <a:rPr lang="en-US" dirty="0" smtClean="0"/>
            <a:t>Contracts</a:t>
          </a:r>
          <a:endParaRPr lang="en-US" dirty="0"/>
        </a:p>
      </dgm:t>
    </dgm:pt>
    <dgm:pt modelId="{2B364EFC-4F39-4B6C-A5A6-2E667E6AFA26}" type="parTrans" cxnId="{73BEACCE-0CA3-42F2-B869-E2BD25D4784F}">
      <dgm:prSet/>
      <dgm:spPr/>
      <dgm:t>
        <a:bodyPr/>
        <a:lstStyle/>
        <a:p>
          <a:endParaRPr lang="en-US"/>
        </a:p>
      </dgm:t>
    </dgm:pt>
    <dgm:pt modelId="{33F3C9CB-1795-48DD-A6F9-A6ADBBBC1CCB}" type="sibTrans" cxnId="{73BEACCE-0CA3-42F2-B869-E2BD25D4784F}">
      <dgm:prSet/>
      <dgm:spPr/>
      <dgm:t>
        <a:bodyPr/>
        <a:lstStyle/>
        <a:p>
          <a:endParaRPr lang="en-US"/>
        </a:p>
      </dgm:t>
    </dgm:pt>
    <dgm:pt modelId="{A260875E-F867-4806-8F0B-645664DE4634}" type="pres">
      <dgm:prSet presAssocID="{58C5820D-E6FE-41A1-AC8B-C5B43CAFCE13}" presName="cycleMatrixDiagram" presStyleCnt="0">
        <dgm:presLayoutVars>
          <dgm:chMax val="1"/>
          <dgm:dir/>
          <dgm:animLvl val="lvl"/>
          <dgm:resizeHandles val="exact"/>
        </dgm:presLayoutVars>
      </dgm:prSet>
      <dgm:spPr/>
    </dgm:pt>
    <dgm:pt modelId="{A0325592-5671-4CB7-913B-FA5A8559EBF1}" type="pres">
      <dgm:prSet presAssocID="{58C5820D-E6FE-41A1-AC8B-C5B43CAFCE13}" presName="children" presStyleCnt="0"/>
      <dgm:spPr/>
    </dgm:pt>
    <dgm:pt modelId="{F511F580-EFAF-4036-88E7-A8ABF493D307}" type="pres">
      <dgm:prSet presAssocID="{58C5820D-E6FE-41A1-AC8B-C5B43CAFCE13}" presName="child1group" presStyleCnt="0"/>
      <dgm:spPr/>
    </dgm:pt>
    <dgm:pt modelId="{C15079F5-8F69-4D79-9B1B-FE96B675C81D}" type="pres">
      <dgm:prSet presAssocID="{58C5820D-E6FE-41A1-AC8B-C5B43CAFCE13}" presName="child1" presStyleLbl="bgAcc1" presStyleIdx="0" presStyleCnt="4"/>
      <dgm:spPr/>
    </dgm:pt>
    <dgm:pt modelId="{092E35E1-5301-4A16-AA5B-EE46B0EF4351}" type="pres">
      <dgm:prSet presAssocID="{58C5820D-E6FE-41A1-AC8B-C5B43CAFCE13}" presName="child1Text" presStyleLbl="bgAcc1" presStyleIdx="0" presStyleCnt="4">
        <dgm:presLayoutVars>
          <dgm:bulletEnabled val="1"/>
        </dgm:presLayoutVars>
      </dgm:prSet>
      <dgm:spPr/>
    </dgm:pt>
    <dgm:pt modelId="{6540C927-ECD2-4FC7-A6D3-437D3FD82593}" type="pres">
      <dgm:prSet presAssocID="{58C5820D-E6FE-41A1-AC8B-C5B43CAFCE13}" presName="child2group" presStyleCnt="0"/>
      <dgm:spPr/>
    </dgm:pt>
    <dgm:pt modelId="{914BF8E5-A201-4D7E-9079-78B08965E143}" type="pres">
      <dgm:prSet presAssocID="{58C5820D-E6FE-41A1-AC8B-C5B43CAFCE13}" presName="child2" presStyleLbl="bgAcc1" presStyleIdx="1" presStyleCnt="4"/>
      <dgm:spPr/>
    </dgm:pt>
    <dgm:pt modelId="{D23FFD88-CA1D-4A42-86CC-BBF6C21C0F63}" type="pres">
      <dgm:prSet presAssocID="{58C5820D-E6FE-41A1-AC8B-C5B43CAFCE13}" presName="child2Text" presStyleLbl="bgAcc1" presStyleIdx="1" presStyleCnt="4">
        <dgm:presLayoutVars>
          <dgm:bulletEnabled val="1"/>
        </dgm:presLayoutVars>
      </dgm:prSet>
      <dgm:spPr/>
    </dgm:pt>
    <dgm:pt modelId="{8AD8C7B0-63EE-4A60-8CB2-492C792E72A2}" type="pres">
      <dgm:prSet presAssocID="{58C5820D-E6FE-41A1-AC8B-C5B43CAFCE13}" presName="child3group" presStyleCnt="0"/>
      <dgm:spPr/>
    </dgm:pt>
    <dgm:pt modelId="{E34B4439-AA75-469B-99A1-33445D66C7A4}" type="pres">
      <dgm:prSet presAssocID="{58C5820D-E6FE-41A1-AC8B-C5B43CAFCE13}" presName="child3" presStyleLbl="bgAcc1" presStyleIdx="2" presStyleCnt="4"/>
      <dgm:spPr/>
      <dgm:t>
        <a:bodyPr/>
        <a:lstStyle/>
        <a:p>
          <a:endParaRPr lang="en-US"/>
        </a:p>
      </dgm:t>
    </dgm:pt>
    <dgm:pt modelId="{4F5159F6-604E-456A-9C94-F7CFE14382B9}" type="pres">
      <dgm:prSet presAssocID="{58C5820D-E6FE-41A1-AC8B-C5B43CAFCE13}" presName="child3Text" presStyleLbl="bgAcc1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BBFC924-9B26-4E34-9D11-12135FCFED23}" type="pres">
      <dgm:prSet presAssocID="{58C5820D-E6FE-41A1-AC8B-C5B43CAFCE13}" presName="child4group" presStyleCnt="0"/>
      <dgm:spPr/>
    </dgm:pt>
    <dgm:pt modelId="{A630A7B5-CD81-4E98-BD97-99F6140E98E6}" type="pres">
      <dgm:prSet presAssocID="{58C5820D-E6FE-41A1-AC8B-C5B43CAFCE13}" presName="child4" presStyleLbl="bgAcc1" presStyleIdx="3" presStyleCnt="4"/>
      <dgm:spPr/>
      <dgm:t>
        <a:bodyPr/>
        <a:lstStyle/>
        <a:p>
          <a:endParaRPr lang="en-US"/>
        </a:p>
      </dgm:t>
    </dgm:pt>
    <dgm:pt modelId="{E79794B1-751F-4AEE-B65C-A4BEE044AA9C}" type="pres">
      <dgm:prSet presAssocID="{58C5820D-E6FE-41A1-AC8B-C5B43CAFCE13}" presName="child4Text" presStyleLbl="b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37526592-703D-4DE0-AF42-F4F326D78E79}" type="pres">
      <dgm:prSet presAssocID="{58C5820D-E6FE-41A1-AC8B-C5B43CAFCE13}" presName="childPlaceholder" presStyleCnt="0"/>
      <dgm:spPr/>
    </dgm:pt>
    <dgm:pt modelId="{B3A21662-822A-4C57-B26C-F94966359C33}" type="pres">
      <dgm:prSet presAssocID="{58C5820D-E6FE-41A1-AC8B-C5B43CAFCE13}" presName="circle" presStyleCnt="0"/>
      <dgm:spPr/>
    </dgm:pt>
    <dgm:pt modelId="{999DB6C6-7DBE-4460-A445-08B2D1AAD442}" type="pres">
      <dgm:prSet presAssocID="{58C5820D-E6FE-41A1-AC8B-C5B43CAFCE13}" presName="quadrant1" presStyleLbl="node1" presStyleIdx="0" presStyleCnt="4">
        <dgm:presLayoutVars>
          <dgm:chMax val="1"/>
          <dgm:bulletEnabled val="1"/>
        </dgm:presLayoutVars>
      </dgm:prSet>
      <dgm:spPr/>
    </dgm:pt>
    <dgm:pt modelId="{632C3223-BCE5-4343-B6C2-71031F232897}" type="pres">
      <dgm:prSet presAssocID="{58C5820D-E6FE-41A1-AC8B-C5B43CAFCE13}" presName="quadrant2" presStyleLbl="node1" presStyleIdx="1" presStyleCnt="4">
        <dgm:presLayoutVars>
          <dgm:chMax val="1"/>
          <dgm:bulletEnabled val="1"/>
        </dgm:presLayoutVars>
      </dgm:prSet>
      <dgm:spPr/>
    </dgm:pt>
    <dgm:pt modelId="{8BDE64E4-25FD-4415-BE45-773BF05EA322}" type="pres">
      <dgm:prSet presAssocID="{58C5820D-E6FE-41A1-AC8B-C5B43CAFCE13}" presName="quadrant3" presStyleLbl="node1" presStyleIdx="2" presStyleCnt="4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3B3CA876-E757-431F-A18B-B338E646D724}" type="pres">
      <dgm:prSet presAssocID="{58C5820D-E6FE-41A1-AC8B-C5B43CAFCE13}" presName="quadrant4" presStyleLbl="node1" presStyleIdx="3" presStyleCnt="4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008C95C-13A4-473D-9F2F-BF406C46DFEF}" type="pres">
      <dgm:prSet presAssocID="{58C5820D-E6FE-41A1-AC8B-C5B43CAFCE13}" presName="quadrantPlaceholder" presStyleCnt="0"/>
      <dgm:spPr/>
    </dgm:pt>
    <dgm:pt modelId="{6478D1C5-8D61-45A7-A40D-117102EA3070}" type="pres">
      <dgm:prSet presAssocID="{58C5820D-E6FE-41A1-AC8B-C5B43CAFCE13}" presName="center1" presStyleLbl="fgShp" presStyleIdx="0" presStyleCnt="2"/>
      <dgm:spPr/>
    </dgm:pt>
    <dgm:pt modelId="{E0FF316E-8267-4896-BDC6-44D8A29DB017}" type="pres">
      <dgm:prSet presAssocID="{58C5820D-E6FE-41A1-AC8B-C5B43CAFCE13}" presName="center2" presStyleLbl="fgShp" presStyleIdx="1" presStyleCnt="2"/>
      <dgm:spPr/>
    </dgm:pt>
  </dgm:ptLst>
  <dgm:cxnLst>
    <dgm:cxn modelId="{E30864F9-4CE6-4C4B-98CB-A67F4FB3F77C}" srcId="{18387DB3-3982-4A2D-99FD-B0A6E941B2A6}" destId="{72DDD473-5D81-45E2-A898-058313238DDB}" srcOrd="1" destOrd="0" parTransId="{B6EF1A25-466E-4D0B-9A80-CCE056C35D42}" sibTransId="{F7016AF8-9A27-449D-8944-AD493D71A0C6}"/>
    <dgm:cxn modelId="{459965D3-4FEF-4F4F-B512-B587051082C3}" srcId="{18387DB3-3982-4A2D-99FD-B0A6E941B2A6}" destId="{A97F2719-5B18-4A87-8340-249F3CA51D25}" srcOrd="0" destOrd="0" parTransId="{21627653-6E21-4E5C-A5BA-6EAC2E964F98}" sibTransId="{1E52CF1F-3950-4D45-AE93-EBE7CCBC3EBF}"/>
    <dgm:cxn modelId="{0439CA68-FFF3-4245-BFA0-0A43C9440B84}" type="presOf" srcId="{35E4C41C-29A0-45D1-A5C2-3E5354710F65}" destId="{092E35E1-5301-4A16-AA5B-EE46B0EF4351}" srcOrd="1" destOrd="0" presId="urn:microsoft.com/office/officeart/2005/8/layout/cycle4"/>
    <dgm:cxn modelId="{907AB933-3285-4555-A295-921C0E2DA3B8}" srcId="{58C5820D-E6FE-41A1-AC8B-C5B43CAFCE13}" destId="{270BEF38-190E-4B2B-B971-B9D2DAEBE582}" srcOrd="0" destOrd="0" parTransId="{4BEB6119-A481-45C3-865F-52D3C0BBAB4D}" sibTransId="{28B055FE-7506-4EBE-98A3-C1214AFCA223}"/>
    <dgm:cxn modelId="{DE651F80-250A-40BC-A91F-2D8433100C65}" type="presOf" srcId="{486315A9-58FD-429B-B38D-4D6CA0002159}" destId="{D23FFD88-CA1D-4A42-86CC-BBF6C21C0F63}" srcOrd="1" destOrd="0" presId="urn:microsoft.com/office/officeart/2005/8/layout/cycle4"/>
    <dgm:cxn modelId="{2869D19F-9099-4AAB-9213-C6FE6C4EE8AF}" type="presOf" srcId="{702AC069-82EB-41F1-B228-EBD6EA9F927A}" destId="{4F5159F6-604E-456A-9C94-F7CFE14382B9}" srcOrd="1" destOrd="3" presId="urn:microsoft.com/office/officeart/2005/8/layout/cycle4"/>
    <dgm:cxn modelId="{73BEACCE-0CA3-42F2-B869-E2BD25D4784F}" srcId="{18387DB3-3982-4A2D-99FD-B0A6E941B2A6}" destId="{702AC069-82EB-41F1-B228-EBD6EA9F927A}" srcOrd="3" destOrd="0" parTransId="{2B364EFC-4F39-4B6C-A5A6-2E667E6AFA26}" sibTransId="{33F3C9CB-1795-48DD-A6F9-A6ADBBBC1CCB}"/>
    <dgm:cxn modelId="{68F0D3A7-B788-4B0A-9207-F43C77B20527}" srcId="{58C5820D-E6FE-41A1-AC8B-C5B43CAFCE13}" destId="{4FC4996B-FB20-4DDC-AAF1-9A15D1A31C92}" srcOrd="1" destOrd="0" parTransId="{3DB7879E-F011-45F8-80EA-68E8D0DAF11E}" sibTransId="{58E50A02-B464-41BB-B874-2CF22E1C9993}"/>
    <dgm:cxn modelId="{0EA20921-6FFA-4763-8190-0266C33375C3}" srcId="{8660D4C5-1D88-4568-AF19-7C89B65B7D09}" destId="{42AF032D-C548-4F86-82DD-6F181FFBAB26}" srcOrd="1" destOrd="0" parTransId="{ACD3671D-D584-4A5F-937D-D2550ECC66B8}" sibTransId="{56220D43-36AF-440D-984C-0C2CBDCE5ECC}"/>
    <dgm:cxn modelId="{5E4B2C7B-7C9F-48AE-AE8F-43FBF7FB2244}" srcId="{58C5820D-E6FE-41A1-AC8B-C5B43CAFCE13}" destId="{8660D4C5-1D88-4568-AF19-7C89B65B7D09}" srcOrd="3" destOrd="0" parTransId="{08374A9C-5F8A-4D04-9FE6-39AE1F5F5411}" sibTransId="{4D637061-CD4E-4097-903C-DA118367D3AA}"/>
    <dgm:cxn modelId="{B662C5B6-B676-4E12-81EF-AFEDB2977650}" srcId="{58C5820D-E6FE-41A1-AC8B-C5B43CAFCE13}" destId="{18387DB3-3982-4A2D-99FD-B0A6E941B2A6}" srcOrd="2" destOrd="0" parTransId="{EA555052-B324-4F9B-9187-558267EE22C5}" sibTransId="{82A90F7F-29DB-4A93-84DE-B2DD201352D7}"/>
    <dgm:cxn modelId="{33329980-60AD-4908-826F-66EEF5DC862C}" srcId="{4FC4996B-FB20-4DDC-AAF1-9A15D1A31C92}" destId="{486315A9-58FD-429B-B38D-4D6CA0002159}" srcOrd="0" destOrd="0" parTransId="{B82BD7A3-8E1F-4723-A615-71DF569E1B04}" sibTransId="{2D2DA508-0343-4BFC-BD02-E473EEC02096}"/>
    <dgm:cxn modelId="{A18202DC-306A-443E-A3EF-FD2F074E6562}" type="presOf" srcId="{42AF032D-C548-4F86-82DD-6F181FFBAB26}" destId="{A630A7B5-CD81-4E98-BD97-99F6140E98E6}" srcOrd="0" destOrd="1" presId="urn:microsoft.com/office/officeart/2005/8/layout/cycle4"/>
    <dgm:cxn modelId="{2B662179-70E7-4525-A36B-D7E5F8E45774}" type="presOf" srcId="{4FC4996B-FB20-4DDC-AAF1-9A15D1A31C92}" destId="{632C3223-BCE5-4343-B6C2-71031F232897}" srcOrd="0" destOrd="0" presId="urn:microsoft.com/office/officeart/2005/8/layout/cycle4"/>
    <dgm:cxn modelId="{E6469655-95A1-40E3-877B-BEB78784F4EF}" type="presOf" srcId="{58C5820D-E6FE-41A1-AC8B-C5B43CAFCE13}" destId="{A260875E-F867-4806-8F0B-645664DE4634}" srcOrd="0" destOrd="0" presId="urn:microsoft.com/office/officeart/2005/8/layout/cycle4"/>
    <dgm:cxn modelId="{B3C770B4-5DE2-4949-AB2C-2E45E3C0A5F5}" type="presOf" srcId="{8660D4C5-1D88-4568-AF19-7C89B65B7D09}" destId="{3B3CA876-E757-431F-A18B-B338E646D724}" srcOrd="0" destOrd="0" presId="urn:microsoft.com/office/officeart/2005/8/layout/cycle4"/>
    <dgm:cxn modelId="{6DA17F09-9CC8-443F-BCFF-F77E418B1CED}" type="presOf" srcId="{FF8FF449-FCD0-46B0-9F12-EC9AC38BA63A}" destId="{4F5159F6-604E-456A-9C94-F7CFE14382B9}" srcOrd="1" destOrd="2" presId="urn:microsoft.com/office/officeart/2005/8/layout/cycle4"/>
    <dgm:cxn modelId="{8DCC1E96-28EE-45C0-9CDB-88E38D781A86}" type="presOf" srcId="{A97F2719-5B18-4A87-8340-249F3CA51D25}" destId="{4F5159F6-604E-456A-9C94-F7CFE14382B9}" srcOrd="1" destOrd="0" presId="urn:microsoft.com/office/officeart/2005/8/layout/cycle4"/>
    <dgm:cxn modelId="{3FE144D2-515C-4055-BBB7-203770A74165}" type="presOf" srcId="{72DDD473-5D81-45E2-A898-058313238DDB}" destId="{4F5159F6-604E-456A-9C94-F7CFE14382B9}" srcOrd="1" destOrd="1" presId="urn:microsoft.com/office/officeart/2005/8/layout/cycle4"/>
    <dgm:cxn modelId="{743EB788-3169-47DA-BD3F-461F154BA482}" type="presOf" srcId="{72DDD473-5D81-45E2-A898-058313238DDB}" destId="{E34B4439-AA75-469B-99A1-33445D66C7A4}" srcOrd="0" destOrd="1" presId="urn:microsoft.com/office/officeart/2005/8/layout/cycle4"/>
    <dgm:cxn modelId="{1378D9F3-5FF1-490F-8105-16DCA2A11742}" type="presOf" srcId="{A97F2719-5B18-4A87-8340-249F3CA51D25}" destId="{E34B4439-AA75-469B-99A1-33445D66C7A4}" srcOrd="0" destOrd="0" presId="urn:microsoft.com/office/officeart/2005/8/layout/cycle4"/>
    <dgm:cxn modelId="{C03E0FF9-B55F-464B-BD5E-52DAEBA75F85}" type="presOf" srcId="{270BEF38-190E-4B2B-B971-B9D2DAEBE582}" destId="{999DB6C6-7DBE-4460-A445-08B2D1AAD442}" srcOrd="0" destOrd="0" presId="urn:microsoft.com/office/officeart/2005/8/layout/cycle4"/>
    <dgm:cxn modelId="{2DDBCA62-29DB-4362-9B03-3ED2D9BA523D}" type="presOf" srcId="{D4A1668D-3A59-4820-9FD5-2FF2AA35CBDB}" destId="{A630A7B5-CD81-4E98-BD97-99F6140E98E6}" srcOrd="0" destOrd="0" presId="urn:microsoft.com/office/officeart/2005/8/layout/cycle4"/>
    <dgm:cxn modelId="{B219E482-7258-4887-8916-A8539288BED8}" type="presOf" srcId="{18387DB3-3982-4A2D-99FD-B0A6E941B2A6}" destId="{8BDE64E4-25FD-4415-BE45-773BF05EA322}" srcOrd="0" destOrd="0" presId="urn:microsoft.com/office/officeart/2005/8/layout/cycle4"/>
    <dgm:cxn modelId="{DCB6BBA6-66A3-43AF-A79E-506CECE3E912}" type="presOf" srcId="{35E4C41C-29A0-45D1-A5C2-3E5354710F65}" destId="{C15079F5-8F69-4D79-9B1B-FE96B675C81D}" srcOrd="0" destOrd="0" presId="urn:microsoft.com/office/officeart/2005/8/layout/cycle4"/>
    <dgm:cxn modelId="{6EC5CF23-361D-4A50-B75B-AFF69AFC5454}" type="presOf" srcId="{D4A1668D-3A59-4820-9FD5-2FF2AA35CBDB}" destId="{E79794B1-751F-4AEE-B65C-A4BEE044AA9C}" srcOrd="1" destOrd="0" presId="urn:microsoft.com/office/officeart/2005/8/layout/cycle4"/>
    <dgm:cxn modelId="{91A72183-3EE2-4781-8F2E-F96F0EB08F29}" type="presOf" srcId="{702AC069-82EB-41F1-B228-EBD6EA9F927A}" destId="{E34B4439-AA75-469B-99A1-33445D66C7A4}" srcOrd="0" destOrd="3" presId="urn:microsoft.com/office/officeart/2005/8/layout/cycle4"/>
    <dgm:cxn modelId="{9442C986-0F45-4FF9-AA52-A477F6C32732}" srcId="{18387DB3-3982-4A2D-99FD-B0A6E941B2A6}" destId="{FF8FF449-FCD0-46B0-9F12-EC9AC38BA63A}" srcOrd="2" destOrd="0" parTransId="{03D9A7FF-69A7-4296-B9AE-A7FFE8A71156}" sibTransId="{A5F70DBC-607D-4437-A36C-951F22512615}"/>
    <dgm:cxn modelId="{AFEDCE51-C735-4CCB-B28E-806405948474}" type="presOf" srcId="{42AF032D-C548-4F86-82DD-6F181FFBAB26}" destId="{E79794B1-751F-4AEE-B65C-A4BEE044AA9C}" srcOrd="1" destOrd="1" presId="urn:microsoft.com/office/officeart/2005/8/layout/cycle4"/>
    <dgm:cxn modelId="{12726BB2-E63A-42E4-9E76-9D143D03E2A1}" type="presOf" srcId="{486315A9-58FD-429B-B38D-4D6CA0002159}" destId="{914BF8E5-A201-4D7E-9079-78B08965E143}" srcOrd="0" destOrd="0" presId="urn:microsoft.com/office/officeart/2005/8/layout/cycle4"/>
    <dgm:cxn modelId="{7C404B74-A757-4ADF-B742-62F56CD6B676}" srcId="{8660D4C5-1D88-4568-AF19-7C89B65B7D09}" destId="{D4A1668D-3A59-4820-9FD5-2FF2AA35CBDB}" srcOrd="0" destOrd="0" parTransId="{E34FDC82-AD99-435E-8EE9-23CB979E36EE}" sibTransId="{D16F1FD3-E2E8-4756-8FF9-47CFD3126F36}"/>
    <dgm:cxn modelId="{15780283-4F32-42EE-B4F4-5ED943C88FEC}" srcId="{270BEF38-190E-4B2B-B971-B9D2DAEBE582}" destId="{35E4C41C-29A0-45D1-A5C2-3E5354710F65}" srcOrd="0" destOrd="0" parTransId="{E0687495-4D11-4D75-8F40-325420B7FB4F}" sibTransId="{994D093A-CE30-4550-9256-48DCC9557AEA}"/>
    <dgm:cxn modelId="{BE447521-73D5-409B-99D6-697B69BA9C7F}" type="presOf" srcId="{FF8FF449-FCD0-46B0-9F12-EC9AC38BA63A}" destId="{E34B4439-AA75-469B-99A1-33445D66C7A4}" srcOrd="0" destOrd="2" presId="urn:microsoft.com/office/officeart/2005/8/layout/cycle4"/>
    <dgm:cxn modelId="{23AF7DB2-C48E-49B4-9752-5F48D0BEB644}" type="presParOf" srcId="{A260875E-F867-4806-8F0B-645664DE4634}" destId="{A0325592-5671-4CB7-913B-FA5A8559EBF1}" srcOrd="0" destOrd="0" presId="urn:microsoft.com/office/officeart/2005/8/layout/cycle4"/>
    <dgm:cxn modelId="{9550EB5D-97F3-4634-937B-EBEE33BF65AA}" type="presParOf" srcId="{A0325592-5671-4CB7-913B-FA5A8559EBF1}" destId="{F511F580-EFAF-4036-88E7-A8ABF493D307}" srcOrd="0" destOrd="0" presId="urn:microsoft.com/office/officeart/2005/8/layout/cycle4"/>
    <dgm:cxn modelId="{A8903FAF-454C-4A29-9A05-E5D000EA3132}" type="presParOf" srcId="{F511F580-EFAF-4036-88E7-A8ABF493D307}" destId="{C15079F5-8F69-4D79-9B1B-FE96B675C81D}" srcOrd="0" destOrd="0" presId="urn:microsoft.com/office/officeart/2005/8/layout/cycle4"/>
    <dgm:cxn modelId="{9526ED51-4942-4882-BF72-6AFBB490A6E6}" type="presParOf" srcId="{F511F580-EFAF-4036-88E7-A8ABF493D307}" destId="{092E35E1-5301-4A16-AA5B-EE46B0EF4351}" srcOrd="1" destOrd="0" presId="urn:microsoft.com/office/officeart/2005/8/layout/cycle4"/>
    <dgm:cxn modelId="{8308B989-107A-428F-A252-F118F814CAA1}" type="presParOf" srcId="{A0325592-5671-4CB7-913B-FA5A8559EBF1}" destId="{6540C927-ECD2-4FC7-A6D3-437D3FD82593}" srcOrd="1" destOrd="0" presId="urn:microsoft.com/office/officeart/2005/8/layout/cycle4"/>
    <dgm:cxn modelId="{98A81DBF-9203-45E1-AC2B-7FC1E96F7350}" type="presParOf" srcId="{6540C927-ECD2-4FC7-A6D3-437D3FD82593}" destId="{914BF8E5-A201-4D7E-9079-78B08965E143}" srcOrd="0" destOrd="0" presId="urn:microsoft.com/office/officeart/2005/8/layout/cycle4"/>
    <dgm:cxn modelId="{430DF04C-9C01-4C3F-BB29-9559848ED927}" type="presParOf" srcId="{6540C927-ECD2-4FC7-A6D3-437D3FD82593}" destId="{D23FFD88-CA1D-4A42-86CC-BBF6C21C0F63}" srcOrd="1" destOrd="0" presId="urn:microsoft.com/office/officeart/2005/8/layout/cycle4"/>
    <dgm:cxn modelId="{491D202F-6558-404A-8DCC-E97D9C062FF2}" type="presParOf" srcId="{A0325592-5671-4CB7-913B-FA5A8559EBF1}" destId="{8AD8C7B0-63EE-4A60-8CB2-492C792E72A2}" srcOrd="2" destOrd="0" presId="urn:microsoft.com/office/officeart/2005/8/layout/cycle4"/>
    <dgm:cxn modelId="{9663462C-53A1-4DC1-81A0-9C5084F92A69}" type="presParOf" srcId="{8AD8C7B0-63EE-4A60-8CB2-492C792E72A2}" destId="{E34B4439-AA75-469B-99A1-33445D66C7A4}" srcOrd="0" destOrd="0" presId="urn:microsoft.com/office/officeart/2005/8/layout/cycle4"/>
    <dgm:cxn modelId="{6DEC5BCB-1874-4A90-9EA2-95400B668CE9}" type="presParOf" srcId="{8AD8C7B0-63EE-4A60-8CB2-492C792E72A2}" destId="{4F5159F6-604E-456A-9C94-F7CFE14382B9}" srcOrd="1" destOrd="0" presId="urn:microsoft.com/office/officeart/2005/8/layout/cycle4"/>
    <dgm:cxn modelId="{DE679428-1D9E-4801-8517-1F4F046D9F92}" type="presParOf" srcId="{A0325592-5671-4CB7-913B-FA5A8559EBF1}" destId="{EBBFC924-9B26-4E34-9D11-12135FCFED23}" srcOrd="3" destOrd="0" presId="urn:microsoft.com/office/officeart/2005/8/layout/cycle4"/>
    <dgm:cxn modelId="{F6014C06-B58C-4E16-B42E-942922C6CEAC}" type="presParOf" srcId="{EBBFC924-9B26-4E34-9D11-12135FCFED23}" destId="{A630A7B5-CD81-4E98-BD97-99F6140E98E6}" srcOrd="0" destOrd="0" presId="urn:microsoft.com/office/officeart/2005/8/layout/cycle4"/>
    <dgm:cxn modelId="{8C7FD160-93F6-45E3-A703-0AC1E89846CC}" type="presParOf" srcId="{EBBFC924-9B26-4E34-9D11-12135FCFED23}" destId="{E79794B1-751F-4AEE-B65C-A4BEE044AA9C}" srcOrd="1" destOrd="0" presId="urn:microsoft.com/office/officeart/2005/8/layout/cycle4"/>
    <dgm:cxn modelId="{40F3B645-6009-4420-A933-5DD472F7DA01}" type="presParOf" srcId="{A0325592-5671-4CB7-913B-FA5A8559EBF1}" destId="{37526592-703D-4DE0-AF42-F4F326D78E79}" srcOrd="4" destOrd="0" presId="urn:microsoft.com/office/officeart/2005/8/layout/cycle4"/>
    <dgm:cxn modelId="{B23AB539-A185-4583-A85A-B87609509296}" type="presParOf" srcId="{A260875E-F867-4806-8F0B-645664DE4634}" destId="{B3A21662-822A-4C57-B26C-F94966359C33}" srcOrd="1" destOrd="0" presId="urn:microsoft.com/office/officeart/2005/8/layout/cycle4"/>
    <dgm:cxn modelId="{D9B62B34-994B-4F66-A6D1-A9EEA70F3211}" type="presParOf" srcId="{B3A21662-822A-4C57-B26C-F94966359C33}" destId="{999DB6C6-7DBE-4460-A445-08B2D1AAD442}" srcOrd="0" destOrd="0" presId="urn:microsoft.com/office/officeart/2005/8/layout/cycle4"/>
    <dgm:cxn modelId="{D4105FC3-CE28-4D7F-A8EF-1CF8AF72542A}" type="presParOf" srcId="{B3A21662-822A-4C57-B26C-F94966359C33}" destId="{632C3223-BCE5-4343-B6C2-71031F232897}" srcOrd="1" destOrd="0" presId="urn:microsoft.com/office/officeart/2005/8/layout/cycle4"/>
    <dgm:cxn modelId="{4ADA1C11-FE9D-43AC-88BD-2A3535B28C37}" type="presParOf" srcId="{B3A21662-822A-4C57-B26C-F94966359C33}" destId="{8BDE64E4-25FD-4415-BE45-773BF05EA322}" srcOrd="2" destOrd="0" presId="urn:microsoft.com/office/officeart/2005/8/layout/cycle4"/>
    <dgm:cxn modelId="{FFC51776-77BF-48E9-ABF3-94843AF4A56E}" type="presParOf" srcId="{B3A21662-822A-4C57-B26C-F94966359C33}" destId="{3B3CA876-E757-431F-A18B-B338E646D724}" srcOrd="3" destOrd="0" presId="urn:microsoft.com/office/officeart/2005/8/layout/cycle4"/>
    <dgm:cxn modelId="{E6DA81FD-72AC-47DF-9A62-1CD739B5F343}" type="presParOf" srcId="{B3A21662-822A-4C57-B26C-F94966359C33}" destId="{B008C95C-13A4-473D-9F2F-BF406C46DFEF}" srcOrd="4" destOrd="0" presId="urn:microsoft.com/office/officeart/2005/8/layout/cycle4"/>
    <dgm:cxn modelId="{4A926AB7-28DC-431C-AF15-7DA1ED4EC473}" type="presParOf" srcId="{A260875E-F867-4806-8F0B-645664DE4634}" destId="{6478D1C5-8D61-45A7-A40D-117102EA3070}" srcOrd="2" destOrd="0" presId="urn:microsoft.com/office/officeart/2005/8/layout/cycle4"/>
    <dgm:cxn modelId="{75E4F440-96BA-4600-AD3F-649A1D786ADF}" type="presParOf" srcId="{A260875E-F867-4806-8F0B-645664DE4634}" destId="{E0FF316E-8267-4896-BDC6-44D8A29DB017}" srcOrd="3" destOrd="0" presId="urn:microsoft.com/office/officeart/2005/8/layout/cycle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34B4439-AA75-469B-99A1-33445D66C7A4}">
      <dsp:nvSpPr>
        <dsp:cNvPr id="0" name=""/>
        <dsp:cNvSpPr/>
      </dsp:nvSpPr>
      <dsp:spPr>
        <a:xfrm>
          <a:off x="2868104" y="3002719"/>
          <a:ext cx="1757870" cy="113870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53340" rIns="53340" bIns="53340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Salaries</a:t>
          </a:r>
          <a:endParaRPr lang="en-US" sz="1100" kern="1200" dirty="0"/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Facilities</a:t>
          </a:r>
          <a:endParaRPr lang="en-US" sz="1100" kern="1200" dirty="0"/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Grants</a:t>
          </a:r>
          <a:endParaRPr lang="en-US" sz="1100" kern="1200" dirty="0"/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Contracts</a:t>
          </a:r>
          <a:endParaRPr lang="en-US" sz="1100" kern="1200" dirty="0"/>
        </a:p>
      </dsp:txBody>
      <dsp:txXfrm>
        <a:off x="3395465" y="3287394"/>
        <a:ext cx="1230509" cy="854026"/>
      </dsp:txXfrm>
    </dsp:sp>
    <dsp:sp modelId="{A630A7B5-CD81-4E98-BD97-99F6140E98E6}">
      <dsp:nvSpPr>
        <dsp:cNvPr id="0" name=""/>
        <dsp:cNvSpPr/>
      </dsp:nvSpPr>
      <dsp:spPr>
        <a:xfrm>
          <a:off x="0" y="3002719"/>
          <a:ext cx="1757870" cy="113870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53340" rIns="53340" bIns="53340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Programs</a:t>
          </a:r>
          <a:endParaRPr lang="en-US" sz="1100" kern="1200" dirty="0"/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Activities</a:t>
          </a:r>
          <a:endParaRPr lang="en-US" sz="1100" kern="1200" dirty="0"/>
        </a:p>
      </dsp:txBody>
      <dsp:txXfrm>
        <a:off x="0" y="3287394"/>
        <a:ext cx="1230509" cy="854026"/>
      </dsp:txXfrm>
    </dsp:sp>
    <dsp:sp modelId="{914BF8E5-A201-4D7E-9079-78B08965E143}">
      <dsp:nvSpPr>
        <dsp:cNvPr id="0" name=""/>
        <dsp:cNvSpPr/>
      </dsp:nvSpPr>
      <dsp:spPr>
        <a:xfrm>
          <a:off x="2868104" y="582978"/>
          <a:ext cx="1757870" cy="113870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53340" rIns="53340" bIns="53340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Responsibility Segments</a:t>
          </a:r>
          <a:endParaRPr lang="en-US" sz="1100" kern="1200" dirty="0"/>
        </a:p>
      </dsp:txBody>
      <dsp:txXfrm>
        <a:off x="3395465" y="582978"/>
        <a:ext cx="1230509" cy="854026"/>
      </dsp:txXfrm>
    </dsp:sp>
    <dsp:sp modelId="{C15079F5-8F69-4D79-9B1B-FE96B675C81D}">
      <dsp:nvSpPr>
        <dsp:cNvPr id="0" name=""/>
        <dsp:cNvSpPr/>
      </dsp:nvSpPr>
      <dsp:spPr>
        <a:xfrm>
          <a:off x="0" y="582978"/>
          <a:ext cx="1757870" cy="113870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53340" rIns="53340" bIns="53340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err="1" smtClean="0"/>
            <a:t>Subfunctions</a:t>
          </a:r>
          <a:endParaRPr lang="en-US" sz="1100" kern="1200" dirty="0"/>
        </a:p>
      </dsp:txBody>
      <dsp:txXfrm>
        <a:off x="0" y="582978"/>
        <a:ext cx="1230509" cy="854026"/>
      </dsp:txXfrm>
    </dsp:sp>
    <dsp:sp modelId="{999DB6C6-7DBE-4460-A445-08B2D1AAD442}">
      <dsp:nvSpPr>
        <dsp:cNvPr id="0" name=""/>
        <dsp:cNvSpPr/>
      </dsp:nvSpPr>
      <dsp:spPr>
        <a:xfrm>
          <a:off x="736597" y="785810"/>
          <a:ext cx="1540805" cy="1540805"/>
        </a:xfrm>
        <a:prstGeom prst="pieWedg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Functions</a:t>
          </a:r>
          <a:endParaRPr lang="en-US" sz="1000" kern="1200" dirty="0"/>
        </a:p>
      </dsp:txBody>
      <dsp:txXfrm>
        <a:off x="736597" y="785810"/>
        <a:ext cx="1540805" cy="1540805"/>
      </dsp:txXfrm>
    </dsp:sp>
    <dsp:sp modelId="{632C3223-BCE5-4343-B6C2-71031F232897}">
      <dsp:nvSpPr>
        <dsp:cNvPr id="0" name=""/>
        <dsp:cNvSpPr/>
      </dsp:nvSpPr>
      <dsp:spPr>
        <a:xfrm rot="5400000">
          <a:off x="2348571" y="785810"/>
          <a:ext cx="1540805" cy="1540805"/>
        </a:xfrm>
        <a:prstGeom prst="pieWedg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Organizations</a:t>
          </a:r>
          <a:endParaRPr lang="en-US" sz="1000" kern="1200" dirty="0"/>
        </a:p>
      </dsp:txBody>
      <dsp:txXfrm rot="5400000">
        <a:off x="2348571" y="785810"/>
        <a:ext cx="1540805" cy="1540805"/>
      </dsp:txXfrm>
    </dsp:sp>
    <dsp:sp modelId="{8BDE64E4-25FD-4415-BE45-773BF05EA322}">
      <dsp:nvSpPr>
        <dsp:cNvPr id="0" name=""/>
        <dsp:cNvSpPr/>
      </dsp:nvSpPr>
      <dsp:spPr>
        <a:xfrm rot="10800000">
          <a:off x="2348571" y="2397784"/>
          <a:ext cx="1540805" cy="1540805"/>
        </a:xfrm>
        <a:prstGeom prst="pieWedg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Natural Classification</a:t>
          </a:r>
          <a:endParaRPr lang="en-US" sz="1000" kern="1200" dirty="0"/>
        </a:p>
      </dsp:txBody>
      <dsp:txXfrm rot="10800000">
        <a:off x="2348571" y="2397784"/>
        <a:ext cx="1540805" cy="1540805"/>
      </dsp:txXfrm>
    </dsp:sp>
    <dsp:sp modelId="{3B3CA876-E757-431F-A18B-B338E646D724}">
      <dsp:nvSpPr>
        <dsp:cNvPr id="0" name=""/>
        <dsp:cNvSpPr/>
      </dsp:nvSpPr>
      <dsp:spPr>
        <a:xfrm rot="16200000">
          <a:off x="736597" y="2397784"/>
          <a:ext cx="1540805" cy="1540805"/>
        </a:xfrm>
        <a:prstGeom prst="pieWedg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Strategic Goals</a:t>
          </a:r>
          <a:endParaRPr lang="en-US" sz="1000" kern="1200" dirty="0"/>
        </a:p>
      </dsp:txBody>
      <dsp:txXfrm rot="16200000">
        <a:off x="736597" y="2397784"/>
        <a:ext cx="1540805" cy="1540805"/>
      </dsp:txXfrm>
    </dsp:sp>
    <dsp:sp modelId="{6478D1C5-8D61-45A7-A40D-117102EA3070}">
      <dsp:nvSpPr>
        <dsp:cNvPr id="0" name=""/>
        <dsp:cNvSpPr/>
      </dsp:nvSpPr>
      <dsp:spPr>
        <a:xfrm>
          <a:off x="2046993" y="2041940"/>
          <a:ext cx="531987" cy="462597"/>
        </a:xfrm>
        <a:prstGeom prst="circularArrow">
          <a:avLst/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0FF316E-8267-4896-BDC6-44D8A29DB017}">
      <dsp:nvSpPr>
        <dsp:cNvPr id="0" name=""/>
        <dsp:cNvSpPr/>
      </dsp:nvSpPr>
      <dsp:spPr>
        <a:xfrm rot="10800000">
          <a:off x="2046993" y="2219862"/>
          <a:ext cx="531987" cy="462597"/>
        </a:xfrm>
        <a:prstGeom prst="circularArrow">
          <a:avLst/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4">
  <dgm:title val=""/>
  <dgm:desc val=""/>
  <dgm:catLst>
    <dgm:cat type="relationship" pri="26000"/>
    <dgm:cat type="cycle" pri="13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41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cycleMatrixDiagram">
    <dgm:varLst>
      <dgm:chMax val="1"/>
      <dgm:dir/>
      <dgm:animLvl val="lvl"/>
      <dgm:resizeHandles val="exact"/>
    </dgm:varLst>
    <dgm:alg type="composite">
      <dgm:param type="ar" val="1.3"/>
    </dgm:alg>
    <dgm:shape xmlns:r="http://schemas.openxmlformats.org/officeDocument/2006/relationships" r:blip="">
      <dgm:adjLst/>
    </dgm:shape>
    <dgm:presOf/>
    <dgm:constrLst>
      <dgm:constr type="w" for="ch" forName="children" refType="w"/>
      <dgm:constr type="h" for="ch" forName="children" refType="w" refFor="ch" refForName="children" fact="0.77"/>
      <dgm:constr type="ctrX" for="ch" forName="children" refType="w" fact="0.5"/>
      <dgm:constr type="ctrY" for="ch" forName="children" refType="h" fact="0.5"/>
      <dgm:constr type="w" for="ch" forName="circle" refType="w"/>
      <dgm:constr type="h" for="ch" forName="circle" refType="h"/>
      <dgm:constr type="ctrX" for="ch" forName="circle" refType="w" fact="0.5"/>
      <dgm:constr type="ctrY" for="ch" forName="circle" refType="h" fact="0.5"/>
      <dgm:constr type="w" for="ch" forName="center1" refType="w" fact="0.115"/>
      <dgm:constr type="h" for="ch" forName="center1" refType="w" fact="0.1"/>
      <dgm:constr type="ctrX" for="ch" forName="center1" refType="w" fact="0.5"/>
      <dgm:constr type="ctrY" for="ch" forName="center1" refType="h" fact="0.475"/>
      <dgm:constr type="w" for="ch" forName="center2" refType="w" fact="0.115"/>
      <dgm:constr type="h" for="ch" forName="center2" refType="w" fact="0.1"/>
      <dgm:constr type="ctrX" for="ch" forName="center2" refType="w" fact="0.5"/>
      <dgm:constr type="ctrY" for="ch" forName="center2" refType="h" fact="0.525"/>
    </dgm:constrLst>
    <dgm:ruleLst/>
    <dgm:choose name="Name0">
      <dgm:if name="Name1" axis="ch" ptType="node" func="cnt" op="gte" val="1">
        <dgm:layoutNode name="children">
          <dgm:alg type="composite">
            <dgm:param type="ar" val="1.3"/>
          </dgm:alg>
          <dgm:shape xmlns:r="http://schemas.openxmlformats.org/officeDocument/2006/relationships" r:blip="">
            <dgm:adjLst/>
          </dgm:shape>
          <dgm:presOf/>
          <dgm:choose name="Name2">
            <dgm:if name="Name3" func="var" arg="dir" op="equ" val="norm">
              <dgm:constrLst>
                <dgm:constr type="primFontSz" for="des" ptType="node" op="equ" val="65"/>
                <dgm:constr type="w" for="ch" forName="child1group" refType="w" fact="0.38"/>
                <dgm:constr type="h" for="ch" forName="child1group" refType="h" fact="0.32"/>
                <dgm:constr type="t" for="ch" forName="child1group"/>
                <dgm:constr type="l" for="ch" forName="child1group"/>
                <dgm:constr type="w" for="ch" forName="child2group" refType="w" fact="0.38"/>
                <dgm:constr type="h" for="ch" forName="child2group" refType="h" fact="0.32"/>
                <dgm:constr type="t" for="ch" forName="child2group"/>
                <dgm:constr type="r" for="ch" forName="child2group" refType="w"/>
                <dgm:constr type="w" for="ch" forName="child3group" refType="w" fact="0.38"/>
                <dgm:constr type="h" for="ch" forName="child3group" refType="h" fact="0.32"/>
                <dgm:constr type="b" for="ch" forName="child3group" refType="h"/>
                <dgm:constr type="r" for="ch" forName="child3group" refType="w"/>
                <dgm:constr type="w" for="ch" forName="child4group" refType="w" fact="0.38"/>
                <dgm:constr type="h" for="ch" forName="child4group" refType="h" fact="0.32"/>
                <dgm:constr type="b" for="ch" forName="child4group" refType="h"/>
                <dgm:constr type="l" for="ch" forName="child4group"/>
              </dgm:constrLst>
            </dgm:if>
            <dgm:else name="Name4">
              <dgm:constrLst>
                <dgm:constr type="primFontSz" for="des" ptType="node" op="equ" val="65"/>
                <dgm:constr type="w" for="ch" forName="child1group" refType="w" fact="0.38"/>
                <dgm:constr type="h" for="ch" forName="child1group" refType="h" fact="0.32"/>
                <dgm:constr type="t" for="ch" forName="child1group"/>
                <dgm:constr type="r" for="ch" forName="child1group" refType="w"/>
                <dgm:constr type="w" for="ch" forName="child2group" refType="w" fact="0.38"/>
                <dgm:constr type="h" for="ch" forName="child2group" refType="h" fact="0.32"/>
                <dgm:constr type="t" for="ch" forName="child2group"/>
                <dgm:constr type="l" for="ch" forName="child2group"/>
                <dgm:constr type="w" for="ch" forName="child3group" refType="w" fact="0.38"/>
                <dgm:constr type="h" for="ch" forName="child3group" refType="h" fact="0.32"/>
                <dgm:constr type="b" for="ch" forName="child3group" refType="h"/>
                <dgm:constr type="l" for="ch" forName="child3group"/>
                <dgm:constr type="w" for="ch" forName="child4group" refType="w" fact="0.38"/>
                <dgm:constr type="h" for="ch" forName="child4group" refType="h" fact="0.32"/>
                <dgm:constr type="b" for="ch" forName="child4group" refType="h"/>
                <dgm:constr type="r" for="ch" forName="child4group" refType="w"/>
              </dgm:constrLst>
            </dgm:else>
          </dgm:choose>
          <dgm:ruleLst/>
          <dgm:choose name="Name5">
            <dgm:if name="Name6" axis="ch ch" ptType="node node" st="1 1" cnt="1 0" func="cnt" op="gte" val="1">
              <dgm:layoutNode name="child1group">
                <dgm:alg type="composite">
                  <dgm:param type="horzAlign" val="none"/>
                  <dgm:param type="vertAlign" val="none"/>
                </dgm:alg>
                <dgm:shape xmlns:r="http://schemas.openxmlformats.org/officeDocument/2006/relationships" r:blip="">
                  <dgm:adjLst/>
                </dgm:shape>
                <dgm:presOf/>
                <dgm:choose name="Name7">
                  <dgm:if name="Name8" func="var" arg="dir" op="equ" val="norm">
                    <dgm:constrLst>
                      <dgm:constr type="w" for="ch" forName="child1" refType="w"/>
                      <dgm:constr type="h" for="ch" forName="child1" refType="h"/>
                      <dgm:constr type="t" for="ch" forName="child1"/>
                      <dgm:constr type="l" for="ch" forName="child1"/>
                      <dgm:constr type="w" for="ch" forName="child1Text" refType="w" fact="0.7"/>
                      <dgm:constr type="h" for="ch" forName="child1Text" refType="h" fact="0.75"/>
                      <dgm:constr type="t" for="ch" forName="child1Text"/>
                      <dgm:constr type="l" for="ch" forName="child1Text"/>
                    </dgm:constrLst>
                  </dgm:if>
                  <dgm:else name="Name9">
                    <dgm:constrLst>
                      <dgm:constr type="w" for="ch" forName="child1" refType="w"/>
                      <dgm:constr type="h" for="ch" forName="child1" refType="h"/>
                      <dgm:constr type="t" for="ch" forName="child1"/>
                      <dgm:constr type="r" for="ch" forName="child1" refType="w"/>
                      <dgm:constr type="w" for="ch" forName="child1Text" refType="w" fact="0.7"/>
                      <dgm:constr type="h" for="ch" forName="child1Text" refType="h" fact="0.75"/>
                      <dgm:constr type="t" for="ch" forName="child1Text"/>
                      <dgm:constr type="r" for="ch" forName="child1Text" refType="w"/>
                    </dgm:constrLst>
                  </dgm:else>
                </dgm:choose>
                <dgm:ruleLst/>
                <dgm:layoutNode name="child1" styleLbl="bgAcc1">
                  <dgm:alg type="sp"/>
                  <dgm:shape xmlns:r="http://schemas.openxmlformats.org/officeDocument/2006/relationships" type="roundRect" r:blip="" zOrderOff="-2">
                    <dgm:adjLst>
                      <dgm:adj idx="1" val="0.1"/>
                    </dgm:adjLst>
                  </dgm:shape>
                  <dgm:presOf axis="ch des" ptType="node node" st="1 1" cnt="1 0"/>
                  <dgm:constrLst/>
                  <dgm:ruleLst/>
                </dgm:layoutNode>
                <dgm:layoutNode name="child1Text" styleLbl="bgAcc1">
                  <dgm:varLst>
                    <dgm:bulletEnabled val="1"/>
                  </dgm:varLst>
                  <dgm:alg type="tx">
                    <dgm:param type="stBulletLvl" val="1"/>
                  </dgm:alg>
                  <dgm:shape xmlns:r="http://schemas.openxmlformats.org/officeDocument/2006/relationships" type="roundRect" r:blip="" zOrderOff="-2" hideGeom="1">
                    <dgm:adjLst>
                      <dgm:adj idx="1" val="0.1"/>
                    </dgm:adjLst>
                  </dgm:shape>
                  <dgm:presOf axis="ch des" ptType="node node" st="1 1" cnt="1 0"/>
                  <dgm:constrLst>
                    <dgm:constr type="tMarg" refType="primFontSz" fact="0.3"/>
                    <dgm:constr type="bMarg" refType="primFontSz" fact="0.3"/>
                    <dgm:constr type="lMarg" refType="primFontSz" fact="0.3"/>
                    <dgm:constr type="rMarg" refType="primFontSz" fact="0.3"/>
                  </dgm:constrLst>
                  <dgm:ruleLst>
                    <dgm:rule type="primFontSz" val="5" fact="NaN" max="NaN"/>
                  </dgm:ruleLst>
                </dgm:layoutNode>
              </dgm:layoutNode>
            </dgm:if>
            <dgm:else name="Name10"/>
          </dgm:choose>
          <dgm:choose name="Name11">
            <dgm:if name="Name12" axis="ch ch" ptType="node node" st="2 1" cnt="1 0" func="cnt" op="gte" val="1">
              <dgm:layoutNode name="child2group">
                <dgm:alg type="composite">
                  <dgm:param type="horzAlign" val="none"/>
                  <dgm:param type="vertAlign" val="none"/>
                </dgm:alg>
                <dgm:shape xmlns:r="http://schemas.openxmlformats.org/officeDocument/2006/relationships" r:blip="">
                  <dgm:adjLst/>
                </dgm:shape>
                <dgm:choose name="Name13">
                  <dgm:if name="Name14" func="var" arg="dir" op="equ" val="norm">
                    <dgm:constrLst>
                      <dgm:constr type="w" for="ch" forName="child2" refType="w"/>
                      <dgm:constr type="h" for="ch" forName="child2" refType="h"/>
                      <dgm:constr type="t" for="ch" forName="child2"/>
                      <dgm:constr type="r" for="ch" forName="child2" refType="w"/>
                      <dgm:constr type="w" for="ch" forName="child2Text" refType="w" fact="0.7"/>
                      <dgm:constr type="h" for="ch" forName="child2Text" refType="h" fact="0.75"/>
                      <dgm:constr type="t" for="ch" forName="child2Text"/>
                      <dgm:constr type="r" for="ch" forName="child2Text" refType="w"/>
                    </dgm:constrLst>
                  </dgm:if>
                  <dgm:else name="Name15">
                    <dgm:constrLst>
                      <dgm:constr type="w" for="ch" forName="child2" refType="w"/>
                      <dgm:constr type="h" for="ch" forName="child2" refType="h"/>
                      <dgm:constr type="t" for="ch" forName="child2"/>
                      <dgm:constr type="l" for="ch" forName="child2"/>
                      <dgm:constr type="w" for="ch" forName="child2Text" refType="w" fact="0.7"/>
                      <dgm:constr type="h" for="ch" forName="child2Text" refType="h" fact="0.75"/>
                      <dgm:constr type="t" for="ch" forName="child2Text"/>
                      <dgm:constr type="l" for="ch" forName="child2Text"/>
                    </dgm:constrLst>
                  </dgm:else>
                </dgm:choose>
                <dgm:ruleLst/>
                <dgm:layoutNode name="child2" styleLbl="bgAcc1">
                  <dgm:alg type="sp"/>
                  <dgm:shape xmlns:r="http://schemas.openxmlformats.org/officeDocument/2006/relationships" type="roundRect" r:blip="" zOrderOff="-2">
                    <dgm:adjLst>
                      <dgm:adj idx="1" val="0.1"/>
                    </dgm:adjLst>
                  </dgm:shape>
                  <dgm:presOf axis="ch des" ptType="node node" st="2 1" cnt="1 0"/>
                  <dgm:constrLst/>
                  <dgm:ruleLst/>
                </dgm:layoutNode>
                <dgm:layoutNode name="child2Text" styleLbl="bgAcc1">
                  <dgm:varLst>
                    <dgm:bulletEnabled val="1"/>
                  </dgm:varLst>
                  <dgm:alg type="tx">
                    <dgm:param type="stBulletLvl" val="1"/>
                  </dgm:alg>
                  <dgm:shape xmlns:r="http://schemas.openxmlformats.org/officeDocument/2006/relationships" type="roundRect" r:blip="" zOrderOff="-2" hideGeom="1">
                    <dgm:adjLst>
                      <dgm:adj idx="1" val="0.1"/>
                    </dgm:adjLst>
                  </dgm:shape>
                  <dgm:presOf axis="ch des" ptType="node node" st="2 1" cnt="1 0"/>
                  <dgm:constrLst>
                    <dgm:constr type="tMarg" refType="primFontSz" fact="0.3"/>
                    <dgm:constr type="bMarg" refType="primFontSz" fact="0.3"/>
                    <dgm:constr type="lMarg" refType="primFontSz" fact="0.3"/>
                    <dgm:constr type="rMarg" refType="primFontSz" fact="0.3"/>
                  </dgm:constrLst>
                  <dgm:ruleLst>
                    <dgm:rule type="primFontSz" val="5" fact="NaN" max="NaN"/>
                  </dgm:ruleLst>
                </dgm:layoutNode>
              </dgm:layoutNode>
            </dgm:if>
            <dgm:else name="Name16"/>
          </dgm:choose>
          <dgm:choose name="Name17">
            <dgm:if name="Name18" axis="ch ch" ptType="node node" st="3 1" cnt="1 0" func="cnt" op="gte" val="1">
              <dgm:layoutNode name="child3group">
                <dgm:alg type="composite">
                  <dgm:param type="horzAlign" val="none"/>
                  <dgm:param type="vertAlign" val="none"/>
                </dgm:alg>
                <dgm:shape xmlns:r="http://schemas.openxmlformats.org/officeDocument/2006/relationships" r:blip="">
                  <dgm:adjLst/>
                </dgm:shape>
                <dgm:presOf/>
                <dgm:choose name="Name19">
                  <dgm:if name="Name20" func="var" arg="dir" op="equ" val="norm">
                    <dgm:constrLst>
                      <dgm:constr type="w" for="ch" forName="child3" refType="w"/>
                      <dgm:constr type="h" for="ch" forName="child3" refType="h"/>
                      <dgm:constr type="b" for="ch" forName="child3" refType="h"/>
                      <dgm:constr type="r" for="ch" forName="child3" refType="w"/>
                      <dgm:constr type="w" for="ch" forName="child3Text" refType="w" fact="0.7"/>
                      <dgm:constr type="h" for="ch" forName="child3Text" refType="h" fact="0.75"/>
                      <dgm:constr type="b" for="ch" forName="child3Text" refType="h"/>
                      <dgm:constr type="r" for="ch" forName="child3Text" refType="w"/>
                    </dgm:constrLst>
                  </dgm:if>
                  <dgm:else name="Name21">
                    <dgm:constrLst>
                      <dgm:constr type="w" for="ch" forName="child3" refType="w"/>
                      <dgm:constr type="h" for="ch" forName="child3" refType="h"/>
                      <dgm:constr type="b" for="ch" forName="child3" refType="h"/>
                      <dgm:constr type="l" for="ch" forName="child3"/>
                      <dgm:constr type="w" for="ch" forName="child3Text" refType="w" fact="0.7"/>
                      <dgm:constr type="h" for="ch" forName="child3Text" refType="h" fact="0.75"/>
                      <dgm:constr type="b" for="ch" forName="child3Text" refType="h"/>
                      <dgm:constr type="l" for="ch" forName="child3Text"/>
                    </dgm:constrLst>
                  </dgm:else>
                </dgm:choose>
                <dgm:ruleLst/>
                <dgm:layoutNode name="child3" styleLbl="bgAcc1">
                  <dgm:alg type="sp"/>
                  <dgm:shape xmlns:r="http://schemas.openxmlformats.org/officeDocument/2006/relationships" type="roundRect" r:blip="" zOrderOff="-4">
                    <dgm:adjLst>
                      <dgm:adj idx="1" val="0.1"/>
                    </dgm:adjLst>
                  </dgm:shape>
                  <dgm:presOf axis="ch des" ptType="node node" st="3 1" cnt="1 0"/>
                  <dgm:constrLst/>
                  <dgm:ruleLst/>
                </dgm:layoutNode>
                <dgm:layoutNode name="child3Text" styleLbl="bgAcc1">
                  <dgm:varLst>
                    <dgm:bulletEnabled val="1"/>
                  </dgm:varLst>
                  <dgm:alg type="tx">
                    <dgm:param type="stBulletLvl" val="1"/>
                  </dgm:alg>
                  <dgm:shape xmlns:r="http://schemas.openxmlformats.org/officeDocument/2006/relationships" type="roundRect" r:blip="" zOrderOff="-4" hideGeom="1">
                    <dgm:adjLst>
                      <dgm:adj idx="1" val="0.1"/>
                    </dgm:adjLst>
                  </dgm:shape>
                  <dgm:presOf axis="ch des" ptType="node node" st="3 1" cnt="1 0"/>
                  <dgm:constrLst>
                    <dgm:constr type="tMarg" refType="primFontSz" fact="0.3"/>
                    <dgm:constr type="bMarg" refType="primFontSz" fact="0.3"/>
                    <dgm:constr type="lMarg" refType="primFontSz" fact="0.3"/>
                    <dgm:constr type="rMarg" refType="primFontSz" fact="0.3"/>
                  </dgm:constrLst>
                  <dgm:ruleLst>
                    <dgm:rule type="primFontSz" val="5" fact="NaN" max="NaN"/>
                  </dgm:ruleLst>
                </dgm:layoutNode>
              </dgm:layoutNode>
            </dgm:if>
            <dgm:else name="Name22"/>
          </dgm:choose>
          <dgm:choose name="Name23">
            <dgm:if name="Name24" axis="ch ch" ptType="node node" st="4 1" cnt="1 0" func="cnt" op="gte" val="1">
              <dgm:layoutNode name="child4group">
                <dgm:alg type="composite">
                  <dgm:param type="horzAlign" val="none"/>
                  <dgm:param type="vertAlign" val="none"/>
                </dgm:alg>
                <dgm:shape xmlns:r="http://schemas.openxmlformats.org/officeDocument/2006/relationships" r:blip="">
                  <dgm:adjLst/>
                </dgm:shape>
                <dgm:presOf/>
                <dgm:choose name="Name25">
                  <dgm:if name="Name26" func="var" arg="dir" op="equ" val="norm">
                    <dgm:constrLst>
                      <dgm:constr type="w" for="ch" forName="child4" refType="w"/>
                      <dgm:constr type="h" for="ch" forName="child4" refType="h"/>
                      <dgm:constr type="b" for="ch" forName="child4" refType="h"/>
                      <dgm:constr type="l" for="ch" forName="child4"/>
                      <dgm:constr type="w" for="ch" forName="child4Text" refType="w" fact="0.7"/>
                      <dgm:constr type="h" for="ch" forName="child4Text" refType="h" fact="0.75"/>
                      <dgm:constr type="b" for="ch" forName="child4Text" refType="h"/>
                      <dgm:constr type="l" for="ch" forName="child4Text"/>
                    </dgm:constrLst>
                  </dgm:if>
                  <dgm:else name="Name27">
                    <dgm:constrLst>
                      <dgm:constr type="w" for="ch" forName="child4" refType="w"/>
                      <dgm:constr type="h" for="ch" forName="child4" refType="h"/>
                      <dgm:constr type="b" for="ch" forName="child4" refType="h"/>
                      <dgm:constr type="r" for="ch" forName="child4" refType="w"/>
                      <dgm:constr type="w" for="ch" forName="child4Text" refType="w" fact="0.7"/>
                      <dgm:constr type="h" for="ch" forName="child4Text" refType="h" fact="0.75"/>
                      <dgm:constr type="b" for="ch" forName="child4Text" refType="h"/>
                      <dgm:constr type="r" for="ch" forName="child4Text" refType="w"/>
                    </dgm:constrLst>
                  </dgm:else>
                </dgm:choose>
                <dgm:ruleLst/>
                <dgm:layoutNode name="child4" styleLbl="bgAcc1">
                  <dgm:alg type="sp"/>
                  <dgm:shape xmlns:r="http://schemas.openxmlformats.org/officeDocument/2006/relationships" type="roundRect" r:blip="" zOrderOff="-4">
                    <dgm:adjLst>
                      <dgm:adj idx="1" val="0.1"/>
                    </dgm:adjLst>
                  </dgm:shape>
                  <dgm:presOf axis="ch des" ptType="node node" st="4 1" cnt="1 0"/>
                  <dgm:constrLst/>
                  <dgm:ruleLst/>
                </dgm:layoutNode>
                <dgm:layoutNode name="child4Text" styleLbl="bgAcc1">
                  <dgm:varLst>
                    <dgm:bulletEnabled val="1"/>
                  </dgm:varLst>
                  <dgm:alg type="tx">
                    <dgm:param type="stBulletLvl" val="1"/>
                  </dgm:alg>
                  <dgm:shape xmlns:r="http://schemas.openxmlformats.org/officeDocument/2006/relationships" type="roundRect" r:blip="" zOrderOff="-4" hideGeom="1">
                    <dgm:adjLst>
                      <dgm:adj idx="1" val="0.1"/>
                    </dgm:adjLst>
                  </dgm:shape>
                  <dgm:presOf axis="ch des" ptType="node node" st="4 1" cnt="1 0"/>
                  <dgm:constrLst>
                    <dgm:constr type="tMarg" refType="primFontSz" fact="0.3"/>
                    <dgm:constr type="bMarg" refType="primFontSz" fact="0.3"/>
                    <dgm:constr type="lMarg" refType="primFontSz" fact="0.3"/>
                    <dgm:constr type="rMarg" refType="primFontSz" fact="0.3"/>
                  </dgm:constrLst>
                  <dgm:ruleLst>
                    <dgm:rule type="primFontSz" val="5" fact="NaN" max="NaN"/>
                  </dgm:ruleLst>
                </dgm:layoutNode>
              </dgm:layoutNode>
            </dgm:if>
            <dgm:else name="Name28"/>
          </dgm:choose>
          <dgm:layoutNode name="childPlaceholder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layoutNode name="circle">
          <dgm:alg type="composite">
            <dgm:param type="ar" val="1"/>
          </dgm:alg>
          <dgm:shape xmlns:r="http://schemas.openxmlformats.org/officeDocument/2006/relationships" r:blip="">
            <dgm:adjLst/>
          </dgm:shape>
          <dgm:presOf/>
          <dgm:choose name="Name29">
            <dgm:if name="Name30" func="var" arg="dir" op="equ" val="norm">
              <dgm:constrLst>
                <dgm:constr type="primFontSz" for="ch" ptType="node" op="equ" val="65"/>
                <dgm:constr type="w" for="ch" forName="quadrant1" refType="w" fact="0.433"/>
                <dgm:constr type="h" for="ch" forName="quadrant1" refType="h" fact="0.433"/>
                <dgm:constr type="b" for="ch" forName="quadrant1" refType="h" fact="0.5"/>
                <dgm:constr type="bOff" for="ch" forName="quadrant1" refType="h" fact="-0.01"/>
                <dgm:constr type="r" for="ch" forName="quadrant1" refType="w" fact="0.5"/>
                <dgm:constr type="rOff" for="ch" forName="quadrant1" refType="w" fact="-0.01"/>
                <dgm:constr type="w" for="ch" forName="quadrant2" refType="w" fact="0.433"/>
                <dgm:constr type="h" for="ch" forName="quadrant2" refType="h" fact="0.433"/>
                <dgm:constr type="b" for="ch" forName="quadrant2" refType="h" fact="0.5"/>
                <dgm:constr type="bOff" for="ch" forName="quadrant2" refType="h" fact="-0.01"/>
                <dgm:constr type="l" for="ch" forName="quadrant2" refType="w" fact="0.5"/>
                <dgm:constr type="lOff" for="ch" forName="quadrant2" refType="w" fact="0.01"/>
                <dgm:constr type="w" for="ch" forName="quadrant3" refType="w" fact="0.433"/>
                <dgm:constr type="h" for="ch" forName="quadrant3" refType="h" fact="0.433"/>
                <dgm:constr type="t" for="ch" forName="quadrant3" refType="h" fact="0.5"/>
                <dgm:constr type="tOff" for="ch" forName="quadrant3" refType="h" fact="0.01"/>
                <dgm:constr type="l" for="ch" forName="quadrant3" refType="w" fact="0.5"/>
                <dgm:constr type="lOff" for="ch" forName="quadrant3" refType="w" fact="0.01"/>
                <dgm:constr type="w" for="ch" forName="quadrant4" refType="w" fact="0.433"/>
                <dgm:constr type="h" for="ch" forName="quadrant4" refType="h" fact="0.433"/>
                <dgm:constr type="t" for="ch" forName="quadrant4" refType="h" fact="0.5"/>
                <dgm:constr type="tOff" for="ch" forName="quadrant4" refType="h" fact="0.01"/>
                <dgm:constr type="r" for="ch" forName="quadrant4" refType="w" fact="0.5"/>
                <dgm:constr type="rOff" for="ch" forName="quadrant4" refType="w" fact="-0.01"/>
              </dgm:constrLst>
            </dgm:if>
            <dgm:else name="Name31">
              <dgm:constrLst>
                <dgm:constr type="primFontSz" for="ch" ptType="node" op="equ" val="65"/>
                <dgm:constr type="w" for="ch" forName="quadrant1" refType="w" fact="0.433"/>
                <dgm:constr type="h" for="ch" forName="quadrant1" refType="h" fact="0.433"/>
                <dgm:constr type="b" for="ch" forName="quadrant1" refType="h" fact="0.5"/>
                <dgm:constr type="bOff" for="ch" forName="quadrant1" refType="h" fact="-0.01"/>
                <dgm:constr type="l" for="ch" forName="quadrant1" refType="w" fact="0.5"/>
                <dgm:constr type="lOff" for="ch" forName="quadrant1" refType="w" fact="0.01"/>
                <dgm:constr type="w" for="ch" forName="quadrant2" refType="w" fact="0.433"/>
                <dgm:constr type="h" for="ch" forName="quadrant2" refType="h" fact="0.433"/>
                <dgm:constr type="b" for="ch" forName="quadrant2" refType="h" fact="0.5"/>
                <dgm:constr type="bOff" for="ch" forName="quadrant2" refType="h" fact="-0.01"/>
                <dgm:constr type="r" for="ch" forName="quadrant2" refType="w" fact="0.5"/>
                <dgm:constr type="rOff" for="ch" forName="quadrant2" refType="w" fact="-0.01"/>
                <dgm:constr type="w" for="ch" forName="quadrant3" refType="w" fact="0.433"/>
                <dgm:constr type="h" for="ch" forName="quadrant3" refType="h" fact="0.433"/>
                <dgm:constr type="t" for="ch" forName="quadrant3" refType="h" fact="0.5"/>
                <dgm:constr type="tOff" for="ch" forName="quadrant3" refType="h" fact="0.01"/>
                <dgm:constr type="r" for="ch" forName="quadrant3" refType="w" fact="0.5"/>
                <dgm:constr type="rOff" for="ch" forName="quadrant3" refType="w" fact="-0.01"/>
                <dgm:constr type="w" for="ch" forName="quadrant4" refType="w" fact="0.433"/>
                <dgm:constr type="h" for="ch" forName="quadrant4" refType="h" fact="0.433"/>
                <dgm:constr type="t" for="ch" forName="quadrant4" refType="h" fact="0.5"/>
                <dgm:constr type="tOff" for="ch" forName="quadrant4" refType="h" fact="0.01"/>
                <dgm:constr type="l" for="ch" forName="quadrant4" refType="w" fact="0.5"/>
                <dgm:constr type="lOff" for="ch" forName="quadrant4" refType="w" fact="0.01"/>
              </dgm:constrLst>
            </dgm:else>
          </dgm:choose>
          <dgm:ruleLst/>
          <dgm:layoutNode name="quadrant1" styleLbl="node1">
            <dgm:varLst>
              <dgm:chMax val="1"/>
              <dgm:bulletEnabled val="1"/>
            </dgm:varLst>
            <dgm:alg type="tx"/>
            <dgm:choose name="Name32">
              <dgm:if name="Name33" func="var" arg="dir" op="equ" val="norm">
                <dgm:shape xmlns:r="http://schemas.openxmlformats.org/officeDocument/2006/relationships" type="pieWedge" r:blip="">
                  <dgm:adjLst/>
                </dgm:shape>
              </dgm:if>
              <dgm:else name="Name34">
                <dgm:shape xmlns:r="http://schemas.openxmlformats.org/officeDocument/2006/relationships" rot="90" type="pieWedge" r:blip="">
                  <dgm:adjLst/>
                </dgm:shape>
              </dgm:else>
            </dgm:choose>
            <dgm:presOf axis="ch" ptType="node" cnt="1"/>
            <dgm:constrLst/>
            <dgm:ruleLst>
              <dgm:rule type="primFontSz" val="5" fact="NaN" max="NaN"/>
            </dgm:ruleLst>
          </dgm:layoutNode>
          <dgm:layoutNode name="quadrant2" styleLbl="node1">
            <dgm:varLst>
              <dgm:chMax val="1"/>
              <dgm:bulletEnabled val="1"/>
            </dgm:varLst>
            <dgm:alg type="tx"/>
            <dgm:choose name="Name35">
              <dgm:if name="Name36" func="var" arg="dir" op="equ" val="norm">
                <dgm:shape xmlns:r="http://schemas.openxmlformats.org/officeDocument/2006/relationships" rot="90" type="pieWedge" r:blip="">
                  <dgm:adjLst/>
                </dgm:shape>
              </dgm:if>
              <dgm:else name="Name37">
                <dgm:shape xmlns:r="http://schemas.openxmlformats.org/officeDocument/2006/relationships" type="pieWedge" r:blip="">
                  <dgm:adjLst/>
                </dgm:shape>
              </dgm:else>
            </dgm:choose>
            <dgm:presOf axis="ch" ptType="node" st="2" cnt="1"/>
            <dgm:constrLst/>
            <dgm:ruleLst>
              <dgm:rule type="primFontSz" val="5" fact="NaN" max="NaN"/>
            </dgm:ruleLst>
          </dgm:layoutNode>
          <dgm:layoutNode name="quadrant3" styleLbl="node1">
            <dgm:varLst>
              <dgm:chMax val="1"/>
              <dgm:bulletEnabled val="1"/>
            </dgm:varLst>
            <dgm:alg type="tx"/>
            <dgm:choose name="Name38">
              <dgm:if name="Name39" func="var" arg="dir" op="equ" val="norm">
                <dgm:shape xmlns:r="http://schemas.openxmlformats.org/officeDocument/2006/relationships" rot="180" type="pieWedge" r:blip="">
                  <dgm:adjLst/>
                </dgm:shape>
              </dgm:if>
              <dgm:else name="Name40">
                <dgm:shape xmlns:r="http://schemas.openxmlformats.org/officeDocument/2006/relationships" rot="270" type="pieWedge" r:blip="">
                  <dgm:adjLst/>
                </dgm:shape>
              </dgm:else>
            </dgm:choose>
            <dgm:presOf axis="ch" ptType="node" st="3" cnt="1"/>
            <dgm:constrLst/>
            <dgm:ruleLst>
              <dgm:rule type="primFontSz" val="5" fact="NaN" max="NaN"/>
            </dgm:ruleLst>
          </dgm:layoutNode>
          <dgm:layoutNode name="quadrant4" styleLbl="node1">
            <dgm:varLst>
              <dgm:chMax val="1"/>
              <dgm:bulletEnabled val="1"/>
            </dgm:varLst>
            <dgm:alg type="tx"/>
            <dgm:choose name="Name41">
              <dgm:if name="Name42" func="var" arg="dir" op="equ" val="norm">
                <dgm:shape xmlns:r="http://schemas.openxmlformats.org/officeDocument/2006/relationships" rot="270" type="pieWedge" r:blip="">
                  <dgm:adjLst/>
                </dgm:shape>
              </dgm:if>
              <dgm:else name="Name43">
                <dgm:shape xmlns:r="http://schemas.openxmlformats.org/officeDocument/2006/relationships" rot="180" type="pieWedge" r:blip="">
                  <dgm:adjLst/>
                </dgm:shape>
              </dgm:else>
            </dgm:choose>
            <dgm:presOf axis="ch" ptType="node" st="4" cnt="1"/>
            <dgm:constrLst/>
            <dgm:ruleLst>
              <dgm:rule type="primFontSz" val="5" fact="NaN" max="NaN"/>
            </dgm:ruleLst>
          </dgm:layoutNode>
          <dgm:layoutNode name="quadrantPlaceholder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layoutNode name="center1" styleLbl="fgShp">
          <dgm:alg type="sp"/>
          <dgm:choose name="Name44">
            <dgm:if name="Name45" func="var" arg="dir" op="equ" val="norm">
              <dgm:shape xmlns:r="http://schemas.openxmlformats.org/officeDocument/2006/relationships" type="circularArrow" r:blip="" zOrderOff="16">
                <dgm:adjLst/>
              </dgm:shape>
            </dgm:if>
            <dgm:else name="Name46">
              <dgm:shape xmlns:r="http://schemas.openxmlformats.org/officeDocument/2006/relationships" rot="180" type="leftCircularArrow" r:blip="" zOrderOff="16">
                <dgm:adjLst/>
              </dgm:shape>
            </dgm:else>
          </dgm:choose>
          <dgm:presOf/>
          <dgm:constrLst/>
          <dgm:ruleLst/>
        </dgm:layoutNode>
        <dgm:layoutNode name="center2" styleLbl="fgShp">
          <dgm:alg type="sp"/>
          <dgm:choose name="Name47">
            <dgm:if name="Name48" func="var" arg="dir" op="equ" val="norm">
              <dgm:shape xmlns:r="http://schemas.openxmlformats.org/officeDocument/2006/relationships" rot="180" type="circularArrow" r:blip="" zOrderOff="16">
                <dgm:adjLst/>
              </dgm:shape>
            </dgm:if>
            <dgm:else name="Name49">
              <dgm:shape xmlns:r="http://schemas.openxmlformats.org/officeDocument/2006/relationships" type="leftCircularArrow" r:blip="" zOrderOff="16">
                <dgm:adjLst/>
              </dgm:shape>
            </dgm:else>
          </dgm:choose>
          <dgm:presOf/>
          <dgm:constrLst/>
          <dgm:ruleLst/>
        </dgm:layoutNode>
      </dgm:if>
      <dgm:else name="Name50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80FD75-C289-4D2B-BCE0-B788BED65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Num" idx="31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36AC49-086B-4008-8948-A669576F3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Num" idx="32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A6673C-DC12-4552-BD67-A2FD6FC07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Num" idx="33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9382D0-92DE-4DEF-8A81-619010AAB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Num" idx="34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756D17-C347-446C-AE57-6A4FF881C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Num" idx="35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DC1D33-5E2D-46B6-8BF2-4C40C5CB4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36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71EE98-6EF9-47A5-85CF-FF3933E6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change over time even if programs do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are broad and analysis for decision making is not done at tha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grams relate to multiple strategic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cost and output (and eventually outcome) is still quite challen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reported each period but outputs may not relate to the same period or occur immedi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often external to the organization but still contribute to the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s are not structured with cost accounting in m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37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4675DE-BEF1-4611-9CC0-8E754F34D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Num" idx="38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116380-E58A-4087-BB7B-49D87B045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39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72C6CF-B376-4D4C-B480-DDE01EDB7D5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A8F-4C94-40F3-8AD7-1183E9F1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AA7-E42C-495E-9F67-2798EC99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41B-10D1-430A-8851-A8413B0B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EAE-88D2-4A46-B4E1-D6E9BB47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EE5B-24CB-4C18-81DA-7E35FB99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0631-45E8-4413-8BB5-1634D4FA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40BA-3882-4D42-9715-6327C3BB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7E51-9B63-4D93-91F1-68F3CDCE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DDF1-D6A1-4BA4-8E8C-8A3DAF26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E6DD-4EF9-489C-90A8-7A97AFE5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64C8-85A5-42AE-8805-B53FDD7A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39D-28C6-476D-AC5C-FDB31539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CD0D-2905-4614-A819-33FA419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37AC-378F-4CF3-8D78-A54A0F3A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3194-545E-4DEA-954B-74CD4313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90F6-6450-4991-91EA-18DF1ECD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9B36-592F-4AE4-AF51-276EAB44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733E7-6AEA-4423-A041-A6DEEACE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4C4D-8FA3-4BB1-8FA4-BC09C0AC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CEBBE-568D-4D90-B238-28013A5A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BE2E-CF8D-42E9-B27A-53D486A5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CC25-199F-4702-BA14-5EAEFCCE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BF3-BBFE-46CD-9D96-1A41BBD5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605B-528E-409E-A51C-EAC7B79C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3FDF-9829-418B-9651-628C425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840D-B037-4C93-AF5F-D911AB5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7F70-CCE8-4F0A-9563-31B3789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E8AA2-8EBD-46B5-9260-2F7C8EC3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D604-BD3B-4EC9-9182-51D6FD93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A68B-661A-425A-9A4E-7162D394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29118-80B8-44DD-AFEE-32D98879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CEE5-9F6D-47AC-A398-BBD8A320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AE1D-E0A0-4F10-B6CB-446DC5D8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C32-5890-444B-B183-4D2BA374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EA9A-C49C-4ACE-8991-FE5DF9A7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2930-6423-479D-85AD-B3A25A45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D21A-3445-4834-A993-DD28B7A8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074DE-37D7-4183-93EF-8FDDDC63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57D25-1ADF-428F-87EC-538EFF0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A6CB-6A02-4302-8990-2FCB55BF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EFEE6-67F0-465A-B343-1828602D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39C8-4D0A-4E70-8673-2EF95C7A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BEF2-6908-4934-8A25-CF1FCE0F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3A5DB-8B43-4A2C-99C2-655583B0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E29-B35A-4C7A-9F1E-510AE3E4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D854F-891E-43C9-B3AE-BB3E6F6E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F922-2BF4-43C2-B188-A4086465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F6CA-AB07-423E-8B23-293F60C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24525-E484-4DD6-B539-8EA22EB5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419D-EB7D-48CA-B79F-61EEE24B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21776-DB5F-42CB-BC1A-C21EDBB4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3879D-72CD-4C6C-9AEB-BBA7F6DF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B1ACB-7A46-40D4-8C70-ECB6274A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FE1D-06D9-4B4A-9F0A-3E9F19CF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99D90-B4BD-4627-8FB2-35F98F29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5E4-7A33-48B6-9F9B-BCBF5FB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E98A3-2EFC-4B33-826B-339D8AFF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68FFE-29C3-49D8-B472-CD478532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A4814-42ED-48DD-87CA-0CC067B5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76E8F-87D3-46B4-85C1-A822563B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C215D-9C65-46FD-858E-5333BF9F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B0B37-66A8-472F-BDEE-8A266003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02C8A-B515-4963-A4B0-B22145B4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D6363-9C39-4282-B5F4-3016A5A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A6B2-DC71-47EA-AAB8-EE4E750B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4D421-DEA8-4F58-B98E-45EFE922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FEB-E5DD-4B8C-AC2B-E7DDC33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FE63-5707-4167-9E5F-A625657D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6D39-4F90-4EB7-9D33-7813A1C3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6E1FA-5A93-4364-826E-3E55A69A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B51-41B7-4C4F-B452-EC608FCB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FBB-45F4-4E16-BB8D-90705E5E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Rounded Rectangle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Rounded Rectangle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466D5B-3B84-4972-8D74-697EEAA8D369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BDE51E-92BE-453A-A9B3-69F73E665AA2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83F013-A213-4FC1-BBF6-61B1AEC1BF88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457200" y="3938760"/>
            <a:ext cx="822924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10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876581-A6F1-42BE-AEF8-FE9F051F6126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7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538960" y="533520"/>
            <a:ext cx="29714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200" spc="-1" strike="noStrike">
                <a:solidFill>
                  <a:schemeClr val="accent1"/>
                </a:solidFill>
                <a:latin typeface="Verdana"/>
              </a:rPr>
              <a:t>Click to edit Master title sty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538960" y="1447920"/>
            <a:ext cx="2971440" cy="4205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5000" anchor="t">
            <a:noAutofit/>
          </a:bodyPr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024200" indent="0">
              <a:lnSpc>
                <a:spcPct val="100000"/>
              </a:lnSpc>
              <a:spcBef>
                <a:spcPts val="230"/>
              </a:spcBef>
              <a:buNone/>
              <a:tabLst>
                <a:tab algn="l" pos="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2801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body"/>
          </p:nvPr>
        </p:nvSpPr>
        <p:spPr>
          <a:xfrm>
            <a:off x="761400" y="930240"/>
            <a:ext cx="4625640" cy="4723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CC1330-E257-408C-820D-2AB2A9922A3F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1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2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dt" idx="16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17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8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916F35-9AA8-490C-B1B4-6014D77F1EF6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2014 JFMIP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111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/>
          </a:bodyPr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7c7972"/>
                </a:solidFill>
                <a:latin typeface="Verdana"/>
              </a:rPr>
              <a:t>FASAB--Ideas for the Ideal Model </a:t>
            </a: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Wendy Payne, CPA, CG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FASAB Blue Logo"/>
          <p:cNvPicPr/>
          <p:nvPr/>
        </p:nvPicPr>
        <p:blipFill>
          <a:blip r:embed="rId1"/>
          <a:stretch/>
        </p:blipFill>
        <p:spPr>
          <a:xfrm>
            <a:off x="380880" y="4876920"/>
            <a:ext cx="1904760" cy="1395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3962520" y="5562720"/>
            <a:ext cx="4114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Tuesday, May 20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3:50 – 5: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E2E-1AD6-43C4-93EB-9C338E9346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to D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ual information is useful and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ion of budget, cost and non-financial performance is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hard to do thoug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ults don’t fit neatly into time peri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9123-6C76-4429-ADA8-32AB3DCB27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Task Force Ide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 budget, cost and accr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n electronic reporting model that presents information from audited financial statements – drill downs and machine readabl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agovernmental financial depend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ECDE-C39B-45AC-AADB-8B819F3FC3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embers’ Ide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6000"/>
          </a:bodyPr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tements are not the only source of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vernmentwide report (CFR) is for citizens and needs to be intui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cy level reports should support availability of disaggregated information but need not mirror the CF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key programs and these may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 trend rep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costs and accomplishments including progress on prior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30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0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94D6-5BA2-46C1-BC1A-9E505A2992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embers’ Ide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9000"/>
          </a:bodyPr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cies should show in four columns and by 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ary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ary oblig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ary out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ru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ment of Performance Measures and Costs to link cost and perform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about management of the money supp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78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78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78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EA95-5005-4349-AE25-33299B6E40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embers’ Ide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rep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hance cost reportin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what information is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 a balance between traditional and non-traditional rep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able natural language quer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al major ris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e us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“program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7097-BE60-4C3E-B3A3-AE68E7EFD7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My Thoughts – See the earlier disclaimer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4C3-B92D-43C8-BD92-80F298733F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Electronic Reporting - Govern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ll dow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read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ualization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ative 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resentationally faithfu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bia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st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cipating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B909-B152-458F-A724-A5CCB5A8DD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38960" y="533520"/>
            <a:ext cx="29714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200" spc="-1" strike="noStrike">
                <a:solidFill>
                  <a:schemeClr val="accent1"/>
                </a:solidFill>
                <a:latin typeface="Verdana"/>
              </a:rPr>
              <a:t>Statement of Net C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538960" y="1447920"/>
            <a:ext cx="2971440" cy="4205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5000" anchor="t">
            <a:normAutofit/>
          </a:bodyPr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is “cost”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cost perspective is most useful to who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es the disaggregation need to be audit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irect people to the cost perspective they ne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842773135"/>
              </p:ext>
            </p:extLst>
          </p:nvPr>
        </p:nvGraphicFramePr>
        <p:xfrm>
          <a:off x="762120" y="930240"/>
          <a:ext cx="4625640" cy="4723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9C075-3ED2-4BFC-BCF2-A5F5D70589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Statement of Net Cos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as to explo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rminology in MD&amp;A and other accompanying information including performance rep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ciples for disaggregation – best fit to the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imum level of disaggreg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E21EA-237A-4044-8C6A-E046E9413A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Plain Language Present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ed $4,346.1 billion to finance goods and services, acquire new assets, and reduce existing liabilities in FY2013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es and other revenues financed     75.2 % of the total needed in FY 2013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incurred additional liabilities to finance the remaining 24.8%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CF3B-EC47-483C-B021-3776E5E8D2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7000"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56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s expressed are those of the speak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2"/>
          </p:nvPr>
        </p:nvSpPr>
        <p:spPr>
          <a:xfrm>
            <a:off x="6705720" y="60199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391EE8-D3AF-4029-B9CF-FB6E4E49DFBF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Table 7"/>
          <p:cNvGraphicFramePr/>
          <p:nvPr/>
        </p:nvGraphicFramePr>
        <p:xfrm>
          <a:off x="380880" y="339120"/>
          <a:ext cx="7924320" cy="5981760"/>
        </p:xfrm>
        <a:graphic>
          <a:graphicData uri="http://schemas.openxmlformats.org/drawingml/2006/table">
            <a:tbl>
              <a:tblPr/>
              <a:tblGrid>
                <a:gridCol w="228960"/>
                <a:gridCol w="5384880"/>
                <a:gridCol w="1399680"/>
                <a:gridCol w="910440"/>
              </a:tblGrid>
              <a:tr h="242280">
                <a:tc gridSpan="2"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How We Financed Goods &amp;Services and Other Ne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Financ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Revenues: (in Bill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ople Paid directly for good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5b3d7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15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xes Paid directly by individ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196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xes Paid by corpo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axes (including exci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Ta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258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5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matched am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Total Financing from Reven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267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0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Borrowing and Other Li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rrowed money directly from 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5b3d7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6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ferred compensation promised to employ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4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wth in environmental and other li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wth in due and payable balances for transfers to individ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Total Financing from Debt and Other Li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79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1060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Total Fina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,346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0ED0C-65F2-4A4A-A4D1-525221F98F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General Updat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3C5-974A-4431-9C18-9E0CC80B8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1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– Proposa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in General Purpose Federal Financial Reports (GPFFR) all organiz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dgeted for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with potential for risk or reward, 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not specifically address particular ent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for judgment ab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clos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A64015-6BF2-4C36-BEAD-6AEBAD6A934C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inguish between consolidation entit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discl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sng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solidation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ed by general taxes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-going decision making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more clearly linked to elected official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for consolidation entities is to be consolidated in financial stat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Num" idx="24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1DAB06-83B7-43DC-ADA1-F5DBAE2EF867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sclosure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what independent from elected officials, and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be financially self-sustaining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regarding such organizations is to be disclosed in notes with an emphasis on ris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2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D5241F-1384-409B-991E-BDCA15F31678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4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40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3000"/>
          </a:bodyPr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addres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ntities are subject to SFFAS 34 – the GAAP hierarchy for federal ent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organizations to include in component reporting entity GPFF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eal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SB-basis information for consolidation ent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fferent year ends for disclosure organiz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ted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ndments to SFFAC 2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ntity and Disp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ve Vie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s in receivership, conservatorship, or owned/controlled through interventions should not be equated with other disclosure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entions should be addressed in a single standard on risk assum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9A6C1C-394F-4296-819D-998D761651F2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53416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9000"/>
          </a:bodyPr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ing to enhance the benefits of accrual basis financia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to the Boar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 needs surveys, focus groups, and roundt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Task Force on Government-wide Financial Repor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Dec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O Act 20-Year Re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put from task forces focusing on agency level reporting on cost, budget and perform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ment of spending pilo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 of other sovereign government pract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PA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7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55E558-8D3C-442A-AFD0-A6D9C87E8E49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1529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8000"/>
          </a:bodyPr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 want particular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ecial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to meet their nee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derstand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financial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ntralized sourc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obtaining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ve toward real-time dat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 program managers n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e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ncial and non-financial performanc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level cost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ward-look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on in agency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Num" idx="28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98A5D5-8840-4042-A99A-B2ECA6FEB5CE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71000"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3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Results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81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7000"/>
          </a:bodyPr>
          <a:p>
            <a:pPr marL="249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ovement Needed in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ment of Net Co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- cost by strategic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refer to focus on “cost” by organizations, programs, or pro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ching cost and output (and eventually outcome) is not so easy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terms used differently by different disciplines (cost per the budget versus cost per accrual principles versus cost per program evaluato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49120" indent="-2491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TOMIZATION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Num" idx="29"/>
          </p:nvPr>
        </p:nvSpPr>
        <p:spPr>
          <a:xfrm>
            <a:off x="6629400" y="5867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1AA03C-65C3-42B2-BC28-5F9510789740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5000"/>
          </a:bodyPr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900" spc="-1" strike="noStrike">
                <a:solidFill>
                  <a:srgbClr val="ff9257"/>
                </a:solidFill>
                <a:latin typeface="Verdana"/>
              </a:rPr>
              <a:t>(cont.)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search Results </a:t>
            </a: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20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xt Steps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3200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ramework for integr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we define a roadmap to follow to reach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30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8FD2E7-8DAF-428C-AA7D-2A9C5ED7D2B0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PA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to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force id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s’ id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 though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Up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CE85-D35D-47F9-9628-BBF55C4E8B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 Standards 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mited to insurance contracts and explicit guarantees (other than loan guarante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implementing policy initiatives to stabilize financial markets and the economy, the federal government explicitly assumed risks previously considered by some to have implied backing of the federal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order to meet the stewardship and operating performance objectives of federal financial report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important that the federal governm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 all significant risks assum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ot just risks related to insurance contracts and explicit guarant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4077-727A-462D-9707-830121A814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(cont.)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Three Phases 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0000"/>
          </a:bodyPr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ance and [Non-Loan]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lement Programs, including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ional Defens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urity and Disaster 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potential effects on future outf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ulatory actions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vernment Sponsored Enterprises (GSEs), etc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it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lig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risk ar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8682-1665-4BC1-95BE-A2B40CD0EC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Insurance &amp; Guarantee Phase 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sk Force starting now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federal Insuranc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Non-Loan]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antee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all programs are captured in updated standards/disclos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measurement method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e to Credit Reform ac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FASB Insurance Contracts Exposure Draft Stat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measurem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consistent reporting by all Insurance and Guarantee progr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14CF-2120-4354-AAE4-79647A3C71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8316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is partnering with GASB to develop standards for governmental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tative decision to establish a single model (with exceptions for short-term arrangement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assets consisting of the “right to use” a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liabilities consisting of the obligation to pay for th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cus may be on the interest cost associated with le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7026-65A3-4CDD-8AB2-9544E7C993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Public-Private Partnershi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16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7000"/>
          </a:bodyPr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budget pressures, federal agencies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ly turned to 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.g., PPPs, P3s) to accomplish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cy of the full costs and risks of such partnerships  is the overall 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 objectives includ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ng terms (e.g., service concession arrangements, P3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ing guidance for the recognition and measurement of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ts and liabil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and expen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implications for other arrangements related to P3s (sale-leaseback or other long-term arrangement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5B80-B0BA-42F3-BCF2-D932A89D95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1835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0663-F63C-4C06-8D29-1CCD25599C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Contact and Websit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quiries can be directed to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serv (sign up for emai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Projects – assigned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be reached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paynew@fasab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2) 512-73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29F2D-7AD3-499F-8B2C-59F4C30CC8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Key Finding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5000"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6800" spc="-1" strike="noStrike">
                <a:solidFill>
                  <a:srgbClr val="000000"/>
                </a:solidFill>
                <a:latin typeface="Verdana"/>
              </a:rPr>
              <a:t>Data generally are highly accurate and granular: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  <a:p>
            <a:pPr lvl="1" marL="548280" indent="-2008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challenges in analyzing and transforming data into actionable information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lvl="1" marL="548280" indent="-2008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especially the linking of budget, costs, and performance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0FB0-2BD7-4E6E-B914-1E22327D73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Key Finding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49000"/>
          </a:bodyPr>
          <a:p>
            <a:pPr marL="273240" indent="-2732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6800" spc="-1" strike="noStrike">
                <a:solidFill>
                  <a:srgbClr val="000000"/>
                </a:solidFill>
                <a:latin typeface="Verdana"/>
              </a:rPr>
              <a:t>Financial data can be used more effectively if: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  <a:p>
            <a:pPr lvl="1" marL="565560" indent="-20736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400" spc="-1" strike="noStrike">
                <a:solidFill>
                  <a:srgbClr val="000000"/>
                </a:solidFill>
                <a:latin typeface="Verdana"/>
              </a:rPr>
              <a:t>leadership instills a culture that pays attention to costs and performance 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lvl="1" marL="565560" indent="-20736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400" spc="-1" strike="noStrike">
                <a:solidFill>
                  <a:srgbClr val="000000"/>
                </a:solidFill>
                <a:latin typeface="Verdana"/>
              </a:rPr>
              <a:t>by creating structures and incentives that encourage employees to carefully examine these issues.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6F7A-4286-438E-B253-EBB3F183BC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Key Finding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3000"/>
          </a:bodyPr>
          <a:p>
            <a:pPr marL="255600" indent="-2556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6800" spc="-1" strike="noStrike">
                <a:solidFill>
                  <a:srgbClr val="000000"/>
                </a:solidFill>
                <a:latin typeface="Verdana"/>
              </a:rPr>
              <a:t>CFO organizations increasingly need: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  <a:p>
            <a:pPr lvl="1" marL="528480" indent="-1936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400" spc="-1" strike="noStrike">
                <a:solidFill>
                  <a:srgbClr val="000000"/>
                </a:solidFill>
                <a:latin typeface="Verdana"/>
              </a:rPr>
              <a:t>to offer valuable decision-making support 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lvl="1" marL="528480" indent="-1936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400" spc="-1" strike="noStrike">
                <a:solidFill>
                  <a:srgbClr val="000000"/>
                </a:solidFill>
                <a:latin typeface="Verdana"/>
              </a:rPr>
              <a:t>to evolve to a more modern approach that features sophisticated cost and performance analysis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6A39-AD66-437B-865A-826DD5293F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Recommend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0000"/>
          </a:bodyPr>
          <a:p>
            <a:pPr marL="241200" indent="-2412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Strengthen the CFO staff’s knowledge of program operations </a:t>
            </a: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in order to increase their ability to act as business partners to agency program leadership.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241200" indent="-2412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mphasize development of the CFO staff skillsets to ensure that traditional accounting is augmented by data analytics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41200" indent="-2412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In order to connect financial and cost information to program outcomes, federal agencies should link budgeted resources to costs, outputs, and performance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5CF32-39E7-43F1-9E2C-DAB68822B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Recommend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4000"/>
          </a:bodyPr>
          <a:p>
            <a:pPr marL="260280" indent="-2602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Develop financial and programmatic dashboards specifically tailored to the decision-making requirements of executives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0280" indent="-2602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hance existing reporting systems to integrate financial, operational, and HR-related information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0280" indent="-2602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ongress and OMB should create specific legislative and regulatory catalysts to focus agency attention on developing clear cost and outcome data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B253-5941-4DBF-94CD-2E48624B68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040" cy="10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Ideal Model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78D-279D-49DA-9F89-3D5A703CE0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398</TotalTime>
  <Application>LibreOffice/7.4.7.2$Linux_X86_64 LibreOffice_project/40$Build-2</Application>
  <AppVersion>15.0000</AppVersion>
  <Words>1647</Words>
  <Paragraphs>395</Paragraphs>
  <Company>GA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1:02:55Z</dcterms:created>
  <dc:creator>Wendy Payne</dc:creator>
  <dc:description/>
  <dc:language>en-US</dc:language>
  <cp:lastModifiedBy>Wendy Payne</cp:lastModifiedBy>
  <dcterms:modified xsi:type="dcterms:W3CDTF">2014-05-08T19:42:19Z</dcterms:modified>
  <cp:revision>228</cp:revision>
  <dc:subject/>
  <dc:title>Baltimore Chapter of the Association of Government Account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36</vt:r8>
  </property>
</Properties>
</file>