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58C5820D-E6FE-41A1-AC8B-C5B43CAFCE13}" type="doc">
      <dgm:prSet loTypeId="urn:microsoft.com/office/officeart/2005/8/layout/cycle4" loCatId="relationship" qsTypeId="urn:microsoft.com/office/officeart/2005/8/quickstyle/simple1" qsCatId="simple" csTypeId="urn:microsoft.com/office/officeart/2005/8/colors/accent1_2" csCatId="accent1" phldr="1"/>
      <dgm:spPr/>
      <dgm:t>
        <a:bodyPr/>
        <a:lstStyle/>
        <a:p>
          <a:endParaRPr lang="en-US"/>
        </a:p>
      </dgm:t>
    </dgm:pt>
    <dgm:pt modelId="{270BEF38-190E-4B2B-B971-B9D2DAEBE582}">
      <dgm:prSet phldrT="[Text]"/>
      <dgm:spPr/>
      <dgm:t>
        <a:bodyPr/>
        <a:lstStyle/>
        <a:p>
          <a:r>
            <a:rPr lang="en-US" dirty="0" smtClean="0"/>
            <a:t>Functions</a:t>
          </a:r>
          <a:endParaRPr lang="en-US" dirty="0"/>
        </a:p>
      </dgm:t>
    </dgm:pt>
    <dgm:pt modelId="{4BEB6119-A481-45C3-865F-52D3C0BBAB4D}" type="parTrans" cxnId="{907AB933-3285-4555-A295-921C0E2DA3B8}">
      <dgm:prSet/>
      <dgm:spPr/>
      <dgm:t>
        <a:bodyPr/>
        <a:lstStyle/>
        <a:p>
          <a:endParaRPr lang="en-US"/>
        </a:p>
      </dgm:t>
    </dgm:pt>
    <dgm:pt modelId="{28B055FE-7506-4EBE-98A3-C1214AFCA223}" type="sibTrans" cxnId="{907AB933-3285-4555-A295-921C0E2DA3B8}">
      <dgm:prSet/>
      <dgm:spPr/>
      <dgm:t>
        <a:bodyPr/>
        <a:lstStyle/>
        <a:p>
          <a:endParaRPr lang="en-US"/>
        </a:p>
      </dgm:t>
    </dgm:pt>
    <dgm:pt modelId="{35E4C41C-29A0-45D1-A5C2-3E5354710F65}">
      <dgm:prSet phldrT="[Text]"/>
      <dgm:spPr/>
      <dgm:t>
        <a:bodyPr/>
        <a:lstStyle/>
        <a:p>
          <a:r>
            <a:rPr lang="en-US" dirty="0" err="1" smtClean="0"/>
            <a:t>Subfunctions</a:t>
          </a:r>
          <a:endParaRPr lang="en-US" dirty="0"/>
        </a:p>
      </dgm:t>
    </dgm:pt>
    <dgm:pt modelId="{E0687495-4D11-4D75-8F40-325420B7FB4F}" type="parTrans" cxnId="{15780283-4F32-42EE-B4F4-5ED943C88FEC}">
      <dgm:prSet/>
      <dgm:spPr/>
      <dgm:t>
        <a:bodyPr/>
        <a:lstStyle/>
        <a:p>
          <a:endParaRPr lang="en-US"/>
        </a:p>
      </dgm:t>
    </dgm:pt>
    <dgm:pt modelId="{994D093A-CE30-4550-9256-48DCC9557AEA}" type="sibTrans" cxnId="{15780283-4F32-42EE-B4F4-5ED943C88FEC}">
      <dgm:prSet/>
      <dgm:spPr/>
      <dgm:t>
        <a:bodyPr/>
        <a:lstStyle/>
        <a:p>
          <a:endParaRPr lang="en-US"/>
        </a:p>
      </dgm:t>
    </dgm:pt>
    <dgm:pt modelId="{4FC4996B-FB20-4DDC-AAF1-9A15D1A31C92}">
      <dgm:prSet phldrT="[Text]"/>
      <dgm:spPr/>
      <dgm:t>
        <a:bodyPr/>
        <a:lstStyle/>
        <a:p>
          <a:r>
            <a:rPr lang="en-US" dirty="0" smtClean="0"/>
            <a:t>Organizations</a:t>
          </a:r>
          <a:endParaRPr lang="en-US" dirty="0"/>
        </a:p>
      </dgm:t>
    </dgm:pt>
    <dgm:pt modelId="{3DB7879E-F011-45F8-80EA-68E8D0DAF11E}" type="parTrans" cxnId="{68F0D3A7-B788-4B0A-9207-F43C77B20527}">
      <dgm:prSet/>
      <dgm:spPr/>
      <dgm:t>
        <a:bodyPr/>
        <a:lstStyle/>
        <a:p>
          <a:endParaRPr lang="en-US"/>
        </a:p>
      </dgm:t>
    </dgm:pt>
    <dgm:pt modelId="{58E50A02-B464-41BB-B874-2CF22E1C9993}" type="sibTrans" cxnId="{68F0D3A7-B788-4B0A-9207-F43C77B20527}">
      <dgm:prSet/>
      <dgm:spPr/>
      <dgm:t>
        <a:bodyPr/>
        <a:lstStyle/>
        <a:p>
          <a:endParaRPr lang="en-US"/>
        </a:p>
      </dgm:t>
    </dgm:pt>
    <dgm:pt modelId="{486315A9-58FD-429B-B38D-4D6CA0002159}">
      <dgm:prSet phldrT="[Text]"/>
      <dgm:spPr/>
      <dgm:t>
        <a:bodyPr/>
        <a:lstStyle/>
        <a:p>
          <a:r>
            <a:rPr lang="en-US" dirty="0" smtClean="0"/>
            <a:t>Responsibility Segments</a:t>
          </a:r>
          <a:endParaRPr lang="en-US" dirty="0"/>
        </a:p>
      </dgm:t>
    </dgm:pt>
    <dgm:pt modelId="{B82BD7A3-8E1F-4723-A615-71DF569E1B04}" type="parTrans" cxnId="{33329980-60AD-4908-826F-66EEF5DC862C}">
      <dgm:prSet/>
      <dgm:spPr/>
      <dgm:t>
        <a:bodyPr/>
        <a:lstStyle/>
        <a:p>
          <a:endParaRPr lang="en-US"/>
        </a:p>
      </dgm:t>
    </dgm:pt>
    <dgm:pt modelId="{2D2DA508-0343-4BFC-BD02-E473EEC02096}" type="sibTrans" cxnId="{33329980-60AD-4908-826F-66EEF5DC862C}">
      <dgm:prSet/>
      <dgm:spPr/>
      <dgm:t>
        <a:bodyPr/>
        <a:lstStyle/>
        <a:p>
          <a:endParaRPr lang="en-US"/>
        </a:p>
      </dgm:t>
    </dgm:pt>
    <dgm:pt modelId="{18387DB3-3982-4A2D-99FD-B0A6E941B2A6}">
      <dgm:prSet phldrT="[Text]"/>
      <dgm:spPr/>
      <dgm:t>
        <a:bodyPr/>
        <a:lstStyle/>
        <a:p>
          <a:r>
            <a:rPr lang="en-US" dirty="0" smtClean="0"/>
            <a:t>Natural Classification</a:t>
          </a:r>
          <a:endParaRPr lang="en-US" dirty="0"/>
        </a:p>
      </dgm:t>
    </dgm:pt>
    <dgm:pt modelId="{EA555052-B324-4F9B-9187-558267EE22C5}" type="parTrans" cxnId="{B662C5B6-B676-4E12-81EF-AFEDB2977650}">
      <dgm:prSet/>
      <dgm:spPr/>
      <dgm:t>
        <a:bodyPr/>
        <a:lstStyle/>
        <a:p>
          <a:endParaRPr lang="en-US"/>
        </a:p>
      </dgm:t>
    </dgm:pt>
    <dgm:pt modelId="{82A90F7F-29DB-4A93-84DE-B2DD201352D7}" type="sibTrans" cxnId="{B662C5B6-B676-4E12-81EF-AFEDB2977650}">
      <dgm:prSet/>
      <dgm:spPr/>
      <dgm:t>
        <a:bodyPr/>
        <a:lstStyle/>
        <a:p>
          <a:endParaRPr lang="en-US"/>
        </a:p>
      </dgm:t>
    </dgm:pt>
    <dgm:pt modelId="{A97F2719-5B18-4A87-8340-249F3CA51D25}">
      <dgm:prSet phldrT="[Text]"/>
      <dgm:spPr/>
      <dgm:t>
        <a:bodyPr/>
        <a:lstStyle/>
        <a:p>
          <a:r>
            <a:rPr lang="en-US" dirty="0" smtClean="0"/>
            <a:t>Salaries</a:t>
          </a:r>
          <a:endParaRPr lang="en-US" dirty="0"/>
        </a:p>
      </dgm:t>
    </dgm:pt>
    <dgm:pt modelId="{21627653-6E21-4E5C-A5BA-6EAC2E964F98}" type="parTrans" cxnId="{459965D3-4FEF-4F4F-B512-B587051082C3}">
      <dgm:prSet/>
      <dgm:spPr/>
      <dgm:t>
        <a:bodyPr/>
        <a:lstStyle/>
        <a:p>
          <a:endParaRPr lang="en-US"/>
        </a:p>
      </dgm:t>
    </dgm:pt>
    <dgm:pt modelId="{1E52CF1F-3950-4D45-AE93-EBE7CCBC3EBF}" type="sibTrans" cxnId="{459965D3-4FEF-4F4F-B512-B587051082C3}">
      <dgm:prSet/>
      <dgm:spPr/>
      <dgm:t>
        <a:bodyPr/>
        <a:lstStyle/>
        <a:p>
          <a:endParaRPr lang="en-US"/>
        </a:p>
      </dgm:t>
    </dgm:pt>
    <dgm:pt modelId="{8660D4C5-1D88-4568-AF19-7C89B65B7D09}">
      <dgm:prSet phldrT="[Text]"/>
      <dgm:spPr/>
      <dgm:t>
        <a:bodyPr/>
        <a:lstStyle/>
        <a:p>
          <a:r>
            <a:rPr lang="en-US" dirty="0" smtClean="0"/>
            <a:t>Strategic Goals</a:t>
          </a:r>
          <a:endParaRPr lang="en-US" dirty="0"/>
        </a:p>
      </dgm:t>
    </dgm:pt>
    <dgm:pt modelId="{08374A9C-5F8A-4D04-9FE6-39AE1F5F5411}" type="parTrans" cxnId="{5E4B2C7B-7C9F-48AE-AE8F-43FBF7FB2244}">
      <dgm:prSet/>
      <dgm:spPr/>
      <dgm:t>
        <a:bodyPr/>
        <a:lstStyle/>
        <a:p>
          <a:endParaRPr lang="en-US"/>
        </a:p>
      </dgm:t>
    </dgm:pt>
    <dgm:pt modelId="{4D637061-CD4E-4097-903C-DA118367D3AA}" type="sibTrans" cxnId="{5E4B2C7B-7C9F-48AE-AE8F-43FBF7FB2244}">
      <dgm:prSet/>
      <dgm:spPr/>
      <dgm:t>
        <a:bodyPr/>
        <a:lstStyle/>
        <a:p>
          <a:endParaRPr lang="en-US"/>
        </a:p>
      </dgm:t>
    </dgm:pt>
    <dgm:pt modelId="{D4A1668D-3A59-4820-9FD5-2FF2AA35CBDB}">
      <dgm:prSet phldrT="[Text]"/>
      <dgm:spPr/>
      <dgm:t>
        <a:bodyPr/>
        <a:lstStyle/>
        <a:p>
          <a:r>
            <a:rPr lang="en-US" dirty="0" smtClean="0"/>
            <a:t>Programs</a:t>
          </a:r>
          <a:endParaRPr lang="en-US" dirty="0"/>
        </a:p>
      </dgm:t>
    </dgm:pt>
    <dgm:pt modelId="{E34FDC82-AD99-435E-8EE9-23CB979E36EE}" type="parTrans" cxnId="{7C404B74-A757-4ADF-B742-62F56CD6B676}">
      <dgm:prSet/>
      <dgm:spPr/>
      <dgm:t>
        <a:bodyPr/>
        <a:lstStyle/>
        <a:p>
          <a:endParaRPr lang="en-US"/>
        </a:p>
      </dgm:t>
    </dgm:pt>
    <dgm:pt modelId="{D16F1FD3-E2E8-4756-8FF9-47CFD3126F36}" type="sibTrans" cxnId="{7C404B74-A757-4ADF-B742-62F56CD6B676}">
      <dgm:prSet/>
      <dgm:spPr/>
      <dgm:t>
        <a:bodyPr/>
        <a:lstStyle/>
        <a:p>
          <a:endParaRPr lang="en-US"/>
        </a:p>
      </dgm:t>
    </dgm:pt>
    <dgm:pt modelId="{42AF032D-C548-4F86-82DD-6F181FFBAB26}">
      <dgm:prSet phldrT="[Text]"/>
      <dgm:spPr/>
      <dgm:t>
        <a:bodyPr/>
        <a:lstStyle/>
        <a:p>
          <a:r>
            <a:rPr lang="en-US" dirty="0" smtClean="0"/>
            <a:t>Activities</a:t>
          </a:r>
          <a:endParaRPr lang="en-US" dirty="0"/>
        </a:p>
      </dgm:t>
    </dgm:pt>
    <dgm:pt modelId="{ACD3671D-D584-4A5F-937D-D2550ECC66B8}" type="parTrans" cxnId="{0EA20921-6FFA-4763-8190-0266C33375C3}">
      <dgm:prSet/>
      <dgm:spPr/>
      <dgm:t>
        <a:bodyPr/>
        <a:lstStyle/>
        <a:p>
          <a:endParaRPr lang="en-US"/>
        </a:p>
      </dgm:t>
    </dgm:pt>
    <dgm:pt modelId="{56220D43-36AF-440D-984C-0C2CBDCE5ECC}" type="sibTrans" cxnId="{0EA20921-6FFA-4763-8190-0266C33375C3}">
      <dgm:prSet/>
      <dgm:spPr/>
      <dgm:t>
        <a:bodyPr/>
        <a:lstStyle/>
        <a:p>
          <a:endParaRPr lang="en-US"/>
        </a:p>
      </dgm:t>
    </dgm:pt>
    <dgm:pt modelId="{72DDD473-5D81-45E2-A898-058313238DDB}">
      <dgm:prSet phldrT="[Text]"/>
      <dgm:spPr/>
      <dgm:t>
        <a:bodyPr/>
        <a:lstStyle/>
        <a:p>
          <a:r>
            <a:rPr lang="en-US" dirty="0" smtClean="0"/>
            <a:t>Facilities</a:t>
          </a:r>
          <a:endParaRPr lang="en-US" dirty="0"/>
        </a:p>
      </dgm:t>
    </dgm:pt>
    <dgm:pt modelId="{B6EF1A25-466E-4D0B-9A80-CCE056C35D42}" type="parTrans" cxnId="{E30864F9-4CE6-4C4B-98CB-A67F4FB3F77C}">
      <dgm:prSet/>
      <dgm:spPr/>
      <dgm:t>
        <a:bodyPr/>
        <a:lstStyle/>
        <a:p>
          <a:endParaRPr lang="en-US"/>
        </a:p>
      </dgm:t>
    </dgm:pt>
    <dgm:pt modelId="{F7016AF8-9A27-449D-8944-AD493D71A0C6}" type="sibTrans" cxnId="{E30864F9-4CE6-4C4B-98CB-A67F4FB3F77C}">
      <dgm:prSet/>
      <dgm:spPr/>
      <dgm:t>
        <a:bodyPr/>
        <a:lstStyle/>
        <a:p>
          <a:endParaRPr lang="en-US"/>
        </a:p>
      </dgm:t>
    </dgm:pt>
    <dgm:pt modelId="{FF8FF449-FCD0-46B0-9F12-EC9AC38BA63A}">
      <dgm:prSet phldrT="[Text]"/>
      <dgm:spPr/>
      <dgm:t>
        <a:bodyPr/>
        <a:lstStyle/>
        <a:p>
          <a:r>
            <a:rPr lang="en-US" dirty="0" smtClean="0"/>
            <a:t>Grants</a:t>
          </a:r>
          <a:endParaRPr lang="en-US" dirty="0"/>
        </a:p>
      </dgm:t>
    </dgm:pt>
    <dgm:pt modelId="{03D9A7FF-69A7-4296-B9AE-A7FFE8A71156}" type="parTrans" cxnId="{9442C986-0F45-4FF9-AA52-A477F6C32732}">
      <dgm:prSet/>
      <dgm:spPr/>
      <dgm:t>
        <a:bodyPr/>
        <a:lstStyle/>
        <a:p>
          <a:endParaRPr lang="en-US"/>
        </a:p>
      </dgm:t>
    </dgm:pt>
    <dgm:pt modelId="{A5F70DBC-607D-4437-A36C-951F22512615}" type="sibTrans" cxnId="{9442C986-0F45-4FF9-AA52-A477F6C32732}">
      <dgm:prSet/>
      <dgm:spPr/>
      <dgm:t>
        <a:bodyPr/>
        <a:lstStyle/>
        <a:p>
          <a:endParaRPr lang="en-US"/>
        </a:p>
      </dgm:t>
    </dgm:pt>
    <dgm:pt modelId="{702AC069-82EB-41F1-B228-EBD6EA9F927A}">
      <dgm:prSet phldrT="[Text]"/>
      <dgm:spPr/>
      <dgm:t>
        <a:bodyPr/>
        <a:lstStyle/>
        <a:p>
          <a:r>
            <a:rPr lang="en-US" dirty="0" smtClean="0"/>
            <a:t>Contracts</a:t>
          </a:r>
          <a:endParaRPr lang="en-US" dirty="0"/>
        </a:p>
      </dgm:t>
    </dgm:pt>
    <dgm:pt modelId="{2B364EFC-4F39-4B6C-A5A6-2E667E6AFA26}" type="parTrans" cxnId="{73BEACCE-0CA3-42F2-B869-E2BD25D4784F}">
      <dgm:prSet/>
      <dgm:spPr/>
      <dgm:t>
        <a:bodyPr/>
        <a:lstStyle/>
        <a:p>
          <a:endParaRPr lang="en-US"/>
        </a:p>
      </dgm:t>
    </dgm:pt>
    <dgm:pt modelId="{33F3C9CB-1795-48DD-A6F9-A6ADBBBC1CCB}" type="sibTrans" cxnId="{73BEACCE-0CA3-42F2-B869-E2BD25D4784F}">
      <dgm:prSet/>
      <dgm:spPr/>
      <dgm:t>
        <a:bodyPr/>
        <a:lstStyle/>
        <a:p>
          <a:endParaRPr lang="en-US"/>
        </a:p>
      </dgm:t>
    </dgm:pt>
    <dgm:pt modelId="{A260875E-F867-4806-8F0B-645664DE4634}" type="pres">
      <dgm:prSet presAssocID="{58C5820D-E6FE-41A1-AC8B-C5B43CAFCE13}" presName="cycleMatrixDiagram" presStyleCnt="0">
        <dgm:presLayoutVars>
          <dgm:chMax val="1"/>
          <dgm:dir/>
          <dgm:animLvl val="lvl"/>
          <dgm:resizeHandles val="exact"/>
        </dgm:presLayoutVars>
      </dgm:prSet>
      <dgm:spPr/>
    </dgm:pt>
    <dgm:pt modelId="{A0325592-5671-4CB7-913B-FA5A8559EBF1}" type="pres">
      <dgm:prSet presAssocID="{58C5820D-E6FE-41A1-AC8B-C5B43CAFCE13}" presName="children" presStyleCnt="0"/>
      <dgm:spPr/>
    </dgm:pt>
    <dgm:pt modelId="{F511F580-EFAF-4036-88E7-A8ABF493D307}" type="pres">
      <dgm:prSet presAssocID="{58C5820D-E6FE-41A1-AC8B-C5B43CAFCE13}" presName="child1group" presStyleCnt="0"/>
      <dgm:spPr/>
    </dgm:pt>
    <dgm:pt modelId="{C15079F5-8F69-4D79-9B1B-FE96B675C81D}" type="pres">
      <dgm:prSet presAssocID="{58C5820D-E6FE-41A1-AC8B-C5B43CAFCE13}" presName="child1" presStyleLbl="bgAcc1" presStyleIdx="0" presStyleCnt="4"/>
      <dgm:spPr/>
    </dgm:pt>
    <dgm:pt modelId="{092E35E1-5301-4A16-AA5B-EE46B0EF4351}" type="pres">
      <dgm:prSet presAssocID="{58C5820D-E6FE-41A1-AC8B-C5B43CAFCE13}" presName="child1Text" presStyleLbl="bgAcc1" presStyleIdx="0" presStyleCnt="4">
        <dgm:presLayoutVars>
          <dgm:bulletEnabled val="1"/>
        </dgm:presLayoutVars>
      </dgm:prSet>
      <dgm:spPr/>
    </dgm:pt>
    <dgm:pt modelId="{6540C927-ECD2-4FC7-A6D3-437D3FD82593}" type="pres">
      <dgm:prSet presAssocID="{58C5820D-E6FE-41A1-AC8B-C5B43CAFCE13}" presName="child2group" presStyleCnt="0"/>
      <dgm:spPr/>
    </dgm:pt>
    <dgm:pt modelId="{914BF8E5-A201-4D7E-9079-78B08965E143}" type="pres">
      <dgm:prSet presAssocID="{58C5820D-E6FE-41A1-AC8B-C5B43CAFCE13}" presName="child2" presStyleLbl="bgAcc1" presStyleIdx="1" presStyleCnt="4"/>
      <dgm:spPr/>
    </dgm:pt>
    <dgm:pt modelId="{D23FFD88-CA1D-4A42-86CC-BBF6C21C0F63}" type="pres">
      <dgm:prSet presAssocID="{58C5820D-E6FE-41A1-AC8B-C5B43CAFCE13}" presName="child2Text" presStyleLbl="bgAcc1" presStyleIdx="1" presStyleCnt="4">
        <dgm:presLayoutVars>
          <dgm:bulletEnabled val="1"/>
        </dgm:presLayoutVars>
      </dgm:prSet>
      <dgm:spPr/>
    </dgm:pt>
    <dgm:pt modelId="{8AD8C7B0-63EE-4A60-8CB2-492C792E72A2}" type="pres">
      <dgm:prSet presAssocID="{58C5820D-E6FE-41A1-AC8B-C5B43CAFCE13}" presName="child3group" presStyleCnt="0"/>
      <dgm:spPr/>
    </dgm:pt>
    <dgm:pt modelId="{E34B4439-AA75-469B-99A1-33445D66C7A4}" type="pres">
      <dgm:prSet presAssocID="{58C5820D-E6FE-41A1-AC8B-C5B43CAFCE13}" presName="child3" presStyleLbl="bgAcc1" presStyleIdx="2" presStyleCnt="4"/>
      <dgm:spPr/>
      <dgm:t>
        <a:bodyPr/>
        <a:lstStyle/>
        <a:p>
          <a:endParaRPr lang="en-US"/>
        </a:p>
      </dgm:t>
    </dgm:pt>
    <dgm:pt modelId="{4F5159F6-604E-456A-9C94-F7CFE14382B9}" type="pres">
      <dgm:prSet presAssocID="{58C5820D-E6FE-41A1-AC8B-C5B43CAFCE13}" presName="child3Text" presStyleLbl="bgAcc1" presStyleIdx="2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EBBFC924-9B26-4E34-9D11-12135FCFED23}" type="pres">
      <dgm:prSet presAssocID="{58C5820D-E6FE-41A1-AC8B-C5B43CAFCE13}" presName="child4group" presStyleCnt="0"/>
      <dgm:spPr/>
    </dgm:pt>
    <dgm:pt modelId="{A630A7B5-CD81-4E98-BD97-99F6140E98E6}" type="pres">
      <dgm:prSet presAssocID="{58C5820D-E6FE-41A1-AC8B-C5B43CAFCE13}" presName="child4" presStyleLbl="bgAcc1" presStyleIdx="3" presStyleCnt="4"/>
      <dgm:spPr/>
      <dgm:t>
        <a:bodyPr/>
        <a:lstStyle/>
        <a:p>
          <a:endParaRPr lang="en-US"/>
        </a:p>
      </dgm:t>
    </dgm:pt>
    <dgm:pt modelId="{E79794B1-751F-4AEE-B65C-A4BEE044AA9C}" type="pres">
      <dgm:prSet presAssocID="{58C5820D-E6FE-41A1-AC8B-C5B43CAFCE13}" presName="child4Text" presStyleLbl="bgAcc1" presStyleIdx="3" presStyleCnt="4">
        <dgm:presLayoutVars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37526592-703D-4DE0-AF42-F4F326D78E79}" type="pres">
      <dgm:prSet presAssocID="{58C5820D-E6FE-41A1-AC8B-C5B43CAFCE13}" presName="childPlaceholder" presStyleCnt="0"/>
      <dgm:spPr/>
    </dgm:pt>
    <dgm:pt modelId="{B3A21662-822A-4C57-B26C-F94966359C33}" type="pres">
      <dgm:prSet presAssocID="{58C5820D-E6FE-41A1-AC8B-C5B43CAFCE13}" presName="circle" presStyleCnt="0"/>
      <dgm:spPr/>
    </dgm:pt>
    <dgm:pt modelId="{999DB6C6-7DBE-4460-A445-08B2D1AAD442}" type="pres">
      <dgm:prSet presAssocID="{58C5820D-E6FE-41A1-AC8B-C5B43CAFCE13}" presName="quadrant1" presStyleLbl="node1" presStyleIdx="0" presStyleCnt="4">
        <dgm:presLayoutVars>
          <dgm:chMax val="1"/>
          <dgm:bulletEnabled val="1"/>
        </dgm:presLayoutVars>
      </dgm:prSet>
      <dgm:spPr/>
    </dgm:pt>
    <dgm:pt modelId="{632C3223-BCE5-4343-B6C2-71031F232897}" type="pres">
      <dgm:prSet presAssocID="{58C5820D-E6FE-41A1-AC8B-C5B43CAFCE13}" presName="quadrant2" presStyleLbl="node1" presStyleIdx="1" presStyleCnt="4">
        <dgm:presLayoutVars>
          <dgm:chMax val="1"/>
          <dgm:bulletEnabled val="1"/>
        </dgm:presLayoutVars>
      </dgm:prSet>
      <dgm:spPr/>
    </dgm:pt>
    <dgm:pt modelId="{8BDE64E4-25FD-4415-BE45-773BF05EA322}" type="pres">
      <dgm:prSet presAssocID="{58C5820D-E6FE-41A1-AC8B-C5B43CAFCE13}" presName="quadrant3" presStyleLbl="node1" presStyleIdx="2" presStyleCnt="4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3B3CA876-E757-431F-A18B-B338E646D724}" type="pres">
      <dgm:prSet presAssocID="{58C5820D-E6FE-41A1-AC8B-C5B43CAFCE13}" presName="quadrant4" presStyleLbl="node1" presStyleIdx="3" presStyleCnt="4">
        <dgm:presLayoutVars>
          <dgm:chMax val="1"/>
          <dgm:bulletEnabled val="1"/>
        </dgm:presLayoutVars>
      </dgm:prSet>
      <dgm:spPr/>
      <dgm:t>
        <a:bodyPr/>
        <a:lstStyle/>
        <a:p>
          <a:endParaRPr lang="en-US"/>
        </a:p>
      </dgm:t>
    </dgm:pt>
    <dgm:pt modelId="{B008C95C-13A4-473D-9F2F-BF406C46DFEF}" type="pres">
      <dgm:prSet presAssocID="{58C5820D-E6FE-41A1-AC8B-C5B43CAFCE13}" presName="quadrantPlaceholder" presStyleCnt="0"/>
      <dgm:spPr/>
    </dgm:pt>
    <dgm:pt modelId="{6478D1C5-8D61-45A7-A40D-117102EA3070}" type="pres">
      <dgm:prSet presAssocID="{58C5820D-E6FE-41A1-AC8B-C5B43CAFCE13}" presName="center1" presStyleLbl="fgShp" presStyleIdx="0" presStyleCnt="2"/>
      <dgm:spPr/>
    </dgm:pt>
    <dgm:pt modelId="{E0FF316E-8267-4896-BDC6-44D8A29DB017}" type="pres">
      <dgm:prSet presAssocID="{58C5820D-E6FE-41A1-AC8B-C5B43CAFCE13}" presName="center2" presStyleLbl="fgShp" presStyleIdx="1" presStyleCnt="2"/>
      <dgm:spPr/>
    </dgm:pt>
  </dgm:ptLst>
  <dgm:cxnLst>
    <dgm:cxn modelId="{E30864F9-4CE6-4C4B-98CB-A67F4FB3F77C}" srcId="{18387DB3-3982-4A2D-99FD-B0A6E941B2A6}" destId="{72DDD473-5D81-45E2-A898-058313238DDB}" srcOrd="1" destOrd="0" parTransId="{B6EF1A25-466E-4D0B-9A80-CCE056C35D42}" sibTransId="{F7016AF8-9A27-449D-8944-AD493D71A0C6}"/>
    <dgm:cxn modelId="{459965D3-4FEF-4F4F-B512-B587051082C3}" srcId="{18387DB3-3982-4A2D-99FD-B0A6E941B2A6}" destId="{A97F2719-5B18-4A87-8340-249F3CA51D25}" srcOrd="0" destOrd="0" parTransId="{21627653-6E21-4E5C-A5BA-6EAC2E964F98}" sibTransId="{1E52CF1F-3950-4D45-AE93-EBE7CCBC3EBF}"/>
    <dgm:cxn modelId="{0439CA68-FFF3-4245-BFA0-0A43C9440B84}" type="presOf" srcId="{35E4C41C-29A0-45D1-A5C2-3E5354710F65}" destId="{092E35E1-5301-4A16-AA5B-EE46B0EF4351}" srcOrd="1" destOrd="0" presId="urn:microsoft.com/office/officeart/2005/8/layout/cycle4"/>
    <dgm:cxn modelId="{907AB933-3285-4555-A295-921C0E2DA3B8}" srcId="{58C5820D-E6FE-41A1-AC8B-C5B43CAFCE13}" destId="{270BEF38-190E-4B2B-B971-B9D2DAEBE582}" srcOrd="0" destOrd="0" parTransId="{4BEB6119-A481-45C3-865F-52D3C0BBAB4D}" sibTransId="{28B055FE-7506-4EBE-98A3-C1214AFCA223}"/>
    <dgm:cxn modelId="{DE651F80-250A-40BC-A91F-2D8433100C65}" type="presOf" srcId="{486315A9-58FD-429B-B38D-4D6CA0002159}" destId="{D23FFD88-CA1D-4A42-86CC-BBF6C21C0F63}" srcOrd="1" destOrd="0" presId="urn:microsoft.com/office/officeart/2005/8/layout/cycle4"/>
    <dgm:cxn modelId="{2869D19F-9099-4AAB-9213-C6FE6C4EE8AF}" type="presOf" srcId="{702AC069-82EB-41F1-B228-EBD6EA9F927A}" destId="{4F5159F6-604E-456A-9C94-F7CFE14382B9}" srcOrd="1" destOrd="3" presId="urn:microsoft.com/office/officeart/2005/8/layout/cycle4"/>
    <dgm:cxn modelId="{73BEACCE-0CA3-42F2-B869-E2BD25D4784F}" srcId="{18387DB3-3982-4A2D-99FD-B0A6E941B2A6}" destId="{702AC069-82EB-41F1-B228-EBD6EA9F927A}" srcOrd="3" destOrd="0" parTransId="{2B364EFC-4F39-4B6C-A5A6-2E667E6AFA26}" sibTransId="{33F3C9CB-1795-48DD-A6F9-A6ADBBBC1CCB}"/>
    <dgm:cxn modelId="{68F0D3A7-B788-4B0A-9207-F43C77B20527}" srcId="{58C5820D-E6FE-41A1-AC8B-C5B43CAFCE13}" destId="{4FC4996B-FB20-4DDC-AAF1-9A15D1A31C92}" srcOrd="1" destOrd="0" parTransId="{3DB7879E-F011-45F8-80EA-68E8D0DAF11E}" sibTransId="{58E50A02-B464-41BB-B874-2CF22E1C9993}"/>
    <dgm:cxn modelId="{0EA20921-6FFA-4763-8190-0266C33375C3}" srcId="{8660D4C5-1D88-4568-AF19-7C89B65B7D09}" destId="{42AF032D-C548-4F86-82DD-6F181FFBAB26}" srcOrd="1" destOrd="0" parTransId="{ACD3671D-D584-4A5F-937D-D2550ECC66B8}" sibTransId="{56220D43-36AF-440D-984C-0C2CBDCE5ECC}"/>
    <dgm:cxn modelId="{5E4B2C7B-7C9F-48AE-AE8F-43FBF7FB2244}" srcId="{58C5820D-E6FE-41A1-AC8B-C5B43CAFCE13}" destId="{8660D4C5-1D88-4568-AF19-7C89B65B7D09}" srcOrd="3" destOrd="0" parTransId="{08374A9C-5F8A-4D04-9FE6-39AE1F5F5411}" sibTransId="{4D637061-CD4E-4097-903C-DA118367D3AA}"/>
    <dgm:cxn modelId="{B662C5B6-B676-4E12-81EF-AFEDB2977650}" srcId="{58C5820D-E6FE-41A1-AC8B-C5B43CAFCE13}" destId="{18387DB3-3982-4A2D-99FD-B0A6E941B2A6}" srcOrd="2" destOrd="0" parTransId="{EA555052-B324-4F9B-9187-558267EE22C5}" sibTransId="{82A90F7F-29DB-4A93-84DE-B2DD201352D7}"/>
    <dgm:cxn modelId="{33329980-60AD-4908-826F-66EEF5DC862C}" srcId="{4FC4996B-FB20-4DDC-AAF1-9A15D1A31C92}" destId="{486315A9-58FD-429B-B38D-4D6CA0002159}" srcOrd="0" destOrd="0" parTransId="{B82BD7A3-8E1F-4723-A615-71DF569E1B04}" sibTransId="{2D2DA508-0343-4BFC-BD02-E473EEC02096}"/>
    <dgm:cxn modelId="{A18202DC-306A-443E-A3EF-FD2F074E6562}" type="presOf" srcId="{42AF032D-C548-4F86-82DD-6F181FFBAB26}" destId="{A630A7B5-CD81-4E98-BD97-99F6140E98E6}" srcOrd="0" destOrd="1" presId="urn:microsoft.com/office/officeart/2005/8/layout/cycle4"/>
    <dgm:cxn modelId="{2B662179-70E7-4525-A36B-D7E5F8E45774}" type="presOf" srcId="{4FC4996B-FB20-4DDC-AAF1-9A15D1A31C92}" destId="{632C3223-BCE5-4343-B6C2-71031F232897}" srcOrd="0" destOrd="0" presId="urn:microsoft.com/office/officeart/2005/8/layout/cycle4"/>
    <dgm:cxn modelId="{E6469655-95A1-40E3-877B-BEB78784F4EF}" type="presOf" srcId="{58C5820D-E6FE-41A1-AC8B-C5B43CAFCE13}" destId="{A260875E-F867-4806-8F0B-645664DE4634}" srcOrd="0" destOrd="0" presId="urn:microsoft.com/office/officeart/2005/8/layout/cycle4"/>
    <dgm:cxn modelId="{B3C770B4-5DE2-4949-AB2C-2E45E3C0A5F5}" type="presOf" srcId="{8660D4C5-1D88-4568-AF19-7C89B65B7D09}" destId="{3B3CA876-E757-431F-A18B-B338E646D724}" srcOrd="0" destOrd="0" presId="urn:microsoft.com/office/officeart/2005/8/layout/cycle4"/>
    <dgm:cxn modelId="{6DA17F09-9CC8-443F-BCFF-F77E418B1CED}" type="presOf" srcId="{FF8FF449-FCD0-46B0-9F12-EC9AC38BA63A}" destId="{4F5159F6-604E-456A-9C94-F7CFE14382B9}" srcOrd="1" destOrd="2" presId="urn:microsoft.com/office/officeart/2005/8/layout/cycle4"/>
    <dgm:cxn modelId="{8DCC1E96-28EE-45C0-9CDB-88E38D781A86}" type="presOf" srcId="{A97F2719-5B18-4A87-8340-249F3CA51D25}" destId="{4F5159F6-604E-456A-9C94-F7CFE14382B9}" srcOrd="1" destOrd="0" presId="urn:microsoft.com/office/officeart/2005/8/layout/cycle4"/>
    <dgm:cxn modelId="{3FE144D2-515C-4055-BBB7-203770A74165}" type="presOf" srcId="{72DDD473-5D81-45E2-A898-058313238DDB}" destId="{4F5159F6-604E-456A-9C94-F7CFE14382B9}" srcOrd="1" destOrd="1" presId="urn:microsoft.com/office/officeart/2005/8/layout/cycle4"/>
    <dgm:cxn modelId="{743EB788-3169-47DA-BD3F-461F154BA482}" type="presOf" srcId="{72DDD473-5D81-45E2-A898-058313238DDB}" destId="{E34B4439-AA75-469B-99A1-33445D66C7A4}" srcOrd="0" destOrd="1" presId="urn:microsoft.com/office/officeart/2005/8/layout/cycle4"/>
    <dgm:cxn modelId="{1378D9F3-5FF1-490F-8105-16DCA2A11742}" type="presOf" srcId="{A97F2719-5B18-4A87-8340-249F3CA51D25}" destId="{E34B4439-AA75-469B-99A1-33445D66C7A4}" srcOrd="0" destOrd="0" presId="urn:microsoft.com/office/officeart/2005/8/layout/cycle4"/>
    <dgm:cxn modelId="{C03E0FF9-B55F-464B-BD5E-52DAEBA75F85}" type="presOf" srcId="{270BEF38-190E-4B2B-B971-B9D2DAEBE582}" destId="{999DB6C6-7DBE-4460-A445-08B2D1AAD442}" srcOrd="0" destOrd="0" presId="urn:microsoft.com/office/officeart/2005/8/layout/cycle4"/>
    <dgm:cxn modelId="{2DDBCA62-29DB-4362-9B03-3ED2D9BA523D}" type="presOf" srcId="{D4A1668D-3A59-4820-9FD5-2FF2AA35CBDB}" destId="{A630A7B5-CD81-4E98-BD97-99F6140E98E6}" srcOrd="0" destOrd="0" presId="urn:microsoft.com/office/officeart/2005/8/layout/cycle4"/>
    <dgm:cxn modelId="{B219E482-7258-4887-8916-A8539288BED8}" type="presOf" srcId="{18387DB3-3982-4A2D-99FD-B0A6E941B2A6}" destId="{8BDE64E4-25FD-4415-BE45-773BF05EA322}" srcOrd="0" destOrd="0" presId="urn:microsoft.com/office/officeart/2005/8/layout/cycle4"/>
    <dgm:cxn modelId="{DCB6BBA6-66A3-43AF-A79E-506CECE3E912}" type="presOf" srcId="{35E4C41C-29A0-45D1-A5C2-3E5354710F65}" destId="{C15079F5-8F69-4D79-9B1B-FE96B675C81D}" srcOrd="0" destOrd="0" presId="urn:microsoft.com/office/officeart/2005/8/layout/cycle4"/>
    <dgm:cxn modelId="{6EC5CF23-361D-4A50-B75B-AFF69AFC5454}" type="presOf" srcId="{D4A1668D-3A59-4820-9FD5-2FF2AA35CBDB}" destId="{E79794B1-751F-4AEE-B65C-A4BEE044AA9C}" srcOrd="1" destOrd="0" presId="urn:microsoft.com/office/officeart/2005/8/layout/cycle4"/>
    <dgm:cxn modelId="{91A72183-3EE2-4781-8F2E-F96F0EB08F29}" type="presOf" srcId="{702AC069-82EB-41F1-B228-EBD6EA9F927A}" destId="{E34B4439-AA75-469B-99A1-33445D66C7A4}" srcOrd="0" destOrd="3" presId="urn:microsoft.com/office/officeart/2005/8/layout/cycle4"/>
    <dgm:cxn modelId="{9442C986-0F45-4FF9-AA52-A477F6C32732}" srcId="{18387DB3-3982-4A2D-99FD-B0A6E941B2A6}" destId="{FF8FF449-FCD0-46B0-9F12-EC9AC38BA63A}" srcOrd="2" destOrd="0" parTransId="{03D9A7FF-69A7-4296-B9AE-A7FFE8A71156}" sibTransId="{A5F70DBC-607D-4437-A36C-951F22512615}"/>
    <dgm:cxn modelId="{AFEDCE51-C735-4CCB-B28E-806405948474}" type="presOf" srcId="{42AF032D-C548-4F86-82DD-6F181FFBAB26}" destId="{E79794B1-751F-4AEE-B65C-A4BEE044AA9C}" srcOrd="1" destOrd="1" presId="urn:microsoft.com/office/officeart/2005/8/layout/cycle4"/>
    <dgm:cxn modelId="{12726BB2-E63A-42E4-9E76-9D143D03E2A1}" type="presOf" srcId="{486315A9-58FD-429B-B38D-4D6CA0002159}" destId="{914BF8E5-A201-4D7E-9079-78B08965E143}" srcOrd="0" destOrd="0" presId="urn:microsoft.com/office/officeart/2005/8/layout/cycle4"/>
    <dgm:cxn modelId="{7C404B74-A757-4ADF-B742-62F56CD6B676}" srcId="{8660D4C5-1D88-4568-AF19-7C89B65B7D09}" destId="{D4A1668D-3A59-4820-9FD5-2FF2AA35CBDB}" srcOrd="0" destOrd="0" parTransId="{E34FDC82-AD99-435E-8EE9-23CB979E36EE}" sibTransId="{D16F1FD3-E2E8-4756-8FF9-47CFD3126F36}"/>
    <dgm:cxn modelId="{15780283-4F32-42EE-B4F4-5ED943C88FEC}" srcId="{270BEF38-190E-4B2B-B971-B9D2DAEBE582}" destId="{35E4C41C-29A0-45D1-A5C2-3E5354710F65}" srcOrd="0" destOrd="0" parTransId="{E0687495-4D11-4D75-8F40-325420B7FB4F}" sibTransId="{994D093A-CE30-4550-9256-48DCC9557AEA}"/>
    <dgm:cxn modelId="{BE447521-73D5-409B-99D6-697B69BA9C7F}" type="presOf" srcId="{FF8FF449-FCD0-46B0-9F12-EC9AC38BA63A}" destId="{E34B4439-AA75-469B-99A1-33445D66C7A4}" srcOrd="0" destOrd="2" presId="urn:microsoft.com/office/officeart/2005/8/layout/cycle4"/>
    <dgm:cxn modelId="{23AF7DB2-C48E-49B4-9752-5F48D0BEB644}" type="presParOf" srcId="{A260875E-F867-4806-8F0B-645664DE4634}" destId="{A0325592-5671-4CB7-913B-FA5A8559EBF1}" srcOrd="0" destOrd="0" presId="urn:microsoft.com/office/officeart/2005/8/layout/cycle4"/>
    <dgm:cxn modelId="{9550EB5D-97F3-4634-937B-EBEE33BF65AA}" type="presParOf" srcId="{A0325592-5671-4CB7-913B-FA5A8559EBF1}" destId="{F511F580-EFAF-4036-88E7-A8ABF493D307}" srcOrd="0" destOrd="0" presId="urn:microsoft.com/office/officeart/2005/8/layout/cycle4"/>
    <dgm:cxn modelId="{A8903FAF-454C-4A29-9A05-E5D000EA3132}" type="presParOf" srcId="{F511F580-EFAF-4036-88E7-A8ABF493D307}" destId="{C15079F5-8F69-4D79-9B1B-FE96B675C81D}" srcOrd="0" destOrd="0" presId="urn:microsoft.com/office/officeart/2005/8/layout/cycle4"/>
    <dgm:cxn modelId="{9526ED51-4942-4882-BF72-6AFBB490A6E6}" type="presParOf" srcId="{F511F580-EFAF-4036-88E7-A8ABF493D307}" destId="{092E35E1-5301-4A16-AA5B-EE46B0EF4351}" srcOrd="1" destOrd="0" presId="urn:microsoft.com/office/officeart/2005/8/layout/cycle4"/>
    <dgm:cxn modelId="{8308B989-107A-428F-A252-F118F814CAA1}" type="presParOf" srcId="{A0325592-5671-4CB7-913B-FA5A8559EBF1}" destId="{6540C927-ECD2-4FC7-A6D3-437D3FD82593}" srcOrd="1" destOrd="0" presId="urn:microsoft.com/office/officeart/2005/8/layout/cycle4"/>
    <dgm:cxn modelId="{98A81DBF-9203-45E1-AC2B-7FC1E96F7350}" type="presParOf" srcId="{6540C927-ECD2-4FC7-A6D3-437D3FD82593}" destId="{914BF8E5-A201-4D7E-9079-78B08965E143}" srcOrd="0" destOrd="0" presId="urn:microsoft.com/office/officeart/2005/8/layout/cycle4"/>
    <dgm:cxn modelId="{430DF04C-9C01-4C3F-BB29-9559848ED927}" type="presParOf" srcId="{6540C927-ECD2-4FC7-A6D3-437D3FD82593}" destId="{D23FFD88-CA1D-4A42-86CC-BBF6C21C0F63}" srcOrd="1" destOrd="0" presId="urn:microsoft.com/office/officeart/2005/8/layout/cycle4"/>
    <dgm:cxn modelId="{491D202F-6558-404A-8DCC-E97D9C062FF2}" type="presParOf" srcId="{A0325592-5671-4CB7-913B-FA5A8559EBF1}" destId="{8AD8C7B0-63EE-4A60-8CB2-492C792E72A2}" srcOrd="2" destOrd="0" presId="urn:microsoft.com/office/officeart/2005/8/layout/cycle4"/>
    <dgm:cxn modelId="{9663462C-53A1-4DC1-81A0-9C5084F92A69}" type="presParOf" srcId="{8AD8C7B0-63EE-4A60-8CB2-492C792E72A2}" destId="{E34B4439-AA75-469B-99A1-33445D66C7A4}" srcOrd="0" destOrd="0" presId="urn:microsoft.com/office/officeart/2005/8/layout/cycle4"/>
    <dgm:cxn modelId="{6DEC5BCB-1874-4A90-9EA2-95400B668CE9}" type="presParOf" srcId="{8AD8C7B0-63EE-4A60-8CB2-492C792E72A2}" destId="{4F5159F6-604E-456A-9C94-F7CFE14382B9}" srcOrd="1" destOrd="0" presId="urn:microsoft.com/office/officeart/2005/8/layout/cycle4"/>
    <dgm:cxn modelId="{DE679428-1D9E-4801-8517-1F4F046D9F92}" type="presParOf" srcId="{A0325592-5671-4CB7-913B-FA5A8559EBF1}" destId="{EBBFC924-9B26-4E34-9D11-12135FCFED23}" srcOrd="3" destOrd="0" presId="urn:microsoft.com/office/officeart/2005/8/layout/cycle4"/>
    <dgm:cxn modelId="{F6014C06-B58C-4E16-B42E-942922C6CEAC}" type="presParOf" srcId="{EBBFC924-9B26-4E34-9D11-12135FCFED23}" destId="{A630A7B5-CD81-4E98-BD97-99F6140E98E6}" srcOrd="0" destOrd="0" presId="urn:microsoft.com/office/officeart/2005/8/layout/cycle4"/>
    <dgm:cxn modelId="{8C7FD160-93F6-45E3-A703-0AC1E89846CC}" type="presParOf" srcId="{EBBFC924-9B26-4E34-9D11-12135FCFED23}" destId="{E79794B1-751F-4AEE-B65C-A4BEE044AA9C}" srcOrd="1" destOrd="0" presId="urn:microsoft.com/office/officeart/2005/8/layout/cycle4"/>
    <dgm:cxn modelId="{40F3B645-6009-4420-A933-5DD472F7DA01}" type="presParOf" srcId="{A0325592-5671-4CB7-913B-FA5A8559EBF1}" destId="{37526592-703D-4DE0-AF42-F4F326D78E79}" srcOrd="4" destOrd="0" presId="urn:microsoft.com/office/officeart/2005/8/layout/cycle4"/>
    <dgm:cxn modelId="{B23AB539-A185-4583-A85A-B87609509296}" type="presParOf" srcId="{A260875E-F867-4806-8F0B-645664DE4634}" destId="{B3A21662-822A-4C57-B26C-F94966359C33}" srcOrd="1" destOrd="0" presId="urn:microsoft.com/office/officeart/2005/8/layout/cycle4"/>
    <dgm:cxn modelId="{D9B62B34-994B-4F66-A6D1-A9EEA70F3211}" type="presParOf" srcId="{B3A21662-822A-4C57-B26C-F94966359C33}" destId="{999DB6C6-7DBE-4460-A445-08B2D1AAD442}" srcOrd="0" destOrd="0" presId="urn:microsoft.com/office/officeart/2005/8/layout/cycle4"/>
    <dgm:cxn modelId="{D4105FC3-CE28-4D7F-A8EF-1CF8AF72542A}" type="presParOf" srcId="{B3A21662-822A-4C57-B26C-F94966359C33}" destId="{632C3223-BCE5-4343-B6C2-71031F232897}" srcOrd="1" destOrd="0" presId="urn:microsoft.com/office/officeart/2005/8/layout/cycle4"/>
    <dgm:cxn modelId="{4ADA1C11-FE9D-43AC-88BD-2A3535B28C37}" type="presParOf" srcId="{B3A21662-822A-4C57-B26C-F94966359C33}" destId="{8BDE64E4-25FD-4415-BE45-773BF05EA322}" srcOrd="2" destOrd="0" presId="urn:microsoft.com/office/officeart/2005/8/layout/cycle4"/>
    <dgm:cxn modelId="{FFC51776-77BF-48E9-ABF3-94843AF4A56E}" type="presParOf" srcId="{B3A21662-822A-4C57-B26C-F94966359C33}" destId="{3B3CA876-E757-431F-A18B-B338E646D724}" srcOrd="3" destOrd="0" presId="urn:microsoft.com/office/officeart/2005/8/layout/cycle4"/>
    <dgm:cxn modelId="{E6DA81FD-72AC-47DF-9A62-1CD739B5F343}" type="presParOf" srcId="{B3A21662-822A-4C57-B26C-F94966359C33}" destId="{B008C95C-13A4-473D-9F2F-BF406C46DFEF}" srcOrd="4" destOrd="0" presId="urn:microsoft.com/office/officeart/2005/8/layout/cycle4"/>
    <dgm:cxn modelId="{4A926AB7-28DC-431C-AF15-7DA1ED4EC473}" type="presParOf" srcId="{A260875E-F867-4806-8F0B-645664DE4634}" destId="{6478D1C5-8D61-45A7-A40D-117102EA3070}" srcOrd="2" destOrd="0" presId="urn:microsoft.com/office/officeart/2005/8/layout/cycle4"/>
    <dgm:cxn modelId="{75E4F440-96BA-4600-AD3F-649A1D786ADF}" type="presParOf" srcId="{A260875E-F867-4806-8F0B-645664DE4634}" destId="{E0FF316E-8267-4896-BDC6-44D8A29DB017}" srcOrd="3" destOrd="0" presId="urn:microsoft.com/office/officeart/2005/8/layout/cycle4"/>
  </dgm:cxnLst>
  <dgm:bg/>
  <dgm:whole/>
  <dgm:extLst>
    <a:ext uri="http://schemas.microsoft.com/office/drawing/2008/diagram">
      <dsp:dataModelExt xmlns:dsp="http://schemas.microsoft.com/office/drawing/2008/diagram" xmlns="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a="http://schemas.openxmlformats.org/drawingml/2006/main" xmlns:dsp="http://schemas.microsoft.com/office/drawing/2008/diagram">
  <dsp:spTree>
    <dsp:nvGrpSpPr>
      <dsp:cNvPr id="0" name=""/>
      <dsp:cNvGrpSpPr/>
    </dsp:nvGrpSpPr>
    <dsp:grpSpPr/>
    <dsp:sp modelId="{E34B4439-AA75-469B-99A1-33445D66C7A4}">
      <dsp:nvSpPr>
        <dsp:cNvPr id="0" name=""/>
        <dsp:cNvSpPr/>
      </dsp:nvSpPr>
      <dsp:spPr>
        <a:xfrm>
          <a:off x="2868104" y="3002719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Salarie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Facilitie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Grant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Contracts</a:t>
          </a:r>
          <a:endParaRPr lang="en-US" sz="1100" kern="1200" dirty="0"/>
        </a:p>
      </dsp:txBody>
      <dsp:txXfrm>
        <a:off x="3395465" y="3287394"/>
        <a:ext cx="1230509" cy="854026"/>
      </dsp:txXfrm>
    </dsp:sp>
    <dsp:sp modelId="{A630A7B5-CD81-4E98-BD97-99F6140E98E6}">
      <dsp:nvSpPr>
        <dsp:cNvPr id="0" name=""/>
        <dsp:cNvSpPr/>
      </dsp:nvSpPr>
      <dsp:spPr>
        <a:xfrm>
          <a:off x="0" y="3002719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Programs</a:t>
          </a:r>
          <a:endParaRPr lang="en-US" sz="1100" kern="1200" dirty="0"/>
        </a:p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Activities</a:t>
          </a:r>
          <a:endParaRPr lang="en-US" sz="1100" kern="1200" dirty="0"/>
        </a:p>
      </dsp:txBody>
      <dsp:txXfrm>
        <a:off x="0" y="3287394"/>
        <a:ext cx="1230509" cy="854026"/>
      </dsp:txXfrm>
    </dsp:sp>
    <dsp:sp modelId="{914BF8E5-A201-4D7E-9079-78B08965E143}">
      <dsp:nvSpPr>
        <dsp:cNvPr id="0" name=""/>
        <dsp:cNvSpPr/>
      </dsp:nvSpPr>
      <dsp:spPr>
        <a:xfrm>
          <a:off x="2868104" y="582978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smtClean="0"/>
            <a:t>Responsibility Segments</a:t>
          </a:r>
          <a:endParaRPr lang="en-US" sz="1100" kern="1200" dirty="0"/>
        </a:p>
      </dsp:txBody>
      <dsp:txXfrm>
        <a:off x="3395465" y="582978"/>
        <a:ext cx="1230509" cy="854026"/>
      </dsp:txXfrm>
    </dsp:sp>
    <dsp:sp modelId="{C15079F5-8F69-4D79-9B1B-FE96B675C81D}">
      <dsp:nvSpPr>
        <dsp:cNvPr id="0" name=""/>
        <dsp:cNvSpPr/>
      </dsp:nvSpPr>
      <dsp:spPr>
        <a:xfrm>
          <a:off x="0" y="582978"/>
          <a:ext cx="1757870" cy="1138701"/>
        </a:xfrm>
        <a:prstGeom prst="roundRect">
          <a:avLst>
            <a:gd name="adj" fmla="val 10000"/>
          </a:avLst>
        </a:prstGeom>
        <a:solidFill>
          <a:schemeClr val="lt1">
            <a:alpha val="9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53340" tIns="53340" rIns="53340" bIns="53340" numCol="1" spcCol="1270" anchor="t" anchorCtr="0">
          <a:noAutofit/>
        </a:bodyPr>
        <a:lstStyle/>
        <a:p>
          <a:pPr marL="57150" lvl="1" indent="-57150" algn="l" defTabSz="4889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en-US" sz="1100" kern="1200" dirty="0" err="1" smtClean="0"/>
            <a:t>Subfunctions</a:t>
          </a:r>
          <a:endParaRPr lang="en-US" sz="1100" kern="1200" dirty="0"/>
        </a:p>
      </dsp:txBody>
      <dsp:txXfrm>
        <a:off x="0" y="582978"/>
        <a:ext cx="1230509" cy="854026"/>
      </dsp:txXfrm>
    </dsp:sp>
    <dsp:sp modelId="{999DB6C6-7DBE-4460-A445-08B2D1AAD442}">
      <dsp:nvSpPr>
        <dsp:cNvPr id="0" name=""/>
        <dsp:cNvSpPr/>
      </dsp:nvSpPr>
      <dsp:spPr>
        <a:xfrm>
          <a:off x="736597" y="785810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Functions</a:t>
          </a:r>
          <a:endParaRPr lang="en-US" sz="1000" kern="1200" dirty="0"/>
        </a:p>
      </dsp:txBody>
      <dsp:txXfrm>
        <a:off x="736597" y="785810"/>
        <a:ext cx="1540805" cy="1540805"/>
      </dsp:txXfrm>
    </dsp:sp>
    <dsp:sp modelId="{632C3223-BCE5-4343-B6C2-71031F232897}">
      <dsp:nvSpPr>
        <dsp:cNvPr id="0" name=""/>
        <dsp:cNvSpPr/>
      </dsp:nvSpPr>
      <dsp:spPr>
        <a:xfrm rot="5400000">
          <a:off x="2348571" y="785810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Organizations</a:t>
          </a:r>
          <a:endParaRPr lang="en-US" sz="1000" kern="1200" dirty="0"/>
        </a:p>
      </dsp:txBody>
      <dsp:txXfrm rot="5400000">
        <a:off x="2348571" y="785810"/>
        <a:ext cx="1540805" cy="1540805"/>
      </dsp:txXfrm>
    </dsp:sp>
    <dsp:sp modelId="{8BDE64E4-25FD-4415-BE45-773BF05EA322}">
      <dsp:nvSpPr>
        <dsp:cNvPr id="0" name=""/>
        <dsp:cNvSpPr/>
      </dsp:nvSpPr>
      <dsp:spPr>
        <a:xfrm rot="10800000">
          <a:off x="2348571" y="2397784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Natural Classification</a:t>
          </a:r>
          <a:endParaRPr lang="en-US" sz="1000" kern="1200" dirty="0"/>
        </a:p>
      </dsp:txBody>
      <dsp:txXfrm rot="10800000">
        <a:off x="2348571" y="2397784"/>
        <a:ext cx="1540805" cy="1540805"/>
      </dsp:txXfrm>
    </dsp:sp>
    <dsp:sp modelId="{3B3CA876-E757-431F-A18B-B338E646D724}">
      <dsp:nvSpPr>
        <dsp:cNvPr id="0" name=""/>
        <dsp:cNvSpPr/>
      </dsp:nvSpPr>
      <dsp:spPr>
        <a:xfrm rot="16200000">
          <a:off x="736597" y="2397784"/>
          <a:ext cx="1540805" cy="1540805"/>
        </a:xfrm>
        <a:prstGeom prst="pieWedge">
          <a:avLst/>
        </a:prstGeom>
        <a:solidFill>
          <a:schemeClr val="accent1"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71120" tIns="71120" rIns="71120" bIns="71120" numCol="1" spcCol="1270" anchor="ctr" anchorCtr="0">
          <a:noAutofit/>
        </a:bodyPr>
        <a:lstStyle/>
        <a:p>
          <a:pPr lvl="0" algn="ctr" defTabSz="4445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sz="1000" kern="1200" dirty="0" smtClean="0"/>
            <a:t>Strategic Goals</a:t>
          </a:r>
          <a:endParaRPr lang="en-US" sz="1000" kern="1200" dirty="0"/>
        </a:p>
      </dsp:txBody>
      <dsp:txXfrm rot="16200000">
        <a:off x="736597" y="2397784"/>
        <a:ext cx="1540805" cy="1540805"/>
      </dsp:txXfrm>
    </dsp:sp>
    <dsp:sp modelId="{6478D1C5-8D61-45A7-A40D-117102EA3070}">
      <dsp:nvSpPr>
        <dsp:cNvPr id="0" name=""/>
        <dsp:cNvSpPr/>
      </dsp:nvSpPr>
      <dsp:spPr>
        <a:xfrm>
          <a:off x="2046993" y="2041940"/>
          <a:ext cx="531987" cy="462597"/>
        </a:xfrm>
        <a:prstGeom prst="circularArrow">
          <a:avLst/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  <dsp:sp modelId="{E0FF316E-8267-4896-BDC6-44D8A29DB017}">
      <dsp:nvSpPr>
        <dsp:cNvPr id="0" name=""/>
        <dsp:cNvSpPr/>
      </dsp:nvSpPr>
      <dsp:spPr>
        <a:xfrm rot="10800000">
          <a:off x="2046993" y="2219862"/>
          <a:ext cx="531987" cy="462597"/>
        </a:xfrm>
        <a:prstGeom prst="circularArrow">
          <a:avLst/>
        </a:prstGeom>
        <a:solidFill>
          <a:schemeClr val="accent1">
            <a:tint val="60000"/>
            <a:hueOff val="0"/>
            <a:satOff val="0"/>
            <a:lumOff val="0"/>
            <a:alphaOff val="0"/>
          </a:schemeClr>
        </a:solidFill>
        <a:ln w="425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cycle4">
  <dgm:title val=""/>
  <dgm:desc val=""/>
  <dgm:catLst>
    <dgm:cat type="relationship" pri="26000"/>
    <dgm:cat type="cycle" pri="13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2">
          <dgm:prSet phldr="1"/>
        </dgm:pt>
        <dgm:pt modelId="21">
          <dgm:prSet phldr="1"/>
        </dgm:pt>
        <dgm:pt modelId="3">
          <dgm:prSet phldr="1"/>
        </dgm:pt>
        <dgm:pt modelId="31">
          <dgm:prSet phldr="1"/>
        </dgm:pt>
        <dgm:pt modelId="4">
          <dgm:prSet phldr="1"/>
        </dgm:pt>
        <dgm:pt modelId="41">
          <dgm:prSet phldr="1"/>
        </dgm:pt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cycleMatrixDiagram">
    <dgm:varLst>
      <dgm:chMax val="1"/>
      <dgm:dir/>
      <dgm:animLvl val="lvl"/>
      <dgm:resizeHandles val="exact"/>
    </dgm:varLst>
    <dgm:alg type="composite">
      <dgm:param type="ar" val="1.3"/>
    </dgm:alg>
    <dgm:shape xmlns:r="http://schemas.openxmlformats.org/officeDocument/2006/relationships" r:blip="">
      <dgm:adjLst/>
    </dgm:shape>
    <dgm:presOf/>
    <dgm:constrLst>
      <dgm:constr type="w" for="ch" forName="children" refType="w"/>
      <dgm:constr type="h" for="ch" forName="children" refType="w" refFor="ch" refForName="children" fact="0.77"/>
      <dgm:constr type="ctrX" for="ch" forName="children" refType="w" fact="0.5"/>
      <dgm:constr type="ctrY" for="ch" forName="children" refType="h" fact="0.5"/>
      <dgm:constr type="w" for="ch" forName="circle" refType="w"/>
      <dgm:constr type="h" for="ch" forName="circle" refType="h"/>
      <dgm:constr type="ctrX" for="ch" forName="circle" refType="w" fact="0.5"/>
      <dgm:constr type="ctrY" for="ch" forName="circle" refType="h" fact="0.5"/>
      <dgm:constr type="w" for="ch" forName="center1" refType="w" fact="0.115"/>
      <dgm:constr type="h" for="ch" forName="center1" refType="w" fact="0.1"/>
      <dgm:constr type="ctrX" for="ch" forName="center1" refType="w" fact="0.5"/>
      <dgm:constr type="ctrY" for="ch" forName="center1" refType="h" fact="0.475"/>
      <dgm:constr type="w" for="ch" forName="center2" refType="w" fact="0.115"/>
      <dgm:constr type="h" for="ch" forName="center2" refType="w" fact="0.1"/>
      <dgm:constr type="ctrX" for="ch" forName="center2" refType="w" fact="0.5"/>
      <dgm:constr type="ctrY" for="ch" forName="center2" refType="h" fact="0.525"/>
    </dgm:constrLst>
    <dgm:ruleLst/>
    <dgm:choose name="Name0">
      <dgm:if name="Name1" axis="ch" ptType="node" func="cnt" op="gte" val="1">
        <dgm:layoutNode name="children">
          <dgm:alg type="composite">
            <dgm:param type="ar" val="1.3"/>
          </dgm:alg>
          <dgm:shape xmlns:r="http://schemas.openxmlformats.org/officeDocument/2006/relationships" r:blip="">
            <dgm:adjLst/>
          </dgm:shape>
          <dgm:presOf/>
          <dgm:choose name="Name2">
            <dgm:if name="Name3" func="var" arg="dir" op="equ" val="norm">
              <dgm:constrLst>
                <dgm:constr type="primFontSz" for="des" ptType="node" op="equ" val="65"/>
                <dgm:constr type="w" for="ch" forName="child1group" refType="w" fact="0.38"/>
                <dgm:constr type="h" for="ch" forName="child1group" refType="h" fact="0.32"/>
                <dgm:constr type="t" for="ch" forName="child1group"/>
                <dgm:constr type="l" for="ch" forName="child1group"/>
                <dgm:constr type="w" for="ch" forName="child2group" refType="w" fact="0.38"/>
                <dgm:constr type="h" for="ch" forName="child2group" refType="h" fact="0.32"/>
                <dgm:constr type="t" for="ch" forName="child2group"/>
                <dgm:constr type="r" for="ch" forName="child2group" refType="w"/>
                <dgm:constr type="w" for="ch" forName="child3group" refType="w" fact="0.38"/>
                <dgm:constr type="h" for="ch" forName="child3group" refType="h" fact="0.32"/>
                <dgm:constr type="b" for="ch" forName="child3group" refType="h"/>
                <dgm:constr type="r" for="ch" forName="child3group" refType="w"/>
                <dgm:constr type="w" for="ch" forName="child4group" refType="w" fact="0.38"/>
                <dgm:constr type="h" for="ch" forName="child4group" refType="h" fact="0.32"/>
                <dgm:constr type="b" for="ch" forName="child4group" refType="h"/>
                <dgm:constr type="l" for="ch" forName="child4group"/>
              </dgm:constrLst>
            </dgm:if>
            <dgm:else name="Name4">
              <dgm:constrLst>
                <dgm:constr type="primFontSz" for="des" ptType="node" op="equ" val="65"/>
                <dgm:constr type="w" for="ch" forName="child1group" refType="w" fact="0.38"/>
                <dgm:constr type="h" for="ch" forName="child1group" refType="h" fact="0.32"/>
                <dgm:constr type="t" for="ch" forName="child1group"/>
                <dgm:constr type="r" for="ch" forName="child1group" refType="w"/>
                <dgm:constr type="w" for="ch" forName="child2group" refType="w" fact="0.38"/>
                <dgm:constr type="h" for="ch" forName="child2group" refType="h" fact="0.32"/>
                <dgm:constr type="t" for="ch" forName="child2group"/>
                <dgm:constr type="l" for="ch" forName="child2group"/>
                <dgm:constr type="w" for="ch" forName="child3group" refType="w" fact="0.38"/>
                <dgm:constr type="h" for="ch" forName="child3group" refType="h" fact="0.32"/>
                <dgm:constr type="b" for="ch" forName="child3group" refType="h"/>
                <dgm:constr type="l" for="ch" forName="child3group"/>
                <dgm:constr type="w" for="ch" forName="child4group" refType="w" fact="0.38"/>
                <dgm:constr type="h" for="ch" forName="child4group" refType="h" fact="0.32"/>
                <dgm:constr type="b" for="ch" forName="child4group" refType="h"/>
                <dgm:constr type="r" for="ch" forName="child4group" refType="w"/>
              </dgm:constrLst>
            </dgm:else>
          </dgm:choose>
          <dgm:ruleLst/>
          <dgm:choose name="Name5">
            <dgm:if name="Name6" axis="ch ch" ptType="node node" st="1 1" cnt="1 0" func="cnt" op="gte" val="1">
              <dgm:layoutNode name="child1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presOf/>
                <dgm:choose name="Name7">
                  <dgm:if name="Name8" func="var" arg="dir" op="equ" val="norm">
                    <dgm:constrLst>
                      <dgm:constr type="w" for="ch" forName="child1" refType="w"/>
                      <dgm:constr type="h" for="ch" forName="child1" refType="h"/>
                      <dgm:constr type="t" for="ch" forName="child1"/>
                      <dgm:constr type="l" for="ch" forName="child1"/>
                      <dgm:constr type="w" for="ch" forName="child1Text" refType="w" fact="0.7"/>
                      <dgm:constr type="h" for="ch" forName="child1Text" refType="h" fact="0.75"/>
                      <dgm:constr type="t" for="ch" forName="child1Text"/>
                      <dgm:constr type="l" for="ch" forName="child1Text"/>
                    </dgm:constrLst>
                  </dgm:if>
                  <dgm:else name="Name9">
                    <dgm:constrLst>
                      <dgm:constr type="w" for="ch" forName="child1" refType="w"/>
                      <dgm:constr type="h" for="ch" forName="child1" refType="h"/>
                      <dgm:constr type="t" for="ch" forName="child1"/>
                      <dgm:constr type="r" for="ch" forName="child1" refType="w"/>
                      <dgm:constr type="w" for="ch" forName="child1Text" refType="w" fact="0.7"/>
                      <dgm:constr type="h" for="ch" forName="child1Text" refType="h" fact="0.75"/>
                      <dgm:constr type="t" for="ch" forName="child1Text"/>
                      <dgm:constr type="r" for="ch" forName="child1Text" refType="w"/>
                    </dgm:constrLst>
                  </dgm:else>
                </dgm:choose>
                <dgm:ruleLst/>
                <dgm:layoutNode name="child1" styleLbl="bgAcc1">
                  <dgm:alg type="sp"/>
                  <dgm:shape xmlns:r="http://schemas.openxmlformats.org/officeDocument/2006/relationships" type="roundRect" r:blip="" zOrderOff="-2">
                    <dgm:adjLst>
                      <dgm:adj idx="1" val="0.1"/>
                    </dgm:adjLst>
                  </dgm:shape>
                  <dgm:presOf axis="ch des" ptType="node node" st="1 1" cnt="1 0"/>
                  <dgm:constrLst/>
                  <dgm:ruleLst/>
                </dgm:layoutNode>
                <dgm:layoutNode name="child1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2" hideGeom="1">
                    <dgm:adjLst>
                      <dgm:adj idx="1" val="0.1"/>
                    </dgm:adjLst>
                  </dgm:shape>
                  <dgm:presOf axis="ch des" ptType="node node" st="1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10"/>
          </dgm:choose>
          <dgm:choose name="Name11">
            <dgm:if name="Name12" axis="ch ch" ptType="node node" st="2 1" cnt="1 0" func="cnt" op="gte" val="1">
              <dgm:layoutNode name="child2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choose name="Name13">
                  <dgm:if name="Name14" func="var" arg="dir" op="equ" val="norm">
                    <dgm:constrLst>
                      <dgm:constr type="w" for="ch" forName="child2" refType="w"/>
                      <dgm:constr type="h" for="ch" forName="child2" refType="h"/>
                      <dgm:constr type="t" for="ch" forName="child2"/>
                      <dgm:constr type="r" for="ch" forName="child2" refType="w"/>
                      <dgm:constr type="w" for="ch" forName="child2Text" refType="w" fact="0.7"/>
                      <dgm:constr type="h" for="ch" forName="child2Text" refType="h" fact="0.75"/>
                      <dgm:constr type="t" for="ch" forName="child2Text"/>
                      <dgm:constr type="r" for="ch" forName="child2Text" refType="w"/>
                    </dgm:constrLst>
                  </dgm:if>
                  <dgm:else name="Name15">
                    <dgm:constrLst>
                      <dgm:constr type="w" for="ch" forName="child2" refType="w"/>
                      <dgm:constr type="h" for="ch" forName="child2" refType="h"/>
                      <dgm:constr type="t" for="ch" forName="child2"/>
                      <dgm:constr type="l" for="ch" forName="child2"/>
                      <dgm:constr type="w" for="ch" forName="child2Text" refType="w" fact="0.7"/>
                      <dgm:constr type="h" for="ch" forName="child2Text" refType="h" fact="0.75"/>
                      <dgm:constr type="t" for="ch" forName="child2Text"/>
                      <dgm:constr type="l" for="ch" forName="child2Text"/>
                    </dgm:constrLst>
                  </dgm:else>
                </dgm:choose>
                <dgm:ruleLst/>
                <dgm:layoutNode name="child2" styleLbl="bgAcc1">
                  <dgm:alg type="sp"/>
                  <dgm:shape xmlns:r="http://schemas.openxmlformats.org/officeDocument/2006/relationships" type="roundRect" r:blip="" zOrderOff="-2">
                    <dgm:adjLst>
                      <dgm:adj idx="1" val="0.1"/>
                    </dgm:adjLst>
                  </dgm:shape>
                  <dgm:presOf axis="ch des" ptType="node node" st="2 1" cnt="1 0"/>
                  <dgm:constrLst/>
                  <dgm:ruleLst/>
                </dgm:layoutNode>
                <dgm:layoutNode name="child2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2" hideGeom="1">
                    <dgm:adjLst>
                      <dgm:adj idx="1" val="0.1"/>
                    </dgm:adjLst>
                  </dgm:shape>
                  <dgm:presOf axis="ch des" ptType="node node" st="2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16"/>
          </dgm:choose>
          <dgm:choose name="Name17">
            <dgm:if name="Name18" axis="ch ch" ptType="node node" st="3 1" cnt="1 0" func="cnt" op="gte" val="1">
              <dgm:layoutNode name="child3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presOf/>
                <dgm:choose name="Name19">
                  <dgm:if name="Name20" func="var" arg="dir" op="equ" val="norm">
                    <dgm:constrLst>
                      <dgm:constr type="w" for="ch" forName="child3" refType="w"/>
                      <dgm:constr type="h" for="ch" forName="child3" refType="h"/>
                      <dgm:constr type="b" for="ch" forName="child3" refType="h"/>
                      <dgm:constr type="r" for="ch" forName="child3" refType="w"/>
                      <dgm:constr type="w" for="ch" forName="child3Text" refType="w" fact="0.7"/>
                      <dgm:constr type="h" for="ch" forName="child3Text" refType="h" fact="0.75"/>
                      <dgm:constr type="b" for="ch" forName="child3Text" refType="h"/>
                      <dgm:constr type="r" for="ch" forName="child3Text" refType="w"/>
                    </dgm:constrLst>
                  </dgm:if>
                  <dgm:else name="Name21">
                    <dgm:constrLst>
                      <dgm:constr type="w" for="ch" forName="child3" refType="w"/>
                      <dgm:constr type="h" for="ch" forName="child3" refType="h"/>
                      <dgm:constr type="b" for="ch" forName="child3" refType="h"/>
                      <dgm:constr type="l" for="ch" forName="child3"/>
                      <dgm:constr type="w" for="ch" forName="child3Text" refType="w" fact="0.7"/>
                      <dgm:constr type="h" for="ch" forName="child3Text" refType="h" fact="0.75"/>
                      <dgm:constr type="b" for="ch" forName="child3Text" refType="h"/>
                      <dgm:constr type="l" for="ch" forName="child3Text"/>
                    </dgm:constrLst>
                  </dgm:else>
                </dgm:choose>
                <dgm:ruleLst/>
                <dgm:layoutNode name="child3" styleLbl="bgAcc1">
                  <dgm:alg type="sp"/>
                  <dgm:shape xmlns:r="http://schemas.openxmlformats.org/officeDocument/2006/relationships" type="roundRect" r:blip="" zOrderOff="-4">
                    <dgm:adjLst>
                      <dgm:adj idx="1" val="0.1"/>
                    </dgm:adjLst>
                  </dgm:shape>
                  <dgm:presOf axis="ch des" ptType="node node" st="3 1" cnt="1 0"/>
                  <dgm:constrLst/>
                  <dgm:ruleLst/>
                </dgm:layoutNode>
                <dgm:layoutNode name="child3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4" hideGeom="1">
                    <dgm:adjLst>
                      <dgm:adj idx="1" val="0.1"/>
                    </dgm:adjLst>
                  </dgm:shape>
                  <dgm:presOf axis="ch des" ptType="node node" st="3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22"/>
          </dgm:choose>
          <dgm:choose name="Name23">
            <dgm:if name="Name24" axis="ch ch" ptType="node node" st="4 1" cnt="1 0" func="cnt" op="gte" val="1">
              <dgm:layoutNode name="child4group">
                <dgm:alg type="composite">
                  <dgm:param type="horzAlign" val="none"/>
                  <dgm:param type="vertAlign" val="none"/>
                </dgm:alg>
                <dgm:shape xmlns:r="http://schemas.openxmlformats.org/officeDocument/2006/relationships" r:blip="">
                  <dgm:adjLst/>
                </dgm:shape>
                <dgm:presOf/>
                <dgm:choose name="Name25">
                  <dgm:if name="Name26" func="var" arg="dir" op="equ" val="norm">
                    <dgm:constrLst>
                      <dgm:constr type="w" for="ch" forName="child4" refType="w"/>
                      <dgm:constr type="h" for="ch" forName="child4" refType="h"/>
                      <dgm:constr type="b" for="ch" forName="child4" refType="h"/>
                      <dgm:constr type="l" for="ch" forName="child4"/>
                      <dgm:constr type="w" for="ch" forName="child4Text" refType="w" fact="0.7"/>
                      <dgm:constr type="h" for="ch" forName="child4Text" refType="h" fact="0.75"/>
                      <dgm:constr type="b" for="ch" forName="child4Text" refType="h"/>
                      <dgm:constr type="l" for="ch" forName="child4Text"/>
                    </dgm:constrLst>
                  </dgm:if>
                  <dgm:else name="Name27">
                    <dgm:constrLst>
                      <dgm:constr type="w" for="ch" forName="child4" refType="w"/>
                      <dgm:constr type="h" for="ch" forName="child4" refType="h"/>
                      <dgm:constr type="b" for="ch" forName="child4" refType="h"/>
                      <dgm:constr type="r" for="ch" forName="child4" refType="w"/>
                      <dgm:constr type="w" for="ch" forName="child4Text" refType="w" fact="0.7"/>
                      <dgm:constr type="h" for="ch" forName="child4Text" refType="h" fact="0.75"/>
                      <dgm:constr type="b" for="ch" forName="child4Text" refType="h"/>
                      <dgm:constr type="r" for="ch" forName="child4Text" refType="w"/>
                    </dgm:constrLst>
                  </dgm:else>
                </dgm:choose>
                <dgm:ruleLst/>
                <dgm:layoutNode name="child4" styleLbl="bgAcc1">
                  <dgm:alg type="sp"/>
                  <dgm:shape xmlns:r="http://schemas.openxmlformats.org/officeDocument/2006/relationships" type="roundRect" r:blip="" zOrderOff="-4">
                    <dgm:adjLst>
                      <dgm:adj idx="1" val="0.1"/>
                    </dgm:adjLst>
                  </dgm:shape>
                  <dgm:presOf axis="ch des" ptType="node node" st="4 1" cnt="1 0"/>
                  <dgm:constrLst/>
                  <dgm:ruleLst/>
                </dgm:layoutNode>
                <dgm:layoutNode name="child4Text" styleLbl="bgAcc1">
                  <dgm:varLst>
                    <dgm:bulletEnabled val="1"/>
                  </dgm:varLst>
                  <dgm:alg type="tx">
                    <dgm:param type="stBulletLvl" val="1"/>
                  </dgm:alg>
                  <dgm:shape xmlns:r="http://schemas.openxmlformats.org/officeDocument/2006/relationships" type="roundRect" r:blip="" zOrderOff="-4" hideGeom="1">
                    <dgm:adjLst>
                      <dgm:adj idx="1" val="0.1"/>
                    </dgm:adjLst>
                  </dgm:shape>
                  <dgm:presOf axis="ch des" ptType="node node" st="4 1" cnt="1 0"/>
                  <dgm:constrLst>
                    <dgm:constr type="tMarg" refType="primFontSz" fact="0.3"/>
                    <dgm:constr type="bMarg" refType="primFontSz" fact="0.3"/>
                    <dgm:constr type="lMarg" refType="primFontSz" fact="0.3"/>
                    <dgm:constr type="rMarg" refType="primFontSz" fact="0.3"/>
                  </dgm:constrLst>
                  <dgm:ruleLst>
                    <dgm:rule type="primFontSz" val="5" fact="NaN" max="NaN"/>
                  </dgm:ruleLst>
                </dgm:layoutNode>
              </dgm:layoutNode>
            </dgm:if>
            <dgm:else name="Name28"/>
          </dgm:choose>
          <dgm:layoutNode name="childPlaceholder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layoutNode name="circle">
          <dgm:alg type="composite">
            <dgm:param type="ar" val="1"/>
          </dgm:alg>
          <dgm:shape xmlns:r="http://schemas.openxmlformats.org/officeDocument/2006/relationships" r:blip="">
            <dgm:adjLst/>
          </dgm:shape>
          <dgm:presOf/>
          <dgm:choose name="Name29">
            <dgm:if name="Name30" func="var" arg="dir" op="equ" val="norm">
              <dgm:constrLst>
                <dgm:constr type="primFontSz" for="ch" ptType="node" op="equ" val="65"/>
                <dgm:constr type="w" for="ch" forName="quadrant1" refType="w" fact="0.433"/>
                <dgm:constr type="h" for="ch" forName="quadrant1" refType="h" fact="0.433"/>
                <dgm:constr type="b" for="ch" forName="quadrant1" refType="h" fact="0.5"/>
                <dgm:constr type="bOff" for="ch" forName="quadrant1" refType="h" fact="-0.01"/>
                <dgm:constr type="r" for="ch" forName="quadrant1" refType="w" fact="0.5"/>
                <dgm:constr type="rOff" for="ch" forName="quadrant1" refType="w" fact="-0.01"/>
                <dgm:constr type="w" for="ch" forName="quadrant2" refType="w" fact="0.433"/>
                <dgm:constr type="h" for="ch" forName="quadrant2" refType="h" fact="0.433"/>
                <dgm:constr type="b" for="ch" forName="quadrant2" refType="h" fact="0.5"/>
                <dgm:constr type="bOff" for="ch" forName="quadrant2" refType="h" fact="-0.01"/>
                <dgm:constr type="l" for="ch" forName="quadrant2" refType="w" fact="0.5"/>
                <dgm:constr type="lOff" for="ch" forName="quadrant2" refType="w" fact="0.01"/>
                <dgm:constr type="w" for="ch" forName="quadrant3" refType="w" fact="0.433"/>
                <dgm:constr type="h" for="ch" forName="quadrant3" refType="h" fact="0.433"/>
                <dgm:constr type="t" for="ch" forName="quadrant3" refType="h" fact="0.5"/>
                <dgm:constr type="tOff" for="ch" forName="quadrant3" refType="h" fact="0.01"/>
                <dgm:constr type="l" for="ch" forName="quadrant3" refType="w" fact="0.5"/>
                <dgm:constr type="lOff" for="ch" forName="quadrant3" refType="w" fact="0.01"/>
                <dgm:constr type="w" for="ch" forName="quadrant4" refType="w" fact="0.433"/>
                <dgm:constr type="h" for="ch" forName="quadrant4" refType="h" fact="0.433"/>
                <dgm:constr type="t" for="ch" forName="quadrant4" refType="h" fact="0.5"/>
                <dgm:constr type="tOff" for="ch" forName="quadrant4" refType="h" fact="0.01"/>
                <dgm:constr type="r" for="ch" forName="quadrant4" refType="w" fact="0.5"/>
                <dgm:constr type="rOff" for="ch" forName="quadrant4" refType="w" fact="-0.01"/>
              </dgm:constrLst>
            </dgm:if>
            <dgm:else name="Name31">
              <dgm:constrLst>
                <dgm:constr type="primFontSz" for="ch" ptType="node" op="equ" val="65"/>
                <dgm:constr type="w" for="ch" forName="quadrant1" refType="w" fact="0.433"/>
                <dgm:constr type="h" for="ch" forName="quadrant1" refType="h" fact="0.433"/>
                <dgm:constr type="b" for="ch" forName="quadrant1" refType="h" fact="0.5"/>
                <dgm:constr type="bOff" for="ch" forName="quadrant1" refType="h" fact="-0.01"/>
                <dgm:constr type="l" for="ch" forName="quadrant1" refType="w" fact="0.5"/>
                <dgm:constr type="lOff" for="ch" forName="quadrant1" refType="w" fact="0.01"/>
                <dgm:constr type="w" for="ch" forName="quadrant2" refType="w" fact="0.433"/>
                <dgm:constr type="h" for="ch" forName="quadrant2" refType="h" fact="0.433"/>
                <dgm:constr type="b" for="ch" forName="quadrant2" refType="h" fact="0.5"/>
                <dgm:constr type="bOff" for="ch" forName="quadrant2" refType="h" fact="-0.01"/>
                <dgm:constr type="r" for="ch" forName="quadrant2" refType="w" fact="0.5"/>
                <dgm:constr type="rOff" for="ch" forName="quadrant2" refType="w" fact="-0.01"/>
                <dgm:constr type="w" for="ch" forName="quadrant3" refType="w" fact="0.433"/>
                <dgm:constr type="h" for="ch" forName="quadrant3" refType="h" fact="0.433"/>
                <dgm:constr type="t" for="ch" forName="quadrant3" refType="h" fact="0.5"/>
                <dgm:constr type="tOff" for="ch" forName="quadrant3" refType="h" fact="0.01"/>
                <dgm:constr type="r" for="ch" forName="quadrant3" refType="w" fact="0.5"/>
                <dgm:constr type="rOff" for="ch" forName="quadrant3" refType="w" fact="-0.01"/>
                <dgm:constr type="w" for="ch" forName="quadrant4" refType="w" fact="0.433"/>
                <dgm:constr type="h" for="ch" forName="quadrant4" refType="h" fact="0.433"/>
                <dgm:constr type="t" for="ch" forName="quadrant4" refType="h" fact="0.5"/>
                <dgm:constr type="tOff" for="ch" forName="quadrant4" refType="h" fact="0.01"/>
                <dgm:constr type="l" for="ch" forName="quadrant4" refType="w" fact="0.5"/>
                <dgm:constr type="lOff" for="ch" forName="quadrant4" refType="w" fact="0.01"/>
              </dgm:constrLst>
            </dgm:else>
          </dgm:choose>
          <dgm:ruleLst/>
          <dgm:layoutNode name="quadrant1" styleLbl="node1">
            <dgm:varLst>
              <dgm:chMax val="1"/>
              <dgm:bulletEnabled val="1"/>
            </dgm:varLst>
            <dgm:alg type="tx"/>
            <dgm:choose name="Name32">
              <dgm:if name="Name33" func="var" arg="dir" op="equ" val="norm">
                <dgm:shape xmlns:r="http://schemas.openxmlformats.org/officeDocument/2006/relationships" type="pieWedge" r:blip="">
                  <dgm:adjLst/>
                </dgm:shape>
              </dgm:if>
              <dgm:else name="Name34">
                <dgm:shape xmlns:r="http://schemas.openxmlformats.org/officeDocument/2006/relationships" rot="90" type="pieWedge" r:blip="">
                  <dgm:adjLst/>
                </dgm:shape>
              </dgm:else>
            </dgm:choose>
            <dgm:presOf axis="ch" ptType="node" cnt="1"/>
            <dgm:constrLst/>
            <dgm:ruleLst>
              <dgm:rule type="primFontSz" val="5" fact="NaN" max="NaN"/>
            </dgm:ruleLst>
          </dgm:layoutNode>
          <dgm:layoutNode name="quadrant2" styleLbl="node1">
            <dgm:varLst>
              <dgm:chMax val="1"/>
              <dgm:bulletEnabled val="1"/>
            </dgm:varLst>
            <dgm:alg type="tx"/>
            <dgm:choose name="Name35">
              <dgm:if name="Name36" func="var" arg="dir" op="equ" val="norm">
                <dgm:shape xmlns:r="http://schemas.openxmlformats.org/officeDocument/2006/relationships" rot="90" type="pieWedge" r:blip="">
                  <dgm:adjLst/>
                </dgm:shape>
              </dgm:if>
              <dgm:else name="Name37">
                <dgm:shape xmlns:r="http://schemas.openxmlformats.org/officeDocument/2006/relationships" type="pieWedge" r:blip="">
                  <dgm:adjLst/>
                </dgm:shape>
              </dgm:else>
            </dgm:choose>
            <dgm:presOf axis="ch" ptType="node" st="2" cnt="1"/>
            <dgm:constrLst/>
            <dgm:ruleLst>
              <dgm:rule type="primFontSz" val="5" fact="NaN" max="NaN"/>
            </dgm:ruleLst>
          </dgm:layoutNode>
          <dgm:layoutNode name="quadrant3" styleLbl="node1">
            <dgm:varLst>
              <dgm:chMax val="1"/>
              <dgm:bulletEnabled val="1"/>
            </dgm:varLst>
            <dgm:alg type="tx"/>
            <dgm:choose name="Name38">
              <dgm:if name="Name39" func="var" arg="dir" op="equ" val="norm">
                <dgm:shape xmlns:r="http://schemas.openxmlformats.org/officeDocument/2006/relationships" rot="180" type="pieWedge" r:blip="">
                  <dgm:adjLst/>
                </dgm:shape>
              </dgm:if>
              <dgm:else name="Name40">
                <dgm:shape xmlns:r="http://schemas.openxmlformats.org/officeDocument/2006/relationships" rot="270" type="pieWedge" r:blip="">
                  <dgm:adjLst/>
                </dgm:shape>
              </dgm:else>
            </dgm:choose>
            <dgm:presOf axis="ch" ptType="node" st="3" cnt="1"/>
            <dgm:constrLst/>
            <dgm:ruleLst>
              <dgm:rule type="primFontSz" val="5" fact="NaN" max="NaN"/>
            </dgm:ruleLst>
          </dgm:layoutNode>
          <dgm:layoutNode name="quadrant4" styleLbl="node1">
            <dgm:varLst>
              <dgm:chMax val="1"/>
              <dgm:bulletEnabled val="1"/>
            </dgm:varLst>
            <dgm:alg type="tx"/>
            <dgm:choose name="Name41">
              <dgm:if name="Name42" func="var" arg="dir" op="equ" val="norm">
                <dgm:shape xmlns:r="http://schemas.openxmlformats.org/officeDocument/2006/relationships" rot="270" type="pieWedge" r:blip="">
                  <dgm:adjLst/>
                </dgm:shape>
              </dgm:if>
              <dgm:else name="Name43">
                <dgm:shape xmlns:r="http://schemas.openxmlformats.org/officeDocument/2006/relationships" rot="180" type="pieWedge" r:blip="">
                  <dgm:adjLst/>
                </dgm:shape>
              </dgm:else>
            </dgm:choose>
            <dgm:presOf axis="ch" ptType="node" st="4" cnt="1"/>
            <dgm:constrLst/>
            <dgm:ruleLst>
              <dgm:rule type="primFontSz" val="5" fact="NaN" max="NaN"/>
            </dgm:ruleLst>
          </dgm:layoutNode>
          <dgm:layoutNode name="quadrantPlaceholder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layoutNode name="center1" styleLbl="fgShp">
          <dgm:alg type="sp"/>
          <dgm:choose name="Name44">
            <dgm:if name="Name45" func="var" arg="dir" op="equ" val="norm">
              <dgm:shape xmlns:r="http://schemas.openxmlformats.org/officeDocument/2006/relationships" type="circularArrow" r:blip="" zOrderOff="16">
                <dgm:adjLst/>
              </dgm:shape>
            </dgm:if>
            <dgm:else name="Name46">
              <dgm:shape xmlns:r="http://schemas.openxmlformats.org/officeDocument/2006/relationships" rot="180" type="leftCircularArrow" r:blip="" zOrderOff="16">
                <dgm:adjLst/>
              </dgm:shape>
            </dgm:else>
          </dgm:choose>
          <dgm:presOf/>
          <dgm:constrLst/>
          <dgm:ruleLst/>
        </dgm:layoutNode>
        <dgm:layoutNode name="center2" styleLbl="fgShp">
          <dgm:alg type="sp"/>
          <dgm:choose name="Name47">
            <dgm:if name="Name48" func="var" arg="dir" op="equ" val="norm">
              <dgm:shape xmlns:r="http://schemas.openxmlformats.org/officeDocument/2006/relationships" rot="180" type="circularArrow" r:blip="" zOrderOff="16">
                <dgm:adjLst/>
              </dgm:shape>
            </dgm:if>
            <dgm:else name="Name49">
              <dgm:shape xmlns:r="http://schemas.openxmlformats.org/officeDocument/2006/relationships" type="leftCircularArrow" r:blip="" zOrderOff="16">
                <dgm:adjLst/>
              </dgm:shape>
            </dgm:else>
          </dgm:choose>
          <dgm:presOf/>
          <dgm:constrLst/>
          <dgm:ruleLst/>
        </dgm:layoutNode>
      </dgm:if>
      <dgm:else name="Name50"/>
    </dgm:choos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dt" idx="19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ftr" idx="20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 type="sldNum" idx="21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6F31A4-BEB2-4B21-B35E-9237D9B2B9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Num" idx="31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ECDCF5-8569-43EB-A970-86B49D28E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Num" idx="32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FFE081-30D4-45B9-91ED-87B5756A0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Num" idx="33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C7627E-319D-4F2A-8F7E-D49DC8BB2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Num" idx="34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54CD19-02D2-4267-8333-B73FAE273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Num" idx="35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878C35-A1DE-4C18-8921-D7C4A56E5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36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3BC26F2-F1A4-427C-AB75-FBF7B7C39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change over time even if programs do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are broad and analysis for decision making is not done at tha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grams relate to multiple strategic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cost and output (and eventually outcome) is still quit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reported each period but outputs may not relate to the same period or occur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often external to the organization but still contribute to th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 are not structured with cost accounting in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sldNum" idx="37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AAC3DB-C8C9-4B08-8851-F4770CACD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Num" idx="38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06278F-FB4F-43BF-95A3-9297AF13D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39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B6010B-4823-464D-8962-EEABB6EA3E4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0BF8-29F9-44BF-87CA-84BBF87B0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195F-0732-440E-BBED-D007E10BB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BC4D-47C3-4A57-8EFD-5D9024EEA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45B-BA9F-4FB4-A8B2-04BA1D0A1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E29A-6E98-48DF-828F-6BEF8F85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56F6-B70A-4439-A812-1C61785C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74B3-CBEB-4C88-A371-49215728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2CA-EF6C-4245-80D6-E0374F58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6A1B-9430-4097-A9EA-51B8F1D4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86048-C780-44DE-83B2-B6024E3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9338-0314-467B-97C9-A28B2C0E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CAA-110E-4367-ADB8-E9CAF232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63E1-1AD8-48BA-8E44-A60BE2831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348D2-502C-4D39-BCE7-0DB8CAA1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0B0E-4D32-4829-B3B3-B6BA8BDA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DA36E-176C-4828-A246-6DF3268D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E3B47-8B8B-4244-85DF-48FB9482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7A87B-EBAD-4CAE-9276-68A742083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9D032-0383-4D52-8B01-28159A0A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DF23E-06A7-4AA9-8978-CBC966197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328B0-7648-40E1-89FD-7D1A4BB1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74189-6D39-4EAE-A7DE-244DBC5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FDE-466C-4B6B-8724-5BA117B1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8D396-F615-43E4-B530-2DD5EEB0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416D0-2461-4CB3-A00A-745E18F3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2E32D-AF27-4312-B6C7-557FE6A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98461-DB1C-4ED0-89D1-FF8029B8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349CF-1642-4457-856D-C13F23B6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0438A-96B3-4F29-8173-8077079A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ED142-9813-4138-8BEB-9ACD947C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DF76C-E02D-4428-9AA0-87C18531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9DC33-04A1-46E5-B7B0-B3382A8CF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C1D376-37E3-4D62-9F5E-7DCCB36B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DBE-657A-43E7-9E9A-E5170819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E839-90C2-46CA-98E6-DB8BD8BD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83AA7-C957-4861-A534-BF34DE389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6988C-8709-442B-8BB9-9350ADFF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7784F-FA1F-4A2A-8A3E-5519F6D2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E10D-B4CD-4184-AE18-3DEB5BA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2691-AA06-4054-B458-FC51F094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DDDB-89BB-449D-8ACC-52320B16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BBBE8-8FCB-4E5D-9D63-6910861A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11F89-FD3A-4C8C-B054-41BB32DB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B56683-802E-48C2-8FC2-62860BD0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EE17-BB37-4C13-8019-EE450AA81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38E12-8E1B-487C-8F60-B2583F49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C0ADB-5E55-47F1-9066-0D6FAF01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5C2B8-4A9C-4D50-953A-8C0A26DC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527B5-95D6-4F92-83DE-C1324938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E60F-3AF1-444D-984D-BE606956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27B5B6-8515-4EBA-9C0A-98F76ABA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6915D-530A-4619-9748-B6BE09C6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41C7E-AA23-4282-93AD-658C7BF3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BBA7-D51A-4E9F-9B6C-E4235E74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1A4BA-123B-46DB-AF96-F75FBF00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875C-D119-41FF-A704-E9913BE0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6321F-ACB4-4622-98C0-0EC42197E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3BECE-E6C8-4AE3-B711-B32DDDAAA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F463C-6C74-4B58-810E-CFD07D29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03D6-C1B7-49C4-9277-CC6DE5F0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A90CB-2C40-4608-A8E2-12584997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BED69-A4EF-44BE-9014-51B4555D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3DACD1-D4EA-4BC3-BA2B-47BCB1F37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D8FA5-1E23-4AC0-AECF-BEF3B555B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9B963-CA60-4669-9388-8B86E15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10C8F-6ABA-4C33-B19D-CE5F1B54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C113-6D98-4D50-97E5-8960CA39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EC8098-8ED2-4C51-89A8-8A3B582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ACC224-4110-4E42-9065-66E397A75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F3AB1-DEFF-4D76-B02B-844CAEEF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5E40-845E-4441-8515-8A4CFB603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7545-066C-4835-BB3F-7E4FA37F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Rounded Rectangle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Rounded Rectangle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0671BA-3451-4AD9-B28F-8A2BC4D8EDA5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8B29C8B-A52A-414C-A36F-D94B61C2CA46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15C90E-78AC-47E9-A124-2A85932656EC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E7C34D-5364-4920-B90E-258B1A172616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7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538960" y="533520"/>
            <a:ext cx="29714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200" spc="-1" strike="noStrike">
                <a:solidFill>
                  <a:schemeClr val="accent1"/>
                </a:solidFill>
                <a:latin typeface="Verdana"/>
              </a:rPr>
              <a:t>Click to edit Master title sty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5538960" y="1447920"/>
            <a:ext cx="2971440" cy="4205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5000" anchor="t">
            <a:noAutofit/>
          </a:bodyPr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548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1024200" indent="0">
              <a:lnSpc>
                <a:spcPct val="100000"/>
              </a:lnSpc>
              <a:spcBef>
                <a:spcPts val="230"/>
              </a:spcBef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12801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body"/>
          </p:nvPr>
        </p:nvSpPr>
        <p:spPr>
          <a:xfrm>
            <a:off x="761400" y="930240"/>
            <a:ext cx="4625640" cy="4723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dt" idx="13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ftr" idx="14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 type="sldNum" idx="1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49DF829-1689-43EF-BC06-113EE7B7CE16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2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dt" idx="16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ftr" idx="17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811569-C18F-4BE1-B97D-21AA18710E03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2014 JFMIP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111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7c7972"/>
                </a:solidFill>
                <a:latin typeface="Verdana"/>
              </a:rPr>
              <a:t>FASAB--Ideas for the Ideal Model </a:t>
            </a: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Wendy Payne, CPA, CG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FASAB Blue Logo"/>
          <p:cNvPicPr/>
          <p:nvPr/>
        </p:nvPicPr>
        <p:blipFill>
          <a:blip r:embed="rId1"/>
          <a:stretch/>
        </p:blipFill>
        <p:spPr>
          <a:xfrm>
            <a:off x="380880" y="4876920"/>
            <a:ext cx="1904760" cy="13950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5"/>
          <p:cNvSpPr/>
          <p:nvPr/>
        </p:nvSpPr>
        <p:spPr>
          <a:xfrm>
            <a:off x="3962520" y="5562720"/>
            <a:ext cx="4114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Tuesday, May 20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3:50 – 5:00 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9AC1-B109-4273-993A-C2023894B8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to D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rual information is useful and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ion of budget, cost and non-financial performance is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hard to do though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ults don’t fit neatly into time period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AE440-5851-40DC-B75A-5D3F732CD3D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Task Force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grate budget, cost and accr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n electronic reporting model that presents information from audited financial statements – drill downs and machine readabl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agovernmental financial dependenc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2B564-0020-4514-B6EF-1B432D755F8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embers’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6000"/>
          </a:bodyPr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statements are not the only source of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vernmentwide report (CFR) is for citizens and needs to be intuiti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cy level reports should support availability of disaggregated information but need not mirror the CF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key programs and these may chan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rease trend rep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costs and accomplishments including progress on priorit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30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30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65E01-EBD2-45AB-B457-A914D4B590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embers’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cies should show in four columns and by 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ary re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ary oblig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dgetary outlay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rual co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tement of Performance Measures and Costs to link cost and performanc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about management of the money suppl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78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78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78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37D1A-9DDF-4750-AC30-B55568586E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embers’ Idea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hance cost reporting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 on what information is need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intain a balance between traditional and non-traditional reporting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able natural language queri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al major risk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ducate use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fine “program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AA145-353F-44DB-9D44-9813FAE2EB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My Thoughts – See the earlier disclaimer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0A37-CA90-424B-AFB0-13794064CCA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Electronic Reporting - Governanc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nefi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stomiz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ill dow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read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sualization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llen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ative characteri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presentationally faithfu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bias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para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ist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cipating N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BA93-E4BD-4126-B93E-1EFF05B16E5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38960" y="533520"/>
            <a:ext cx="29714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200" spc="-1" strike="noStrike">
                <a:solidFill>
                  <a:schemeClr val="accent1"/>
                </a:solidFill>
                <a:latin typeface="Verdana"/>
              </a:rPr>
              <a:t>Statement of Net Co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538960" y="1447920"/>
            <a:ext cx="2971440" cy="4205880"/>
          </a:xfrm>
          <a:prstGeom prst="rect">
            <a:avLst/>
          </a:prstGeom>
          <a:noFill/>
          <a:ln w="0">
            <a:noFill/>
          </a:ln>
        </p:spPr>
        <p:txBody>
          <a:bodyPr rIns="90000" tIns="91440" bIns="45000" anchor="t">
            <a:normAutofit/>
          </a:bodyPr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is “cost”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ich cost perspective is most useful to whom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oes the disaggregation need to be audit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irect people to the cost perspective they need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836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410164201"/>
              </p:ext>
            </p:extLst>
          </p:nvPr>
        </p:nvGraphicFramePr>
        <p:xfrm>
          <a:off x="762120" y="930240"/>
          <a:ext cx="4625640" cy="47239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A360-6BE7-41DC-9FDE-A71087AE71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Statement of Net Cost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292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as to explo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rminology in MD&amp;A and other accompanying information including performance repor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gram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inciples for disaggregation – best fit to the organiz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inimum level of disaggreg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B764B-EF3B-411A-9D2B-002AFE820F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lain Language Presentation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needed $4,346.1 billion to finance goods and services, acquire new assets, and reduce existing liabilities in FY2013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es and other revenues financed     75.2 % of the total needed in FY 2013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incurred additional liabilities to finance the remaining 24.8%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7BEB-79BB-4EA3-B89E-A6C18D961A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7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56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s expressed are those of the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Num" idx="22"/>
          </p:nvPr>
        </p:nvSpPr>
        <p:spPr>
          <a:xfrm>
            <a:off x="6705720" y="60199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68D77A4-0992-48AE-A13B-5964AD57F10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6" name="Table 7"/>
          <p:cNvGraphicFramePr/>
          <p:nvPr/>
        </p:nvGraphicFramePr>
        <p:xfrm>
          <a:off x="380880" y="339120"/>
          <a:ext cx="7924320" cy="5981760"/>
        </p:xfrm>
        <a:graphic>
          <a:graphicData uri="http://schemas.openxmlformats.org/drawingml/2006/table">
            <a:tbl>
              <a:tblPr/>
              <a:tblGrid>
                <a:gridCol w="228960"/>
                <a:gridCol w="5384880"/>
                <a:gridCol w="1399680"/>
                <a:gridCol w="910440"/>
              </a:tblGrid>
              <a:tr h="242280">
                <a:tc gridSpan="2"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en-US" sz="16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How We Financed Goods &amp;Services and Other Nee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20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Financ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Revenues: (in Billion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ople Paid directly for goods and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5b3d7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15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xes Paid directly by individ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196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axes Paid by corpora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axes (including excis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 Tax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258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Unmatched amou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Total Financing from Reven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,267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5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60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2104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Borrowing and Other Li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95b3d7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rrowed money directly from mar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95b3d7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96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ferred compensation promised to employe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64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.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wth in environmental and other li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rowth in due and payable balances for transfers to individu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.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8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05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Total Financing from Debt and Other Liabil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79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.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noFill/>
                    </a:lnB>
                    <a:noFill/>
                  </a:tcPr>
                </a:tc>
              </a:tr>
              <a:tr h="21060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000"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 w="122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>
                        <a:lnSpc>
                          <a:spcPct val="107000"/>
                        </a:lnSpc>
                      </a:pPr>
                      <a:r>
                        <a:rPr b="1" lang="en-US" sz="1200" spc="-1" strike="noStrike">
                          <a:solidFill>
                            <a:srgbClr val="1f497d"/>
                          </a:solidFill>
                          <a:latin typeface="Calibri"/>
                          <a:ea typeface="Times New Roman"/>
                        </a:rPr>
                        <a:t>Total Finan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$4,346.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2920" rIns="52920" tIns="0" bIns="0" anchor="b">
                      <a:noAutofit/>
                    </a:bodyPr>
                    <a:p>
                      <a:pPr algn="r">
                        <a:lnSpc>
                          <a:spcPct val="107000"/>
                        </a:lnSpc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2920" marR="52920">
                    <a:lnL>
                      <a:noFill/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04541-B07D-4DC6-B198-D780409D8E0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General Updat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Autofit/>
          </a:bodyPr>
          <a:p>
            <a:pPr indent="0" algn="ctr">
              <a:buNone/>
            </a:pPr>
            <a:endParaRPr b="0" lang="en-US" sz="2000" spc="-1" strike="noStrike">
              <a:solidFill>
                <a:srgbClr val="7c7972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41D-B6AB-4E1A-A7F0-35EC58CD1D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– Proposal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in General Purpose Federal Financial Reports (GPFFR) all organiz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dgeted for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with potential for risk or reward, 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not specifically address particular e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for judgment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los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Num" idx="2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3CB1FE-0FE7-4941-9C5C-5116026CE2F3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guish between consolidation ent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discl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sng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olidation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ed by general taxes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-going decision mak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more clearly linked to elected officia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consolidation entities is to be consolidated in financi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ldNum" idx="24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D321E9-17F3-4DC0-BB86-A612EC5DB42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sclosure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what independent from elected officials, and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financially self-sustain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garding such organizations is to be disclosed in notes with an emphasis o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ldNum" idx="2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9F133F-0C17-482A-A59C-FB330926AC7E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4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40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3000"/>
          </a:bodyPr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addres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ntities are subject to SFFAS 34 – the GAAP hierarchy for federal ent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organizations to include in component reporting entity GPFF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al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B-basis information for consolidation ent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fferent year ends for disclosure organiz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ed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ndments to SFFAC 2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tity and 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Vie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s in receivership, conservatorship, or owned/controlled through interventions should not be equated with other disclosure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entions should be addressed in a single standard on risk assum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sldNum" idx="26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0E75E7-2D29-4F5E-AA4E-B90E7BBFB741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3416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ing to enhance the benefits of accrual basis financi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to the Boar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 needs surveys, focus groups, and round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Task Force on Government-wide Financial Repor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ec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O Act 20-Year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 from task forces focusing on agency level reporting on cost, budget and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 of spending pilo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of other sovereign government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sldNum" idx="27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9F5844-4991-436F-8D62-1D65B63DD0E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1529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 want particular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o meet their nee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derstan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financi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ntralized sour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obtain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ve toward real-time dat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gram managers n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and non-financial performanc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level cost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ward-look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on in agency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ldNum" idx="2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13C055-EC2E-46EB-857F-10F7F29354DD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1000"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3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Result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81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7000"/>
          </a:bodyPr>
          <a:p>
            <a:pPr marL="249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Needed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ment of Net Co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- cost by strategic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refer to focus on “cost” by organizations, programs, or pro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ching cost and output (and eventually outcome) is not so easy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terms used differently by different disciplines (cost per the budget versus cost per accrual principles versus cost per program evaluato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9120" indent="-2491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TOMIZATION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Num" idx="29"/>
          </p:nvPr>
        </p:nvSpPr>
        <p:spPr>
          <a:xfrm>
            <a:off x="6629400" y="5867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D08E4-91CA-4699-8179-FFA4D97DB1CC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900" spc="-1" strike="noStrike">
                <a:solidFill>
                  <a:srgbClr val="ff9257"/>
                </a:solidFill>
                <a:latin typeface="Verdana"/>
              </a:rPr>
              <a:t>(cont.)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search Results </a:t>
            </a: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20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xt Steps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3200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ramework for integr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e define a roadmap to follow to reach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30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D065D7-D099-4C6D-AAA9-E67987B391C9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al Mod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to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force id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s’ ide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y though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Upd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FB42-0B01-4DDF-B2C6-A4FACBD4B5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 Standards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mited to insurance contracts and explicit guarantees (other than loan guarante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implementing policy initiatives to stabilize financial markets and the economy, the federal government explicitly assumed risks previously considered by some to have implied backing of the federal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rder to meet the stewardship and operating performance objectives of federal financial report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important that the federal governm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 all significant risks assum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t just risks related to insurance contracts and explicit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00076-C63C-47F5-AEEA-89A98169B6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(cont.)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Three Phases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0000"/>
          </a:bodyPr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ance and [Non-Loan]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lement Programs, including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ional Defens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rity and Disaster 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otential effects on future outf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atory action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vernment Sponsored Enterprises (GSEs)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it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g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risk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4F74-3C49-4FA0-B002-4CC3795FB6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Insurance &amp; Guarantee Phase 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Force starting now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federal Insuranc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Non-Loan]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antee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all programs are captured in updated standards/disclo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easurement method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 to Credit Reform 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FASB Insurance Contracts Exposure Draft Sta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measur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consistent reporting by all Insurance and Guarantee progr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0FCD1-AA96-4742-A197-A7BADFD98A5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8316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is partnering with GASB to develop standards for governmental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e decision to establish a single model (with exceptions for short-term arrangement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assets consisting of the “right to use” a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liabilities consisting of the obligation to pay for th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us may be on the interest cost associated with le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DB01-5906-4981-9A40-BFCF380B58C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ublic-Private Partnershi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16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7000"/>
          </a:bodyPr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budget pressures, federal agencies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ly turned to 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.g., PPPs, P3s) to accomplish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cy of the full costs and risks of such partnerships  is the overall 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objectives inclu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ng terms (e.g., service concession arrangements, P3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ing guidance for the recognition and measurement of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ts and liab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and expen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implications for other arrangements related to P3s (sale-leaseback or other long-term arrangement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F6D40-F4F3-49E3-8AF0-F978D90CE03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1835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A23AA-41A9-49A1-8C37-8D153CAFF48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Contact and Websit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quiries can be directed to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erv (sign up for emai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Projects – assign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paynew@fasab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512-73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CDA82-111E-46BF-B3D0-CED3E422004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Key Finding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5000"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Data generally are highly accurate and granular: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lvl="1" marL="548280" indent="-2008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challenges in analyzing and transforming data into actionable information 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lvl="1" marL="548280" indent="-2008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especially the linking of budget, costs, and performance.</a:t>
            </a:r>
            <a:endParaRPr b="0" lang="en-US" sz="6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33D30-0730-4E79-BB38-A27EAABF75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Key Finding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49000"/>
          </a:bodyPr>
          <a:p>
            <a:pPr marL="273240" indent="-27324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Financial data can be used more effectively if: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lvl="1" marL="565560" indent="-20736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leadership instills a culture that pays attention to costs and performance 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lvl="1" marL="565560" indent="-20736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by creating structures and incentives that encourage employees to carefully examine these issues.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9A0F6-2B9C-4299-8653-F064D7A6EA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4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Key Finding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3000"/>
          </a:bodyPr>
          <a:p>
            <a:pPr marL="255600" indent="-2556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6800" spc="-1" strike="noStrike">
                <a:solidFill>
                  <a:srgbClr val="000000"/>
                </a:solidFill>
                <a:latin typeface="Verdana"/>
              </a:rPr>
              <a:t>CFO organizations increasingly need:</a:t>
            </a:r>
            <a:endParaRPr b="0" lang="en-US" sz="6800" spc="-1" strike="noStrike">
              <a:solidFill>
                <a:srgbClr val="000000"/>
              </a:solidFill>
              <a:latin typeface="Verdana"/>
            </a:endParaRPr>
          </a:p>
          <a:p>
            <a:pPr lvl="1" marL="528480" indent="-1936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to offer valuable decision-making support 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lvl="1" marL="528480" indent="-1936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Font typeface="Verdana"/>
              <a:buChar char="◦"/>
            </a:pPr>
            <a:r>
              <a:rPr b="0" lang="en-US" sz="6400" spc="-1" strike="noStrike">
                <a:solidFill>
                  <a:srgbClr val="000000"/>
                </a:solidFill>
                <a:latin typeface="Verdana"/>
              </a:rPr>
              <a:t>to evolve to a more modern approach that features sophisticated cost and performance analysis</a:t>
            </a:r>
            <a:endParaRPr b="0" lang="en-US" sz="6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8931-6D10-4811-912F-F4600B911E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Recommend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0000"/>
          </a:bodyPr>
          <a:p>
            <a:pPr marL="241200" indent="-241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Strengthen the CFO staff’s knowledge of program operations </a:t>
            </a:r>
            <a:r>
              <a:rPr b="0" lang="en-US" sz="4900" spc="-1" strike="noStrike">
                <a:solidFill>
                  <a:srgbClr val="000000"/>
                </a:solidFill>
                <a:latin typeface="Verdana"/>
              </a:rPr>
              <a:t>in order to increase their ability to act as business partners to agency program leadership.</a:t>
            </a:r>
            <a:endParaRPr b="0" lang="en-US" sz="4900" spc="-1" strike="noStrike">
              <a:solidFill>
                <a:srgbClr val="000000"/>
              </a:solidFill>
              <a:latin typeface="Verdana"/>
            </a:endParaRPr>
          </a:p>
          <a:p>
            <a:pPr marL="241200" indent="-241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mphasize development of the CFO staff skillsets to ensure that traditional accounting is augmented by data analytics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41200" indent="-24120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In order to connect financial and cost information to program outcomes, federal agencies should link budgeted resources to costs, outputs, and performance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565A1-E8BA-4E47-8FCF-098736562DB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38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APA Study - Recommendation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54000"/>
          </a:bodyPr>
          <a:p>
            <a:pPr marL="260280" indent="-2602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Develop financial and programmatic dashboards specifically tailored to the decision-making requirements of executives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0280" indent="-2602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Enhance existing reporting systems to integrate financial, operational, and HR-related information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0280" indent="-260280">
              <a:lnSpc>
                <a:spcPct val="100000"/>
              </a:lnSpc>
              <a:spcBef>
                <a:spcPts val="249"/>
              </a:spcBef>
              <a:spcAft>
                <a:spcPts val="601"/>
              </a:spcAft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ongress and OMB should create specific legislative and regulatory catalysts to focus agency attention on developing clear cost and outcome data.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5943600"/>
            <a:ext cx="8229240" cy="18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10000"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3A184-3CEE-41E2-B7F7-107C8CC2B5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040" cy="10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Ideal Model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39E2-9B8A-4FF6-B3F0-47386FCD21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398</TotalTime>
  <Application>LibreOffice/7.4.7.2$Linux_X86_64 LibreOffice_project/40$Build-2</Application>
  <AppVersion>15.0000</AppVersion>
  <Words>1647</Words>
  <Paragraphs>395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1:02:55Z</dcterms:created>
  <dc:creator>Wendy Payne</dc:creator>
  <dc:description/>
  <dc:language>en-US</dc:language>
  <cp:lastModifiedBy>Wendy Payne</cp:lastModifiedBy>
  <dcterms:modified xsi:type="dcterms:W3CDTF">2014-05-08T19:42:19Z</dcterms:modified>
  <cp:revision>228</cp:revision>
  <dc:subject/>
  <dc:title>Baltimore Chapter of the Association of Government Account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On-screen Show (4:3)</vt:lpwstr>
  </property>
  <property fmtid="{D5CDD505-2E9C-101B-9397-08002B2CF9AE}" pid="4" name="Slides">
    <vt:r8>36</vt:r8>
  </property>
</Properties>
</file>