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89552A-5453-4DE9-A34D-BCC93904F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F9240B-B40A-4A78-8E0D-419153601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82600" y="695160"/>
            <a:ext cx="4648320" cy="3486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A0A02D-D564-494E-B861-AC747AF92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7087B6-F78C-4FA8-A28C-E9D408548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DCD68D-6BB4-4509-8EBD-658FCF258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6E490E-9954-477B-BF07-58E8BF40C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A6F82A-D0F5-474D-86B2-36D98FA8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466DAE-01D0-4CF5-9601-2FEBDFAA3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2454DB-ABD3-4E24-96F1-097851398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734231-D2FD-4A28-A466-D504DA817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5D00E7-4D20-42E5-A18C-7A5FBDCD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82600" y="695160"/>
            <a:ext cx="4648320" cy="34862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23D08-DD4E-4F39-AC6D-0156F222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82600" y="6951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87E771-3133-4C14-9EBE-45AE2DCFA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A4C7F-D97C-40A3-9DCC-3CF492FE7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D41EAD-FF26-43E0-A30C-EA3E64343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C53002-9C7D-4343-BCAC-F34605763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82CDE-4321-46D4-9FCA-4377C52E4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DE04E-75C3-4A3B-8F6B-A63354B3B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A153A-5125-4F98-A068-17519612E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99D9A-FD32-4120-B61E-A0167E21A5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5FF4-2751-41CF-A148-3A30ACBB41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045A2-7351-4AC0-B04C-6A7BC458FE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C5F06-2B43-4DDA-A1BF-4252BB010E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A0A348-115E-4127-9F96-1BBF86FFB2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95793D7E-F787-40AA-8519-04C1B1C9E7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FC605B-7D6A-4880-B6A2-FF1022C467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4A0A7D-12C7-4A60-A2D0-E150E2A51D6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966093-B03C-4D8D-87CA-BD705625FB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C9D939FF-A197-4793-B8EA-78BCEC30B0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7763ABE-4E03-4938-BC7C-2BC4721D872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7EC2D3-F990-4EBC-99F7-6CD207395EB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AD962F-E561-40DC-B71B-753F6AD2A68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3EDD96-6B9D-4430-BD78-F78C5ACFDB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958877-F9E7-4307-8C98-0B52E4DE33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0D4EB98-14AF-42C4-9131-CD76D1D8AF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255ECD-6175-42B0-A5EB-2C5C322E12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CDDB657-A8AE-499C-BFD0-C51465F674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7A5C4-EF62-4FEB-8254-42E60FC502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44942-867B-4C87-B87A-B6E0EEC833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AEBBF-E3B9-4EA1-88A8-D6CFEDDC73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C7E5-E056-4495-8498-ADFFD0898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DEAE-6FD7-4567-8B5D-67BB182C7D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ril 8, 2014</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48" name="PlaceHolder 2"/>
          <p:cNvSpPr>
            <a:spLocks noGrp="1"/>
          </p:cNvSpPr>
          <p:nvPr>
            <p:ph/>
          </p:nvPr>
        </p:nvSpPr>
        <p:spPr>
          <a:xfrm>
            <a:off x="814320" y="179496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a:t>
            </a:r>
            <a:endParaRPr b="1" lang="en-US" sz="4400" spc="-1" strike="noStrike">
              <a:solidFill>
                <a:srgbClr val="000000"/>
              </a:solidFill>
              <a:latin typeface="Arial"/>
            </a:endParaRPr>
          </a:p>
        </p:txBody>
      </p:sp>
      <p:sp>
        <p:nvSpPr>
          <p:cNvPr id="350" name="PlaceHolder 2"/>
          <p:cNvSpPr>
            <a:spLocks noGrp="1"/>
          </p:cNvSpPr>
          <p:nvPr>
            <p:ph/>
          </p:nvPr>
        </p:nvSpPr>
        <p:spPr>
          <a:xfrm>
            <a:off x="456840" y="1904760"/>
            <a:ext cx="838188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PA Study</a:t>
            </a:r>
            <a:endParaRPr b="1" lang="en-US" sz="48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re available but not analy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recomm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nking cost to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coding to support co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Dashbo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CFO staff understanding of programs (support analy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rivers of Web-based reporting – that is who wants it, who delivers it, who ‘governs’ it, who audits it, who advertises it?</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Picture 3"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Picture 3"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Picture 3"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Picture 3"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undtables with Preparers and Auditors</a:t>
            </a:r>
            <a:endParaRPr b="0" lang="en-US" sz="4800" spc="-1" strike="noStrike">
              <a:solidFill>
                <a:srgbClr val="000000"/>
              </a:solidFill>
              <a:latin typeface="Arial"/>
            </a:endParaRPr>
          </a:p>
        </p:txBody>
      </p:sp>
      <p:sp>
        <p:nvSpPr>
          <p:cNvPr id="3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rs</a:t>
            </a:r>
            <a:endParaRPr b="0" lang="en-US" sz="2400" spc="-1" strike="noStrike">
              <a:solidFill>
                <a:srgbClr val="000000"/>
              </a:solidFill>
              <a:latin typeface="Arial"/>
            </a:endParaRPr>
          </a:p>
        </p:txBody>
      </p:sp>
      <p:sp>
        <p:nvSpPr>
          <p:cNvPr id="39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not served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changes to improve cost-benefit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more on cost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spe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rs</a:t>
            </a:r>
            <a:endParaRPr b="0" lang="en-US" sz="2400" spc="-1" strike="noStrike">
              <a:solidFill>
                <a:srgbClr val="000000"/>
              </a:solidFill>
              <a:latin typeface="Arial"/>
            </a:endParaRPr>
          </a:p>
        </p:txBody>
      </p:sp>
      <p:sp>
        <p:nvSpPr>
          <p:cNvPr id="39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arriers to many of the financial statement audit changes suggested (cost savings questio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discipline seem to be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ructured Interviews</a:t>
            </a:r>
            <a:endParaRPr b="0" lang="en-US" sz="4800" spc="-1" strike="noStrike">
              <a:solidFill>
                <a:srgbClr val="000000"/>
              </a:solidFill>
              <a:latin typeface="Arial"/>
            </a:endParaRPr>
          </a:p>
        </p:txBody>
      </p:sp>
      <p:sp>
        <p:nvSpPr>
          <p:cNvPr id="3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Arial"/>
            </a:endParaRPr>
          </a:p>
        </p:txBody>
      </p:sp>
      <p:sp>
        <p:nvSpPr>
          <p:cNvPr id="39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dashboards comes from financi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in cost data and investment in PP&am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machine readable financial data allows for analy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Arial"/>
            </a:endParaRPr>
          </a:p>
        </p:txBody>
      </p:sp>
      <p:sp>
        <p:nvSpPr>
          <p:cNvPr id="39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al accounting has strong support world-wide (EC, World Bank, IMF, survey by E&am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focus on comparability among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grated?</a:t>
            </a:r>
            <a:endParaRPr b="0" lang="en-US" sz="4800" spc="-1" strike="noStrike">
              <a:solidFill>
                <a:srgbClr val="000000"/>
              </a:solidFill>
              <a:latin typeface="Arial"/>
            </a:endParaRPr>
          </a:p>
        </p:txBody>
      </p:sp>
      <p:sp>
        <p:nvSpPr>
          <p:cNvPr id="4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the report was paper, it was an island - not linked to other pertinent data and information that might help a stakeholder understand the company or an executive manage it more effectively.“</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Don Tapscott, author of Grown Up Digital: How the Net Generation is Changing Your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03"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repeatCount="1000">
                                  <p:stCondLst>
                                    <p:cond delay="0"/>
                                  </p:stCondLst>
                                  <p:childTnLst>
                                    <p:set>
                                      <p:cBhvr>
                                        <p:cTn id="126" dur="1" fill="hold">
                                          <p:stCondLst>
                                            <p:cond delay="0"/>
                                          </p:stCondLst>
                                        </p:cTn>
                                        <p:tgtEl>
                                          <p:spTgt spid="405">
                                            <p:txEl>
                                              <p:pRg st="2" end="2"/>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405">
                                            <p:txEl>
                                              <p:pRg st="3" end="3"/>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405">
                                            <p:txEl>
                                              <p:pRg st="4" end="4"/>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405">
                                            <p:txEl>
                                              <p:pRg st="5" end="5"/>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0"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2"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44"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Wendy Payne</cp:lastModifiedBy>
  <dcterms:modified xsi:type="dcterms:W3CDTF">2014-04-07T21:17:28Z</dcterms:modified>
  <cp:revision>153</cp:revision>
  <dc:subject/>
  <dc:title>Slide 1</dc:title>
</cp:coreProperties>
</file>