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9C72D16-DFB7-4563-AF4D-8418E42BB9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240" cy="3600000"/>
          </a:xfrm>
          <a:prstGeom prst="rect">
            <a:avLst/>
          </a:prstGeom>
          <a:ln w="0">
            <a:noFill/>
          </a:ln>
        </p:spPr>
      </p:sp>
      <p:sp>
        <p:nvSpPr>
          <p:cNvPr id="386"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E9BB8AE3-C9FA-4699-B80B-BB2D5D4F6D86}"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39CF3-9A32-4F06-9C43-5C79EC6889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A921A-27CC-46A1-858F-698D02F42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F2201-D3B6-4542-B975-045CF865E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8978AA-7A69-48A4-82B7-E598EAB32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DD7C77-F7A0-4B8D-A5CF-8DFC07033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3F9A8-46D3-4D4D-B21D-AA425AC59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F75F87-5521-4CA4-9B01-BBAADC47F0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2C8F59-7ECD-463F-A5E7-D540627D5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2FDC6-B36D-44E2-B30E-6ADD27475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7EC2C-D51A-4571-B7DD-9FA3D8FA6A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C134-643C-4E96-9F20-8EF6B4E08C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8D964-6B3B-449C-A5FC-8DD2EBFA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D56E4-0D91-4E96-90BA-82A6C677C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EA75C-21A5-4607-B7CB-1982AF4BC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A776D-69BC-4CE4-ACF0-50C115AB2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10E92C-6033-4510-8DA4-ADB4F20AD5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C9BDA2-517E-42AD-B9AD-B3FACC0B3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251F01-583A-4D18-BFDB-A59FC33F7CE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F53A5-4E54-46CF-B08D-AF71A4A5C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B48FBB-EB54-42F4-812A-228BEA898E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E96EA-865D-4F59-B069-9B4CEEFAC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2033FC-8EA3-4182-A920-18EB5BE4AD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E589E-4AA0-4DA8-96FC-25D7B2EEA4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86339A-A736-4931-85F5-C4981667B0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5AC6A-BE84-4383-A449-2E35D7E8E1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BB2107-67A1-44D4-BFF6-3A18840AA4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B41BAE-4F96-4386-B437-2923AC0BF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7C604-3360-4D30-9584-25F54123CB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D2BEC3-B747-4D9E-ABB1-757AD08CE5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15468F-5229-4126-8274-E6A3A13A79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6F3C3A-F515-4777-8482-7A8143149B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AE9203-9D35-444A-8E5A-9AF87C967F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7C123-F7FA-4D9A-9446-F875FB9435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34B8F-BCD2-46A1-87E5-AFB9B543F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8D53C0-DC0A-4014-8C2B-F856F3E60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5AA206-C8C0-4D21-BCFB-26E9284414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740D9A7-F20A-45DE-82A1-6B1B80C402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B143B4-75AE-4C30-AE8F-0035D60675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9013C-70EA-49B0-B553-3700E8CE8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C1FA50-C434-4843-8612-C5DEB39E7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766085-506E-41CA-9B7A-35535E3946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557760F-F538-409C-B181-5B6F2BD77C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2CFC57-B940-448D-9117-0481D49F07F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729846-39EB-4C6E-B5ED-6268792922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504B-3C28-46B7-A39F-52D451875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E03D5-3DBE-4C22-8373-E9276DD08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DAD10F-EDDB-4750-9614-612A005129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71BE54-2121-4B10-A484-C2AA674BFE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496F1B-E430-440B-8AD1-2646F981C6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D6887-C031-4C24-9F65-C5F185B02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1039B8-8750-4905-8DC0-ED70976673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E410F-9F91-4064-84EE-F1724D4C0A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5E5FC4-1753-416A-92A0-E5A6A417EC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1336B0-5702-4571-B7DC-CB9F182A40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823602-3597-4A00-80EE-5A2C522741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2214BC-5148-4CA9-B057-F422C3706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38C8D11-86F8-49D7-82E4-39BF4DDF0B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3DC3709-5B63-4C6B-B5C4-E94118D353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5699AF-7E32-445F-A36E-C237FC6633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0D93C2-32E5-462B-8D98-C79962D881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69B90F-E8A7-4A03-B13C-4A20C526D1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71F3933-51C4-4A1B-BC83-DAF64085F2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64054C-2EC9-47F1-8788-4B2EAFDB03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017573-3A0C-4231-BB6A-1A0777928B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9A3FB2-F70C-46AB-B934-36401BCB1F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2AB0A-481D-4C67-868F-FF51C96336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41E8C-B81B-44B1-88F5-D220CF3F33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7D8F0F-5073-46AA-BEAF-B24CA3158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019903-0AF4-4527-AFCE-349996D8B6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F0C5D0-5EA6-4DEE-9605-48E3E1B370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F7F4FD-9DE5-4086-90C6-F0507737E0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FAA98D-8A94-43C0-8A3F-E594BCF4D3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0C2C44-B92E-4004-8791-21C833CF3B2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664448-A2C5-4150-AC1A-156BB9C32D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5026CA-645A-40D3-9EB3-3E50F5978C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31817A-4DA2-493A-8B90-3C3450E9EE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318113-44CE-4DA4-87A7-123DC5107A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74257A-41BB-4E52-9590-213DA476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5DD883-D132-4D48-9B98-EF178674CC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932C4-B12F-4D29-A254-4C200E63AB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65B166-1CAD-4BE5-A698-5CA64185C2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FCDB08-C396-4B56-AD0C-2E8F8BEFCB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3C8F15-816B-4ED7-947B-67562961DA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15B2C-6A29-4004-9F21-D85AB40429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2F684E5-6047-44DB-8D02-73CF236B3C2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A871E73-66F5-4B41-A55C-68DF72A62C5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A4558E9-CC5B-4E2C-A6A0-A4784D5110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02186F0-A961-4E11-A091-C0F9D3AB2C4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DCF2059-5F15-4E7E-90CF-71A256C7FD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8ABEFEFC-441A-4C29-A2A3-85A109B7590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09B9693-FAFD-4DCA-9958-3F6F71323A3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Roundtable Discussion  </a:t>
            </a:r>
            <a:br>
              <a:rPr sz="2400"/>
            </a:br>
            <a:br>
              <a:rPr sz="2400"/>
            </a:br>
            <a:r>
              <a:rPr b="1" i="1" lang="en-US" sz="2400" spc="-1" strike="noStrike">
                <a:solidFill>
                  <a:srgbClr val="000000"/>
                </a:solidFill>
                <a:latin typeface="Arial"/>
              </a:rPr>
              <a:t>Architect of the Capitol</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April 15,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C020E5D4-699F-4EA9-910E-95D665AC6A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C8C278D7-586E-4D0F-9BDC-77837B0822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E8B74621-9F5B-4EAC-A4E8-C02DFE2C4E2B}"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A1A3D2CD-2C80-465D-8A9F-E7D8B6155EDA}"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3ED01BF6-7BFE-4DE0-882E-58E08AFDF098}"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5A7CC076-F560-4E4A-A659-F8C0615A97CE}"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1B732C86-8238-458E-B03E-46843CEB1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Contractual </a:t>
            </a:r>
            <a:r>
              <a:rPr b="0" lang="en-US" sz="2400" spc="-1" strike="noStrike">
                <a:solidFill>
                  <a:srgbClr val="ff0000"/>
                </a:solidFill>
                <a:latin typeface="Arial"/>
              </a:rPr>
              <a:t>provisions for termination/exit payments and </a:t>
            </a:r>
            <a:r>
              <a:rPr b="0" lang="en-US" sz="2400" spc="-1" strike="noStrike">
                <a:solidFill>
                  <a:srgbClr val="000000"/>
                </a:solidFill>
                <a:latin typeface="Arial"/>
              </a:rPr>
              <a:t>related</a:t>
            </a:r>
            <a:r>
              <a:rPr b="0" lang="en-US" sz="2400" spc="-1" strike="noStrike">
                <a:solidFill>
                  <a:srgbClr val="ff0000"/>
                </a:solidFill>
                <a:latin typeface="Arial"/>
              </a:rPr>
              <a:t> amounts.</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0C0DB161-A15D-4AB6-A54C-D4F027AF9F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0">
              <a:lnSpc>
                <a:spcPct val="100000"/>
              </a:lnSpc>
              <a:spcBef>
                <a:spcPts val="479"/>
              </a:spcBef>
              <a:buNone/>
              <a:tabLst>
                <a:tab algn="l" pos="0"/>
              </a:tabLst>
            </a:pPr>
            <a:r>
              <a:rPr b="0" lang="en-US" sz="2400" spc="-1" strike="noStrike">
                <a:solidFill>
                  <a:srgbClr val="ff0000"/>
                </a:solidFill>
                <a:latin typeface="Arial"/>
              </a:rPr>
              <a:t>7. 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0">
              <a:lnSpc>
                <a:spcPct val="100000"/>
              </a:lnSpc>
              <a:spcBef>
                <a:spcPts val="479"/>
              </a:spcBef>
              <a:spcAft>
                <a:spcPts val="1199"/>
              </a:spcAft>
              <a:buNone/>
              <a:tabLst>
                <a:tab algn="l" pos="0"/>
              </a:tabLst>
            </a:pPr>
            <a:r>
              <a:rPr b="0" lang="en-US" sz="2400" spc="-1" strike="noStrike">
                <a:solidFill>
                  <a:srgbClr val="ff0000"/>
                </a:solidFill>
                <a:latin typeface="Arial"/>
              </a:rPr>
              <a:t>8. 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marL="457200" indent="0">
              <a:lnSpc>
                <a:spcPct val="100000"/>
              </a:lnSpc>
              <a:spcBef>
                <a:spcPts val="1199"/>
              </a:spcBef>
              <a:buNone/>
              <a:tabLst>
                <a:tab algn="l" pos="0"/>
              </a:tabLst>
            </a:pPr>
            <a:r>
              <a:rPr b="0" lang="en-US" sz="3200" spc="-1" strike="noStrike">
                <a:solidFill>
                  <a:srgbClr val="000000"/>
                </a:solidFill>
                <a:latin typeface="Arial"/>
              </a:rPr>
              <a:t>What do you think about the disclosures?</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Too Burdensome?</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Are they sufficient?</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How might they impact you or your organization?</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D2CE418E-2767-4059-8A3B-C9CE6579A2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600"/>
            <a:ext cx="3657240" cy="1161720"/>
          </a:xfrm>
          <a:prstGeom prst="rect">
            <a:avLst/>
          </a:prstGeom>
          <a:noFill/>
          <a:ln w="9360">
            <a:noFill/>
          </a:ln>
        </p:spPr>
        <p:txBody>
          <a:bodyPr numCol="1" spcCol="0" anchor="b">
            <a:noAutofit/>
          </a:bodyPr>
          <a:p>
            <a:pPr indent="0" algn="ctr">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8"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buNone/>
              <a:tabLst>
                <a:tab algn="l" pos="0"/>
              </a:tabLst>
            </a:pPr>
            <a:r>
              <a:rPr b="0" lang="en-US" sz="2800" spc="-1" strike="noStrike">
                <a:solidFill>
                  <a:srgbClr val="0000ff"/>
                </a:solidFill>
                <a:latin typeface="Arial"/>
              </a:rPr>
              <a:t>We invite your comments and suggestions so ask for a copy of the draft ED and get a head start!!</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80"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1058DF43-4D4A-4115-AA3B-31ACC1FE8B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2"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3" name="Picture 4" descr="FASAB Blue Logo"/>
          <p:cNvPicPr/>
          <p:nvPr/>
        </p:nvPicPr>
        <p:blipFill>
          <a:blip r:embed="rId4"/>
          <a:stretch/>
        </p:blipFill>
        <p:spPr>
          <a:xfrm>
            <a:off x="7696080" y="5715000"/>
            <a:ext cx="1218960" cy="891720"/>
          </a:xfrm>
          <a:prstGeom prst="rect">
            <a:avLst/>
          </a:prstGeom>
          <a:ln w="9525">
            <a:noFill/>
          </a:ln>
        </p:spPr>
      </p:pic>
      <p:sp>
        <p:nvSpPr>
          <p:cNvPr id="384"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938BDA62-51E4-4819-BD26-01FB974B973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DA3C0BE3-5402-4C28-8CDA-D4C450BC34D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250E81FE-711D-41D2-8163-BD786AE72CD2}"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4B64619F-DB30-4736-AEE1-F360C2C086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F11F2956-78D2-4304-BB0D-25FD4CABE2E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6F81238-457C-4D53-8C9F-16CAF66CDD7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D251EAF8-8A4A-41F3-AA70-D669C0F223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7FA0130D-0B5A-4170-A2CD-3DCDFB36BE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DB8348E8-F409-4346-8B8E-E9070B73069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2</TotalTime>
  <Application>LibreOffice/7.4.7.2$Linux_X86_64 LibreOffice_project/40$Build-2</Application>
  <AppVersion>15.0000</AppVersion>
  <Words>958</Words>
  <Paragraphs>12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4-07T14:01:09Z</dcterms:modified>
  <cp:revision>315</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9</vt:r8>
  </property>
</Properties>
</file>