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dt" idx="13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ftr" idx="14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 type="sldNum" idx="15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D43645-0905-43E4-BB47-10D6A65B00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Num" idx="26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A01ACBF-173B-4ACE-9E4A-5316D8984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3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Num" idx="27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9DA74B-590F-48F4-A2D1-D10B7F34A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3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Num" idx="28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B063085-E95E-4BBD-8AEA-DC85E4A08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3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Num" idx="29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0C57B23-A8A0-4AA9-AB7E-FFB9B5FE8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3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Num" idx="30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9391484-E33F-4FF7-A9C3-76AC88D30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3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Num" idx="31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DF85D2A-18DE-45A8-A8F7-12007EB4F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3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tral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ad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a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Zea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wa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ed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individuals appeared to seek data from a variety of perspectives, i.e. a Congressional staff member may seek data by function while another staff member may seek the data by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32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953C5B-8EDD-4819-BA91-BB6A8F5E7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individuals appeared to seek data from a variety of perspectives, i.e. a Congressional staff member may seek data by function while another staff member may seek the data by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buNone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tegic goals change over time even if programs do n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buNone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rategic goals are broad and analysis for decision making is not done at that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buNone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programs relate to multiple strategic go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ing cost and output (and eventually outcome) is still quite challeng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buNone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s are reported each period but outputs may not relate to the same period or occur immediate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buNone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s are often external to the organization but still contribute to the out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buNone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dgets are not structured with cost accounting in m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80000"/>
              </a:lnSpc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33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123613-19BB-47FD-B6FD-DE060AA20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Num" idx="34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312C52F-B94A-41BB-B395-94871D7D0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3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080" cy="34905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702360" y="4421880"/>
            <a:ext cx="5618160" cy="4188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35"/>
          </p:nvPr>
        </p:nvSpPr>
        <p:spPr>
          <a:xfrm>
            <a:off x="3978000" y="884196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55F576-1482-4B9D-93BE-A4C8A96E3AF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60DD-3575-42F7-AE36-F4704A830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C640-4B36-4075-9D60-8A4BCED17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EA36-7A34-4A2F-A843-8E7C9C580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D567-E310-46C2-B988-F7CB59C22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5E435-A892-4988-8832-D99C1B7FD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E993-2363-4BE7-BC15-F9AC2395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7A4F-87A7-464E-AFE6-ACA8B67F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B124-8B90-40ED-998C-240CDDC96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40C9E-8931-4F72-8E91-4F892135F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6EFB-1F96-4AC3-A07B-954B0172E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D742-9273-4966-8F0B-0E67F4E5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DD33-EE35-46E7-A279-8563D3FD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6CF0-0DAF-454E-B9FC-F95CFF6D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383A-9B04-4DF8-903B-3081445C0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E348E-311B-481C-9605-A30A4E981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C09A-F775-457B-B6B3-D88F3B8A2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0EA2-5DFF-4A07-9FC0-0870022CB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D4479-763E-42BC-9DB2-DA3F72820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23B64-DE6E-4327-B1CF-57C90AAA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98365-00DB-49BC-860A-14CBE10E6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7A6CB-BAEF-4A2C-A618-36C99DC3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C5F77-9602-46A2-8035-70D208CA7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0E14-7E1E-4E78-8DA0-E50B79C9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FC3F8-AACD-4DA3-9981-F87E30CB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672C4-2333-469E-9CDD-5802E87C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A700C-1F8F-4D58-B1B4-F834919B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07C91-52E0-4010-A628-35916746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8ED05-F3B9-4E9E-8B86-769504F9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A327E-250F-4145-B9E0-09C5BD9BA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45789-3AE3-4100-BE43-37A19416F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A4B90-89CC-4DD0-B3A2-88F424FAA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16F97-5DC2-419C-B793-9B2ABB279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D3EF3-20B2-42D4-846E-56730054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93A5-0018-46D0-BE83-084A2D36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19E25-4A2B-41C1-8F38-83AD4533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10AB2-118F-4960-8E5B-DF928C64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71EFF-54AD-4088-96AC-6C9406A9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F3111-4766-42F6-910E-AF37A589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166C4-5943-46D7-B28D-FB36A658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0309F-65C3-4B38-9268-97C228E0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910BB-FE3A-44C2-817D-1529BD8A4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0F907-C90F-48CD-9E25-995553C73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2741760"/>
            <a:ext cx="26496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0E3BE-53BC-44EC-AF01-ABF6DA7E0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1ACE-6BA9-412B-9F38-899B69BD3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4FDA-925D-400D-ABC8-82211B6B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6C23-AD94-4DA4-A54D-CDC352F4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274176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5584-2FD7-44CE-AFD2-FB97B964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41760"/>
            <a:ext cx="8229240" cy="10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4752-98AF-411F-8A71-F6737B3E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 hidden="1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" name="Rounded Rectangle 8" hidden="1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2" name="Rounded Rectangle 14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3" name="Rounded Rectangle 9"/>
          <p:cNvSpPr/>
          <p:nvPr/>
        </p:nvSpPr>
        <p:spPr>
          <a:xfrm>
            <a:off x="418680" y="434160"/>
            <a:ext cx="8306280" cy="3108600"/>
          </a:xfrm>
          <a:prstGeom prst="roundRect">
            <a:avLst>
              <a:gd name="adj" fmla="val 4578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500" spc="-1" strike="noStrike">
                <a:solidFill>
                  <a:srgbClr val="ff9257"/>
                </a:solidFill>
                <a:latin typeface="Verdana"/>
              </a:rPr>
              <a:t>Click to edit Master title style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F3CC50-A672-4927-858D-89AACB487AFB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6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4200" indent="-18288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280160" indent="-182880">
              <a:lnSpc>
                <a:spcPct val="100000"/>
              </a:lnSpc>
              <a:spcBef>
                <a:spcPts val="249"/>
              </a:spcBef>
              <a:buClr>
                <a:srgbClr val="4e82bc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4200" indent="-18288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280160" indent="-182880">
              <a:lnSpc>
                <a:spcPct val="100000"/>
              </a:lnSpc>
              <a:spcBef>
                <a:spcPts val="249"/>
              </a:spcBef>
              <a:buClr>
                <a:srgbClr val="4e82bc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5F94B0-DC94-4407-B678-BB37E8183A1F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ounded Rectangle 6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90" name="Rounded Rectangle 8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02920" y="5302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4200" indent="-18288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280160" indent="-182880">
              <a:lnSpc>
                <a:spcPct val="100000"/>
              </a:lnSpc>
              <a:spcBef>
                <a:spcPts val="249"/>
              </a:spcBef>
              <a:buClr>
                <a:srgbClr val="4e82bc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E6EE240-32F0-4ED0-AE0F-BBF192FF897A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ounded Rectangle 6"/>
          <p:cNvSpPr/>
          <p:nvPr/>
        </p:nvSpPr>
        <p:spPr>
          <a:xfrm>
            <a:off x="304920" y="329040"/>
            <a:ext cx="8531640" cy="6196320"/>
          </a:xfrm>
          <a:prstGeom prst="roundRect">
            <a:avLst>
              <a:gd name="adj" fmla="val 2081"/>
            </a:avLst>
          </a:prstGeom>
          <a:gradFill rotWithShape="0">
            <a:gsLst>
              <a:gs pos="98000">
                <a:srgbClr val="ffffff"/>
              </a:gs>
              <a:gs pos="100000">
                <a:srgbClr val="f7f7f7"/>
              </a:gs>
            </a:gsLst>
            <a:lin ang="5400000"/>
          </a:gradFill>
          <a:ln cap="rnd" w="2000">
            <a:solidFill>
              <a:srgbClr val="a4a4a3"/>
            </a:solidFill>
            <a:round/>
          </a:ln>
          <a:effectLst>
            <a:outerShdw algn="tl" blurRad="76320" dir="5400000" dist="50760" rotWithShape="0">
              <a:srgbClr val="000000">
                <a:alpha val="2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33" name="Rounded Rectangle 8"/>
          <p:cNvSpPr/>
          <p:nvPr/>
        </p:nvSpPr>
        <p:spPr>
          <a:xfrm>
            <a:off x="418680" y="434160"/>
            <a:ext cx="8306280" cy="5486040"/>
          </a:xfrm>
          <a:prstGeom prst="roundRect">
            <a:avLst>
              <a:gd name="adj" fmla="val 2127"/>
            </a:avLst>
          </a:prstGeom>
          <a:gradFill rotWithShape="0">
            <a:gsLst>
              <a:gs pos="0">
                <a:srgbClr val="ffffff"/>
              </a:gs>
              <a:gs pos="100000">
                <a:srgbClr val="a1a1a1"/>
              </a:gs>
            </a:gsLst>
            <a:path path="circle">
              <a:fillToRect l="50000" t="100000" r="50000" b="0"/>
            </a:path>
          </a:gradFill>
          <a:ln w="8890">
            <a:noFill/>
          </a:ln>
          <a:effectLst>
            <a:outerShdw blurRad="65520" dir="5400000" dist="38160" rotWithShape="0">
              <a:srgbClr val="000000">
                <a:alpha val="4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Click to edit Master title sty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2185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4200" indent="-18288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280160" indent="-182880">
              <a:lnSpc>
                <a:spcPct val="100000"/>
              </a:lnSpc>
              <a:spcBef>
                <a:spcPts val="249"/>
              </a:spcBef>
              <a:buClr>
                <a:srgbClr val="4e82bc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body"/>
          </p:nvPr>
        </p:nvSpPr>
        <p:spPr>
          <a:xfrm>
            <a:off x="457200" y="3938760"/>
            <a:ext cx="8229240" cy="2187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4200" indent="-18288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280160" indent="-182880">
              <a:lnSpc>
                <a:spcPct val="100000"/>
              </a:lnSpc>
              <a:spcBef>
                <a:spcPts val="249"/>
              </a:spcBef>
              <a:buClr>
                <a:srgbClr val="4e82bc"/>
              </a:buClr>
              <a:buFont typeface="Wingdings 2" charset="2"/>
              <a:buChar char="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dt" idx="10"/>
          </p:nvPr>
        </p:nvSpPr>
        <p:spPr>
          <a:xfrm>
            <a:off x="3776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a7a49a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1"/>
          </p:nvPr>
        </p:nvSpPr>
        <p:spPr>
          <a:xfrm>
            <a:off x="6062400" y="6111720"/>
            <a:ext cx="22856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2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073695-ADA1-41E7-8F56-01A2BA2A7995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mailto:fasab@fasab.gov" TargetMode="External"/><Relationship Id="rId2" Type="http://schemas.openxmlformats.org/officeDocument/2006/relationships/hyperlink" Target="http://www.fasab.gov/" TargetMode="External"/><Relationship Id="rId3" Type="http://schemas.openxmlformats.org/officeDocument/2006/relationships/hyperlink" Target="mailto:paynew@fasab.gov" TargetMode="External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asab.gov/about/our-annual-reports/" TargetMode="External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500" spc="-1" strike="noStrike">
                <a:solidFill>
                  <a:srgbClr val="ff9257"/>
                </a:solidFill>
                <a:latin typeface="Verdana"/>
              </a:rPr>
              <a:t>2014 CIGIE/GAO </a:t>
            </a: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22520" y="3684960"/>
            <a:ext cx="7772040" cy="1115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5000" anchor="t">
            <a:normAutofit/>
          </a:bodyPr>
          <a:p>
            <a:pPr marL="36720"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3000" spc="-1" strike="noStrike">
                <a:solidFill>
                  <a:srgbClr val="7c7972"/>
                </a:solidFill>
                <a:latin typeface="Verdana"/>
              </a:rPr>
              <a:t>FASAB Upd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720"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7c7972"/>
                </a:solidFill>
                <a:latin typeface="Verdana"/>
              </a:rPr>
              <a:t>Wendy Payne, CPA, CGF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720" indent="0" algn="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720" indent="0" algn="r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FASAB Blue Logo"/>
          <p:cNvPicPr/>
          <p:nvPr/>
        </p:nvPicPr>
        <p:blipFill>
          <a:blip r:embed="rId1"/>
          <a:stretch/>
        </p:blipFill>
        <p:spPr>
          <a:xfrm>
            <a:off x="380880" y="4876920"/>
            <a:ext cx="1904760" cy="13950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5"/>
          <p:cNvSpPr/>
          <p:nvPr/>
        </p:nvSpPr>
        <p:spPr>
          <a:xfrm>
            <a:off x="3962520" y="5562720"/>
            <a:ext cx="411444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6720" algn="r">
              <a:lnSpc>
                <a:spcPct val="100000"/>
              </a:lnSpc>
            </a:pPr>
            <a:r>
              <a:rPr b="0" lang="en-US" sz="2000" spc="-1" strike="noStrike">
                <a:solidFill>
                  <a:srgbClr val="7c7972"/>
                </a:solidFill>
                <a:latin typeface="Verdana"/>
              </a:rPr>
              <a:t>Thursday, May 8,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720" algn="r">
              <a:lnSpc>
                <a:spcPct val="100000"/>
              </a:lnSpc>
            </a:pPr>
            <a:r>
              <a:rPr b="0" lang="en-US" sz="2000" spc="-1" strike="noStrike">
                <a:solidFill>
                  <a:srgbClr val="7c7972"/>
                </a:solidFill>
                <a:latin typeface="Verdana"/>
              </a:rPr>
              <a:t>8:40 – 9:30 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3906-069E-449E-921D-DF6C218F56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457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7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esearch Projects </a:t>
            </a:r>
            <a:r>
              <a:rPr b="1" lang="en-US" sz="1600" spc="-1" strike="noStrike">
                <a:solidFill>
                  <a:srgbClr val="ff9257"/>
                </a:solidFill>
                <a:latin typeface="Verdana"/>
              </a:rPr>
              <a:t>(cont.) 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83520" cy="4343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nciling Budget and Accrual Informa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vernment-wide Reconcilia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et Cost to the Surplus(Deficit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-265320">
              <a:lnSpc>
                <a:spcPct val="100000"/>
              </a:lnSpc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onent Entity Reconciliatio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758880" indent="-182880">
              <a:lnSpc>
                <a:spcPct val="100000"/>
              </a:lnSpc>
              <a:buClr>
                <a:srgbClr val="ea3a45"/>
              </a:buClr>
              <a:buSzPct val="112000"/>
              <a:buFont typeface="Verdana"/>
              <a:buChar char="◦"/>
              <a:tabLst>
                <a:tab algn="l" pos="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‘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Net Cost’ to ‘Obligations Incurred and Other Resources’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283320" indent="-201240">
              <a:lnSpc>
                <a:spcPct val="100000"/>
              </a:lnSpc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derstandability (Terminology, Notes, Sequenc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7A61F-887E-4539-B695-D574969007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Other Potential Projec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Repor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t Retirement Oblig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angi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en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mary or Popular Repor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earch and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22520" y="1820160"/>
            <a:ext cx="7772040" cy="18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ff9257"/>
                </a:solidFill>
                <a:latin typeface="Verdana"/>
              </a:rPr>
              <a:t>WHICH PROJECTS DO YOU THINK ARE MOST IMPORTANT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14CD-37F9-41DC-8619-EFFA9E9721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Be Hear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rial Cost &amp; Linking Cost to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x Expendit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il and Gas Resou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nciling Budget and Accrual Inf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nic Repor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et Retirement Oblig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angi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en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mary or Popular Repor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earch and Develop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F479-0339-48DC-83C9-1FBC453A51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762120" y="1828800"/>
            <a:ext cx="7772040" cy="1057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6000" spc="-1" strike="noStrike">
                <a:solidFill>
                  <a:srgbClr val="ff9257"/>
                </a:solidFill>
                <a:latin typeface="Verdana"/>
              </a:rPr>
              <a:t>Current Projects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93B2-C0E6-42E5-BBF8-BEFFC20841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ff9257"/>
                </a:solidFill>
                <a:latin typeface="Verdana"/>
              </a:rPr>
              <a:t>Federal Reporting Entity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240" cy="4038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SAB established concepts in mid-90’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ards now being develop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17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D99CB5-56B3-4800-9BB1-663F72F1CF5C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15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815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9257"/>
                </a:solidFill>
                <a:latin typeface="Verdana"/>
              </a:rPr>
              <a:t>Federal Reporting Entity </a:t>
            </a:r>
            <a:r>
              <a:rPr b="1" lang="en-US" sz="1800" spc="-1" strike="noStrike">
                <a:solidFill>
                  <a:srgbClr val="ff9257"/>
                </a:solidFill>
                <a:latin typeface="Verdana"/>
              </a:rPr>
              <a:t>(CONT.) </a:t>
            </a:r>
            <a:br>
              <a:rPr sz="3200"/>
            </a:br>
            <a:r>
              <a:rPr b="1" lang="en-US" sz="3200" spc="-1" strike="noStrike">
                <a:solidFill>
                  <a:srgbClr val="ff9257"/>
                </a:solidFill>
                <a:latin typeface="Verdana"/>
              </a:rPr>
              <a:t>– Proposal –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240" cy="4038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lude in General Purpose Federal Financial Reports (GPFFR) all organizati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dgeted for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with potential for risk or reward, or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w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786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es not specifically address particular entiti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s for judgment abou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lus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assific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sclosur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18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04EF3B-7577-4A9B-8693-E3DAEDF9C48C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1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8229240" cy="4038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tinguish between consolidation entiti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disclosu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entiti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sngStrike">
                <a:solidFill>
                  <a:srgbClr val="000000"/>
                </a:solidFill>
                <a:latin typeface="Verdana"/>
              </a:rPr>
              <a:t>organiz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Consolidation entitie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pported by general taxes, an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n-going decision making, and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e more clearly linked to elected officials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tion for consolidation entities is to be consolidated in financial statemen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ldNum" idx="19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3B99B7-DBC8-483E-B673-88BEDFD3F28B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17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457200" y="380880"/>
            <a:ext cx="838152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9257"/>
                </a:solidFill>
                <a:latin typeface="Verdana"/>
              </a:rPr>
              <a:t>Federal Reporting Entity </a:t>
            </a:r>
            <a:r>
              <a:rPr b="1" lang="en-US" sz="1800" spc="-1" strike="noStrike">
                <a:solidFill>
                  <a:srgbClr val="ff9257"/>
                </a:solidFill>
                <a:latin typeface="Verdana"/>
              </a:rPr>
              <a:t>(CONT.) </a:t>
            </a:r>
            <a:br>
              <a:rPr sz="3600"/>
            </a:br>
            <a:r>
              <a:rPr b="1" lang="en-US" sz="3200" spc="-1" strike="noStrike">
                <a:solidFill>
                  <a:srgbClr val="ff9257"/>
                </a:solidFill>
                <a:latin typeface="Verdana"/>
              </a:rPr>
              <a:t>– Proposal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8229240" cy="4038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Disclosure entitie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what independent from elected officials, and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6240" indent="-18288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y be financially self-sustaining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formation regarding such organizations is to be disclosed in notes with an emphasis on ris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ldNum" idx="20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5F697CA-71C7-4FD5-8124-CA62D11A4534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1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57200" y="380880"/>
            <a:ext cx="838152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/>
          </a:bodyPr>
          <a:p>
            <a:pPr>
              <a:lnSpc>
                <a:spcPct val="100000"/>
              </a:lnSpc>
            </a:pPr>
            <a:r>
              <a:rPr b="1" lang="en-US" sz="3200" spc="-1" strike="noStrike">
                <a:solidFill>
                  <a:srgbClr val="ff9257"/>
                </a:solidFill>
                <a:latin typeface="Verdana"/>
              </a:rPr>
              <a:t>Federal Reporting Entity </a:t>
            </a:r>
            <a:r>
              <a:rPr b="1" lang="en-US" sz="1800" spc="-1" strike="noStrike">
                <a:solidFill>
                  <a:srgbClr val="ff9257"/>
                </a:solidFill>
                <a:latin typeface="Verdana"/>
              </a:rPr>
              <a:t>(CONT.) </a:t>
            </a:r>
            <a:br>
              <a:rPr sz="3600"/>
            </a:br>
            <a:r>
              <a:rPr b="1" lang="en-US" sz="3200" spc="-1" strike="noStrike">
                <a:solidFill>
                  <a:srgbClr val="ff9257"/>
                </a:solidFill>
                <a:latin typeface="Verdana"/>
              </a:rPr>
              <a:t>– Proposal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400" spc="-1" strike="noStrike">
                <a:solidFill>
                  <a:srgbClr val="ff9257"/>
                </a:solidFill>
                <a:latin typeface="Verdana"/>
              </a:rPr>
              <a:t>Federal Reporting Entity </a:t>
            </a:r>
            <a:r>
              <a:rPr b="1" lang="en-US" sz="1800" spc="-1" strike="noStrike">
                <a:solidFill>
                  <a:srgbClr val="ff9257"/>
                </a:solidFill>
                <a:latin typeface="Verdana"/>
              </a:rPr>
              <a:t>(CONT.) </a:t>
            </a:r>
            <a:br>
              <a:rPr sz="4000"/>
            </a:br>
            <a:r>
              <a:rPr b="1" lang="en-US" sz="3200" spc="-1" strike="noStrike">
                <a:solidFill>
                  <a:srgbClr val="ff9257"/>
                </a:solidFill>
                <a:latin typeface="Verdana"/>
              </a:rPr>
              <a:t>– Proposal –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040" cy="4038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83000"/>
          </a:bodyPr>
          <a:p>
            <a:pPr marL="258840" indent="-2588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address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35320" indent="-196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at entities are subject to SFFAS 34 – the GAAP hierarchy for federal enti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35320" indent="-196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at organizations to include in component reporting entity GPFF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35320" indent="-196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ow to deal with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67520" indent="-17820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SB-basis information for consolidation ent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767520" indent="-17820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fferent year ends for disclosure organiz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35320" indent="-196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lated par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35320" indent="-196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mendments to SFFAC 2,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Entity and Displa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3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8840" indent="-2588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ternative View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35320" indent="-196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rganizations in receivership, conservatorship, or owned/controlled through interventions should not be equated with other disclosure organiza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35320" indent="-1962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l interventions should be addressed in a single standard on risk assum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Num" idx="21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C19CF2-53DA-4804-B430-C57DEF784F82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19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57000"/>
          </a:bodyPr>
          <a:p>
            <a:pPr indent="0">
              <a:lnSpc>
                <a:spcPct val="100000"/>
              </a:lnSpc>
              <a:buNone/>
            </a:pP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9257"/>
                </a:solidFill>
                <a:latin typeface="Verdana"/>
              </a:rPr>
              <a:t>Disclaim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560" cy="4068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s expressed are those of the speake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Board expresses its views in official publication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16"/>
          </p:nvPr>
        </p:nvSpPr>
        <p:spPr>
          <a:xfrm>
            <a:off x="6705720" y="601992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878454-E48D-4D80-9C78-219B31110BE4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2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73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eporting Model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534160" cy="4038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99000"/>
          </a:bodyPr>
          <a:p>
            <a:pPr marL="262440" indent="-2624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eking to enhance the benefits of accrual basis financial stat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440" indent="-2624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put to the Boar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199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ser needs surveys, focus groups, and roundta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199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SAB Task Force on Government-wide Financial Report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Dec 2010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199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FO Act 20-Year Repor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199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put from task forces focusing on agency level reporting on cost, budget and perform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199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tement of spending pilo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199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udy of other sovereign government practic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2880" indent="-19908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APA Stud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Num" idx="22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A998DB-F51D-4C4F-9698-49662D0880F1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20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152920" cy="4114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78000"/>
          </a:bodyPr>
          <a:p>
            <a:pPr marL="223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icipants want particular or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pecialized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3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to meet their need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32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62240" indent="-1695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nderstandabilit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f financial inform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62240" indent="-1695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entralized sourc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 obtaining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62760" indent="-154080">
              <a:lnSpc>
                <a:spcPct val="8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ove toward real-time data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662760" indent="-154080">
              <a:lnSpc>
                <a:spcPct val="8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ress program managers nee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62240" indent="-1695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egrated da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662760" indent="-154080">
              <a:lnSpc>
                <a:spcPct val="8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  <a:tabLst>
                <a:tab algn="l" pos="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inancial and non-financial performance infor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462240" indent="-1695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gram level cost inform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62240" indent="-1695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rward-looking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formation in agency repor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ldNum" idx="23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4BF487-CAC4-4DC5-BB2F-2C8976EEB08C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21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457200" y="380880"/>
            <a:ext cx="82292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71000"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f9257"/>
                </a:solidFill>
                <a:latin typeface="Verdana"/>
              </a:rPr>
              <a:t>Reporting Model </a:t>
            </a:r>
            <a:r>
              <a:rPr b="1" lang="en-US" sz="2300" spc="-1" strike="noStrike">
                <a:solidFill>
                  <a:srgbClr val="ff9257"/>
                </a:solidFill>
                <a:latin typeface="Verdana"/>
              </a:rPr>
              <a:t>(cont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– </a:t>
            </a: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esearch Results 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380880" y="1295280"/>
            <a:ext cx="8381520" cy="4266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87000"/>
          </a:bodyPr>
          <a:p>
            <a:pPr marL="249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rovement Needed in 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tement of Net Cos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15520" indent="-1890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w - cost by strategic go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15520" indent="-1890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 prefer to focus on “cost” by organizations, programs, or projec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15520" indent="-1890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tching cost and output (and eventually outcome) is not so easy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15520" indent="-1890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ame terms used differently by different disciplines (cost per the budget versus cost per accrual principles versus cost per program evaluato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49120" indent="-24912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USTOMIZATION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ldNum" idx="24"/>
          </p:nvPr>
        </p:nvSpPr>
        <p:spPr>
          <a:xfrm>
            <a:off x="6629400" y="5867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5C6AFB-B098-4845-BFF7-D2A80DE4F2BA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22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2"/>
          <p:cNvSpPr/>
          <p:nvPr/>
        </p:nvSpPr>
        <p:spPr>
          <a:xfrm>
            <a:off x="457200" y="380880"/>
            <a:ext cx="82292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rmAutofit fontScale="45000"/>
          </a:bodyPr>
          <a:p>
            <a:pPr>
              <a:lnSpc>
                <a:spcPct val="100000"/>
              </a:lnSpc>
            </a:pPr>
            <a:r>
              <a:rPr b="1" lang="en-US" sz="5800" spc="-1" strike="noStrike">
                <a:solidFill>
                  <a:srgbClr val="ff9257"/>
                </a:solidFill>
                <a:latin typeface="Verdana"/>
              </a:rPr>
              <a:t>Reporting Model </a:t>
            </a:r>
            <a:r>
              <a:rPr b="1" lang="en-US" sz="2900" spc="-1" strike="noStrike">
                <a:solidFill>
                  <a:srgbClr val="ff9257"/>
                </a:solidFill>
                <a:latin typeface="Verdana"/>
              </a:rPr>
              <a:t>(cont.)</a:t>
            </a:r>
            <a:r>
              <a:rPr b="1" lang="en-US" sz="4000" spc="-1" strike="noStrike">
                <a:solidFill>
                  <a:srgbClr val="ff9257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5800" spc="-1" strike="noStrike">
                <a:solidFill>
                  <a:srgbClr val="ff9257"/>
                </a:solidFill>
                <a:latin typeface="Verdana"/>
              </a:rPr>
              <a:t>– </a:t>
            </a:r>
            <a:r>
              <a:rPr b="1" lang="en-US" sz="5800" spc="-1" strike="noStrike">
                <a:solidFill>
                  <a:srgbClr val="ff9257"/>
                </a:solidFill>
                <a:latin typeface="Verdana"/>
              </a:rPr>
              <a:t>Research Results </a:t>
            </a:r>
            <a:r>
              <a:rPr b="1" lang="en-US" sz="6000" spc="-1" strike="noStrike">
                <a:solidFill>
                  <a:srgbClr val="ff9257"/>
                </a:solidFill>
                <a:latin typeface="Verdana"/>
              </a:rPr>
              <a:t>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24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5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eporting Model </a:t>
            </a:r>
            <a:r>
              <a:rPr b="1" lang="en-US" sz="2000" spc="-1" strike="noStrike">
                <a:solidFill>
                  <a:srgbClr val="ff9257"/>
                </a:solidFill>
                <a:latin typeface="Verdana"/>
              </a:rPr>
              <a:t>(cont.) </a:t>
            </a:r>
            <a:br>
              <a:rPr sz="2000"/>
            </a:b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–</a:t>
            </a:r>
            <a:r>
              <a:rPr b="1" lang="en-US" sz="4000" spc="-1" strike="noStrike">
                <a:solidFill>
                  <a:srgbClr val="ff9257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Next Steps –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240" cy="3200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framework for integrate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orting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the ideal framework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n we define a roadmap to follow to reach the ideal framework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25"/>
          </p:nvPr>
        </p:nvSpPr>
        <p:spPr>
          <a:xfrm>
            <a:off x="8348400" y="611172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7a49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77A279-1959-493C-AA73-BB933F1EF0C7}" type="slidenum">
              <a:rPr b="0" lang="en-US" sz="1000" spc="-1" strike="noStrike">
                <a:solidFill>
                  <a:srgbClr val="a7a49a"/>
                </a:solidFill>
                <a:latin typeface="Verdana"/>
              </a:rPr>
              <a:t>23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2920" y="49834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Need for a Disclosure Frame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183520" cy="11426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97000"/>
          </a:bodyPr>
          <a:p>
            <a:pPr marL="25704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en-US" sz="3300" spc="-1" strike="noStrike">
                <a:solidFill>
                  <a:srgbClr val="ff9257"/>
                </a:solidFill>
                <a:latin typeface="Verdana"/>
              </a:rPr>
              <a:t>Is it Disclosed if it’s in a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5704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en-US" sz="3300" spc="-1" strike="noStrike">
                <a:solidFill>
                  <a:srgbClr val="ff9257"/>
                </a:solidFill>
                <a:latin typeface="Verdana"/>
              </a:rPr>
              <a:t>Mountain of Paper?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2" descr="C:\Documents and Settings\paynew\Local Settings\Temporary Internet Files\Content.IE5\1ORKMLMC\MP900422184[1].jpg"/>
          <p:cNvPicPr/>
          <p:nvPr/>
        </p:nvPicPr>
        <p:blipFill>
          <a:blip r:embed="rId1"/>
          <a:stretch/>
        </p:blipFill>
        <p:spPr>
          <a:xfrm>
            <a:off x="457200" y="1752480"/>
            <a:ext cx="8288280" cy="441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82114D-7C38-433B-8BBA-2F591760CD4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87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Disclosure Frameworks </a:t>
            </a:r>
            <a:br>
              <a:rPr sz="3600"/>
            </a:b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May be Com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183520" cy="2441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74000"/>
          </a:bodyPr>
          <a:p>
            <a:pPr marL="230760" indent="-2307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y do standards-setters require disclosur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0760" indent="-2307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 we really mean it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0760" indent="-2307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udgments about disclosures are costly for preparers and auditors while excessive disclosures are costly to users of inform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E6025-8053-4CE9-ADDB-6426E4A8BB1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6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7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ISK ASSUM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83520" cy="4343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urrent Standards ar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imited to insurance contracts and explicit guarantees (other than loan guarantee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hen implementing policy initiatives to stabilize financial markets and the economy, the federal government explicitly assumed risks previously considered by some to have implied backing of the federal governm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 order to meet the stewardship and operating performance objectives of federal financial reporting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t is important that the federal government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 all significant risks assume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not just risks related to insurance contracts and explicit guarante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EA401-DB78-4A0D-943B-5BD19B4FD4C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183520" cy="13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19000"/>
          </a:bodyPr>
          <a:p>
            <a:pPr indent="0">
              <a:lnSpc>
                <a:spcPct val="100000"/>
              </a:lnSpc>
              <a:buNone/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ISK ASSUMED (cont.) </a:t>
            </a:r>
            <a:br>
              <a:rPr sz="3600"/>
            </a:b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- Three Phases -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80000"/>
          </a:bodyPr>
          <a:p>
            <a:pPr marL="228960" indent="-228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I: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urance and [Non-Loan] Guarante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8960" indent="-228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II: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ntitlement Programs, including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679680" indent="-15804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tional Defense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679680" indent="-15804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urity and Disaster respons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679680" indent="-15804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ther potential effects on future outf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885600" indent="-15804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gulatory actions,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885600" indent="-158040">
              <a:lnSpc>
                <a:spcPct val="100000"/>
              </a:lnSpc>
              <a:spcBef>
                <a:spcPts val="230"/>
              </a:spcBef>
              <a:buClr>
                <a:srgbClr val="ea3a45"/>
              </a:buClr>
              <a:buSzPct val="112000"/>
              <a:buFont typeface="Verdana"/>
              <a:buChar char="◦"/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Government Sponsored Enterprises (GSEs), etc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28960" indent="-22896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ase III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679680" indent="-15804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mmitmen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679680" indent="-15804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blig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679680" indent="-158040">
              <a:lnSpc>
                <a:spcPct val="100000"/>
              </a:lnSpc>
              <a:spcBef>
                <a:spcPts val="249"/>
              </a:spcBef>
              <a:buClr>
                <a:srgbClr val="ea3a45"/>
              </a:buClr>
              <a:buFont typeface="Wingdings 2" charset="2"/>
              <a:buChar char=""/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ther risk are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40A7E-13BF-47D9-B28B-E9B93517F89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6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ISK ASSUMED </a:t>
            </a:r>
            <a:r>
              <a:rPr b="1" lang="en-US" sz="2000" spc="-1" strike="noStrike">
                <a:solidFill>
                  <a:srgbClr val="ff9257"/>
                </a:solidFill>
                <a:latin typeface="Verdana"/>
              </a:rPr>
              <a:t>(cont.)</a:t>
            </a:r>
            <a:br>
              <a:rPr sz="3600"/>
            </a:b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- Insurance &amp; Guarantee Phase -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83520" cy="4266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ask Force starting now to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e federal Insurance and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[Non-Loan]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uarantee progr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ensure all programs are captured in updated standards/disclosu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e measurement methodolog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are to Credit Reform account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nitor FASB Insurance Contracts Exposure Draft Statu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termine measurement mod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 ensure consistent reporting by all Insurance and Guarantee program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869F1-9E09-4FD0-94A7-597F7D28D63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68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Leas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183520" cy="1298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re all leases financings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53776-B2D5-49D1-8D1F-615002ECBB6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r Annual Report and Three-Year Pl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put and Overs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earch Projects and Potential Proj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of Current Project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deral Reporting Ent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orting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sk Assum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a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c-Private Partnership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3C90D-29E0-434A-9300-C5643143A6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818316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ASAB is partnering with GASB to develop standards for governmental organiza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ntative decision to establish a single model (with exceptions for short-term arrangements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eases create assets consisting of the “right to use” a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eases create liabilities consisting of the obligation to pay for the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focus may be on the interest cost associated with leas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6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Leases </a:t>
            </a:r>
            <a:r>
              <a:rPr b="1" lang="en-US" sz="1800" spc="-1" strike="noStrike">
                <a:solidFill>
                  <a:srgbClr val="ff9257"/>
                </a:solidFill>
                <a:latin typeface="Verdana"/>
              </a:rPr>
              <a:t>(cont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D2D88-AD94-4FA9-AE8E-920DA0719E1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60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4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Public-Private Partnershi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83160" cy="43430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77000"/>
          </a:bodyPr>
          <a:p>
            <a:pPr marL="240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ue to budget pressures, federal agencies ha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0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ingly turned to public-private partnership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0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e.g., PPPs, P3s) to accomplish go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0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0120" indent="-2401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nsparency of the full costs and risks of such partnerships  is the overall objec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0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0120" indent="-2401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fic objectives include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96440" indent="-181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fining terms (e.g., service concession arrangements, P3s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96440" indent="-181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ing guidance for the recognition and measurement of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96440" indent="-181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ts and liabiliti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96440" indent="-181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enues and expens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96440" indent="-181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sk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96440" indent="-18180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ider implications for other arrangements related to P3s (sale-leaseback or other long-term arrangement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3CDE4-AB2B-465D-85E8-905D008A2D3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183520" cy="129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ff9257"/>
                </a:solidFill>
                <a:latin typeface="Verdana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AFB86-BE7E-4593-81D7-F46B77FF4D8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240" cy="88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9257"/>
                </a:solidFill>
                <a:latin typeface="Verdana"/>
              </a:rPr>
              <a:t>Contact and Websit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240" cy="4038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97000"/>
          </a:bodyPr>
          <a:p>
            <a:pPr marL="257040" indent="-257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eral inquiries can be directed to </a:t>
            </a:r>
            <a:r>
              <a:rPr b="0" lang="en-US" sz="28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fasab@fasab.g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ne: 202 512-7350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 u="sng">
                <a:solidFill>
                  <a:srgbClr val="6b9f25"/>
                </a:solidFill>
                <a:uFillTx/>
                <a:latin typeface="Verdana"/>
                <a:hlinkClick r:id="rId2"/>
              </a:rPr>
              <a:t>www.FASAB.g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32080" indent="-19512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serv (sign up for email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2080" indent="-19512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osure Draf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2080" indent="-19512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tive Projects – assigned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7040" indent="-25704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can be reached at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32080" indent="-19512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 u="sng">
                <a:solidFill>
                  <a:srgbClr val="6b9f25"/>
                </a:solidFill>
                <a:uFillTx/>
                <a:latin typeface="Verdana"/>
                <a:hlinkClick r:id="rId3"/>
              </a:rPr>
              <a:t>paynew@fasab.go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2080" indent="-19512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202) 512-735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2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5455F-2965-41C1-8CF9-B2A3B606BEF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02920" y="530280"/>
            <a:ext cx="8183520" cy="594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47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en-US" sz="3400" spc="-1" strike="noStrike">
                <a:solidFill>
                  <a:srgbClr val="262626"/>
                </a:solidFill>
                <a:latin typeface="Verdana"/>
              </a:rPr>
              <a:t>FEDERAL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en-US" sz="3400" spc="-1" strike="noStrike">
                <a:solidFill>
                  <a:srgbClr val="262626"/>
                </a:solidFill>
                <a:latin typeface="Verdana"/>
              </a:rPr>
              <a:t>ACCOUNTING STANDARDS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1" lang="en-US" sz="3400" spc="-1" strike="noStrike">
                <a:solidFill>
                  <a:srgbClr val="262626"/>
                </a:solidFill>
                <a:latin typeface="Verdana"/>
              </a:rPr>
              <a:t>ADVISORY BOARD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i="1" lang="en-US" sz="9800" spc="-1" strike="noStrike">
                <a:solidFill>
                  <a:srgbClr val="0070c0"/>
                </a:solidFill>
                <a:latin typeface="Albertus MT Lt"/>
              </a:rPr>
              <a:t>Annual Report</a:t>
            </a:r>
            <a:r>
              <a:rPr b="0" i="1" lang="en-US" sz="80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Verdana"/>
              </a:rPr>
              <a:t>Fiscal Year Ended September 30, 2013</a:t>
            </a:r>
            <a:r>
              <a:rPr b="0" lang="en-US" sz="51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i="1" lang="en-US" sz="9800" spc="-1" strike="noStrike">
                <a:solidFill>
                  <a:srgbClr val="0070c0"/>
                </a:solidFill>
                <a:latin typeface="Albertus MT Lt"/>
              </a:rPr>
              <a:t>Three-Year Plan</a:t>
            </a:r>
            <a:r>
              <a:rPr b="0" i="1" lang="en-US" sz="8000" spc="-1" strike="noStrike">
                <a:solidFill>
                  <a:srgbClr val="0070c0"/>
                </a:solidFill>
                <a:latin typeface="Albertus MT Lt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Verdana"/>
              </a:rPr>
              <a:t>Fiscal Years 2014-2016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226440" indent="0" algn="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r>
              <a:rPr b="0" lang="en-US" sz="2200" spc="-1" strike="noStrike">
                <a:solidFill>
                  <a:srgbClr val="0070c0"/>
                </a:solidFill>
                <a:latin typeface="Verdana"/>
              </a:rPr>
              <a:t>Comments Requested by January 31, 2014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A3371-7A29-403A-91A7-1AE4A64F07B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18352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FASAB Annual Repor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ginning in 2010 FASAB was asked to issue an annual report to facilitate oversigh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19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http://www.fasab.gov/about/our-annual-reports/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rogress updat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mber feedback on continued conformance to the criteria for a GAAP-standards setting bod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bined with our Three-year pl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7862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9BC5B-3C7A-4DE0-A129-8A82ABF437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183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Three-Year Pla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5" name="Picture 2" descr="C:\Documents and Settings\paynew\Local Settings\Temporary Internet Files\Content.IE5\PI92ZBAH\MC900383284[1].wmf"/>
          <p:cNvPicPr/>
          <p:nvPr/>
        </p:nvPicPr>
        <p:blipFill>
          <a:blip r:embed="rId1"/>
          <a:stretch/>
        </p:blipFill>
        <p:spPr>
          <a:xfrm>
            <a:off x="1447920" y="1676520"/>
            <a:ext cx="4506480" cy="3504960"/>
          </a:xfrm>
          <a:prstGeom prst="rect">
            <a:avLst/>
          </a:prstGeom>
          <a:ln w="0">
            <a:noFill/>
          </a:ln>
        </p:spPr>
      </p:pic>
      <p:sp>
        <p:nvSpPr>
          <p:cNvPr id="196" name="TextBox 4"/>
          <p:cNvSpPr/>
          <p:nvPr/>
        </p:nvSpPr>
        <p:spPr>
          <a:xfrm>
            <a:off x="5181480" y="4724280"/>
            <a:ext cx="312372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Verdana"/>
              </a:rPr>
              <a:t>We need your inpu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B49A7-45CE-488E-BABB-D0B90337BB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esearch Projec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120" cy="4525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rial Cost Accounting and Linking Cost to 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nks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porting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PA Stud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5181480" y="457200"/>
            <a:ext cx="3504960" cy="5701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esearch Projects (cont.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6960" cy="4525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marL="265320" indent="-2653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ax Expendit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x provisions are often obscure and hard for citizens to understan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isions on tax expenditures are not made annually – so the performance of tax provisions is not monitored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egone revenue – is it the same as spending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9257"/>
                </a:solidFill>
                <a:latin typeface="Verdana"/>
              </a:rPr>
              <a:t>Research Projects (cont.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609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 fontScale="62000"/>
          </a:bodyPr>
          <a:p>
            <a:pPr marL="234720" indent="-23472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</a:pPr>
            <a:r>
              <a:rPr b="0" lang="en-US" sz="5000" spc="-1" strike="noStrike">
                <a:solidFill>
                  <a:srgbClr val="000000"/>
                </a:solidFill>
                <a:latin typeface="Verdana"/>
              </a:rPr>
              <a:t>Oil and Gas Resources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2057400"/>
            <a:ext cx="8229240" cy="4068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5000" anchor="t">
            <a:normAutofit/>
          </a:bodyPr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FY2013 - required supplemental information (RSI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SI should transition to recognition in FY2016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st - consider the results of the three-year RSI effort and provide guidance for the transi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8640" indent="-201240">
              <a:lnSpc>
                <a:spcPct val="10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ter transition - The value of petroleum resources under lease would be recognized as an asse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Aspect">
  <a:themeElements>
    <a:clrScheme name="Aspect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Aspect">
  <a:themeElements>
    <a:clrScheme name="Aspect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Aspect">
  <a:themeElements>
    <a:clrScheme name="Aspect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Aspect">
  <a:themeElements>
    <a:clrScheme name="Aspect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spect</Template>
  <TotalTime>1293</TotalTime>
  <Application>LibreOffice/7.4.7.2$Linux_X86_64 LibreOffice_project/40$Build-2</Application>
  <AppVersion>15.0000</AppVersion>
  <Words>1491</Words>
  <Paragraphs>312</Paragraphs>
  <Company>GAO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8T21:02:55Z</dcterms:created>
  <dc:creator>Wendy Payne</dc:creator>
  <dc:description/>
  <dc:language>en-US</dc:language>
  <cp:lastModifiedBy>Wendy Payne</cp:lastModifiedBy>
  <dcterms:modified xsi:type="dcterms:W3CDTF">2014-04-11T15:19:00Z</dcterms:modified>
  <cp:revision>215</cp:revision>
  <dc:subject/>
  <dc:title>Baltimore Chapter of the Association of Government Account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0</vt:r8>
  </property>
  <property fmtid="{D5CDD505-2E9C-101B-9397-08002B2CF9AE}" pid="3" name="PresentationFormat">
    <vt:lpwstr>On-screen Show (4:3)</vt:lpwstr>
  </property>
  <property fmtid="{D5CDD505-2E9C-101B-9397-08002B2CF9AE}" pid="4" name="Slides">
    <vt:r8>33</vt:r8>
  </property>
</Properties>
</file>