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911E7B-1006-40D3-BDCC-12D7B9B6B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Num" idx="26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E1A232-A328-41D1-8491-DBE9E6C9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Num" idx="27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4AF291-B526-4907-AB93-6B27BF84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8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8F2716-EAC7-40F7-88CE-EFDEFB6D6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Num" idx="29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7DCA75-2C94-4B98-8C93-E5D022E2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Num" idx="30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A5837B-DDF6-446F-A764-03CB6EF5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Num" idx="31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F680D8-CA7D-4BFE-A0BB-66447C13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2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8322D6-8270-467A-B8BD-D7EC59FD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change over time even if programs do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are broad and analysis for decision making is not done at tha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grams relate to multiple strategic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cost and output (and eventually outcome) is still quit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reported each period but outputs may not relate to the same period or occur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often external to the organization but still contribute to th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re not structured with cost accounting in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3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A0F54F-A0A5-44EF-9F59-CC37A646E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Num" idx="34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80B209-F5E0-4B0E-AF12-A8103238E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5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0AD6C2-AB72-404E-8313-CBCE36B878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D17-1F49-48CC-936B-1F3139A2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7E1-62AF-4365-A287-6F127DEC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B88-B80F-4033-8133-618D07C4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132-D1B1-4CC1-94DB-E50FF6CB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7DAA-59A4-4BE6-98F1-F62D82C9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2633-9D14-41C3-A5D6-34914D2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226-920F-4C7A-828A-109FE5A1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70B6-A5D6-4E02-AA22-202AF363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BC49-A1CC-44A9-8774-5AAC917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D8D-41D2-403D-84C2-BC0A8AF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03A7-F548-45D1-BD01-DBE591B2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46F-4BA5-4A13-9D9F-F6CC9521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CDBD-9B38-40C5-AE5F-0317DAA3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F610-C88D-420C-99CA-D5CF232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5C82-BEB7-48ED-BBE2-00574EB0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D0E0-FE80-4EA5-8301-4454C230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B4D9-660B-4DE0-9D7B-16F889A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D3EF-F7E5-4E6D-9C6F-E39A7E10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3E51-27AC-4192-A010-7D79FB1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FD79-4027-4268-9F00-F4F84D14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0A17-C1CF-4A86-AFC9-79FE3A43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2566-794E-421F-B6B2-A4EEF08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620-2E32-4AF2-BF4E-4DC10E4E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97D8-876C-4B5A-BEDA-2B855DA3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9827-78F5-4E31-8941-23E15B4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A1C6-E2CA-4637-B0BE-F244EA9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554E-057B-4FD3-98CE-1927A60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73F8-DD7D-4987-BE38-0E2B4C0C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231A-0016-4459-9ED4-507AF3D3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A185-0528-4CA9-AFEC-590E0FBF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F266-891C-425B-94E1-422C7ABE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AD09-D15B-45DA-BA36-087707A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A4C0-4C68-4195-B285-5AAB8387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F3B-2EB4-4AB2-A853-533F3737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2701-974E-4921-B0AB-B2F9835F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0A22-D7A8-4E6A-B491-8CA0E73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FFC6-CB34-4E16-BD76-D4CC2899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647C-871B-464B-B912-0599F57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06D2-3DAE-4EBE-BFFC-D6E2DBE8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B166-4F1E-4367-ADDD-2BFF8CD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2C0F-ECD5-4269-9A2F-0F877DF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8943-7F1C-4DBF-92F1-7C75F0D1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65EC-A174-46BB-8A88-8952E58B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606-E8BC-4FF3-9F60-15317A5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980-3C37-447D-8F77-2B4CC0A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838-6C61-4C97-B340-1E7EE6A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F3A-B732-463B-A5F2-A9CDCD4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6F1-7396-4B4F-8C5A-911E363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Rounded Rectangle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Rounded Rectangle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5956A3-E56E-42E6-9A9B-E6E1EE1AC1B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F9569A-4D05-4723-9C14-F8E293E741D2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562791-77E7-4554-BD56-86AC6589E216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210384-98F4-48A6-BEC1-B097CBAA481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sab.gov/about/our-annual-reports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2014 CIGIE/GAO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111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7c7972"/>
                </a:solidFill>
                <a:latin typeface="Verdana"/>
              </a:rPr>
              <a:t>FASAB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Wendy Payne, CPA, CG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FASAB Blue Logo"/>
          <p:cNvPicPr/>
          <p:nvPr/>
        </p:nvPicPr>
        <p:blipFill>
          <a:blip r:embed="rId1"/>
          <a:stretch/>
        </p:blipFill>
        <p:spPr>
          <a:xfrm>
            <a:off x="380880" y="4876920"/>
            <a:ext cx="1904760" cy="1395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3962520" y="5562720"/>
            <a:ext cx="4114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Thursday, May 8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8:40 – 9:30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B1B-DCEE-4DD8-A53D-19DCBB04E2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45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</a:t>
            </a:r>
            <a:r>
              <a:rPr b="1" lang="en-US" sz="16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ciling Budget and Accrual In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-wide Reconcilia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t Cost to the Surplus(Defici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-26532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Entity Reconcili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758880" indent="-182880">
              <a:lnSpc>
                <a:spcPct val="100000"/>
              </a:lnSpc>
              <a:buClr>
                <a:srgbClr val="ea3a45"/>
              </a:buClr>
              <a:buSzPct val="112000"/>
              <a:buFont typeface="Verdana"/>
              <a:buChar char="◦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t Cost’ to ‘Obligations Incurred and Other Resources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83320" indent="-201240">
              <a:lnSpc>
                <a:spcPct val="100000"/>
              </a:lnSpc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ability (Terminology, Notes, Seque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74B9-121A-4571-8C4C-4FEB468C92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ther Potential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Retirement Oblig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r Popular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WHICH PROJECTS DO YOU THINK ARE MOST IMPORTAN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009-EFEF-45AF-A55B-D2A597207B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Be He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Cost &amp; Linking Cost to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il and Gas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ciling Budget and Accrual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Retirement Oblig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r Popular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494-E35A-4034-9274-510F6AF458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040" cy="10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Current Project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D2F-49E0-4F17-8644-E7C01AB10D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Federal Reporting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7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4CA59D-E6E7-4155-AC85-D84AD6AD500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2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in General Purpose Federal Financial Reports (GPFFR) all organiz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dgeted for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with potential for risk or rewar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specifically address particular e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for judgment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los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E1673-27B9-4AD0-9A7D-D428F7FD5EE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guish between consolidation ent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discl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sng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olidation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ed by general taxes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-going decision mak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more clearly linked to elected officia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consolidation entities is to be consolidated in financi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Num" idx="1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9F4C8D-FC8E-43F0-81B0-D0663E6004A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sclosure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what independent from elected officials, an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financially self-sustain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garding such organizations is to be disclosed in notes with an emphasis o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20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672C3F-47D6-4162-B184-298464F7E8A7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40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3000"/>
          </a:bodyPr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addres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ntities are subject to SFFAS 34 – the GAAP hierarchy for federal ent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organizations to include in component reporting entity GPFF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B-basis information for consolidation ent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 year ends for disclosure organ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ed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ndments to SFFAC 2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tity and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Vie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s in receivership, conservatorship, or owned/controlled through interventions should not be equated with other disclosure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entions should be addressed in a single standard on risk assum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1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42F311-AEAE-4D69-964E-6F0349C3B22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7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56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s expressed are those of the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6705720" y="60199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545D6A-F6E0-4517-9CD9-D7B142AEF5A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3416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ing to enhance the benefits of accrual basis financi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to the Boar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 needs surveys, focus groups, and round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Task Force on Government-wide Financial Repor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ec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O Act 20-Year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 task forces focusing on agency level reporting on cost, budget and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 of spending pilo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of other sovereign government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D67058-00B8-4E98-8BF8-37ECD4D9379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1529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 want particular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o meet their nee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derstan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financi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ized sour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btain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ve toward real-time da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gram managers n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and non-financial performanc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level cost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ward-look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on in agency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2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3F46A-F647-476D-9FE0-93A76F2753F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1000"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3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Result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1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4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Needed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ment of Net Co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- cost by strategic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refer to focus on “cost” by organizations, programs, or pro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ching cost and output (and eventually outcome) is not so easy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terms used differently by different disciplines (cost per the budget versus cost per accrual principles versus cost per program evaluato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9120" indent="-2491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MIZATION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Num" idx="24"/>
          </p:nvPr>
        </p:nvSpPr>
        <p:spPr>
          <a:xfrm>
            <a:off x="6629400" y="5867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396016-56E7-4CCD-BFBA-B6B8E52299F2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900" spc="-1" strike="noStrike">
                <a:solidFill>
                  <a:srgbClr val="ff9257"/>
                </a:solidFill>
                <a:latin typeface="Verdana"/>
              </a:rPr>
              <a:t>(cont.)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search Results </a:t>
            </a: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20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xt Steps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3200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ramework for integr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define a roadmap to follow to reach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01EAF8-A2B6-440A-A126-B2C3439AB15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ed for a Disclosure Frame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Is it Disclosed if it’s in 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Mountain of Paper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C:\Documents and Settings\paynew\Local Settings\Temporary Internet Files\Content.IE5\1ORKMLMC\MP900422184[1].jpg"/>
          <p:cNvPicPr/>
          <p:nvPr/>
        </p:nvPicPr>
        <p:blipFill>
          <a:blip r:embed="rId1"/>
          <a:stretch/>
        </p:blipFill>
        <p:spPr>
          <a:xfrm>
            <a:off x="457200" y="1752480"/>
            <a:ext cx="82882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D4833-D5DA-48A0-BA14-83C86251C1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Disclosure Frameworks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y be Com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83520" cy="244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4000"/>
          </a:bodyPr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do standards-setters require disclos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we really mean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dgments about disclosures are costly for preparers and auditors while excessive disclosures are costly to users of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D7A7-75D5-4475-A7A1-4415A1AF8B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 Standards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mited to insurance contracts and explicit guarantees (other than loan guarante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implementing policy initiatives to stabilize financial markets and the economy, the federal government explicitly assumed risks previously considered by some to have implied backing of the federal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rder to meet the stewardship and operating performance objectives of federal financial report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important that the federal governm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all significant risks assum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t just risks related to insurance contracts and explicit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EF95-4C23-4566-BA62-8FE95DCB1B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(cont.)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Three Phases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0000"/>
          </a:bodyPr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ance and [Non-Loan]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lement Programs, including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Defens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rity and Disaster 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otential effects on future outf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atory action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ernment Sponsored Enterprises (GSEs)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i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g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risk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AA30-891D-490A-BE5A-98AE4F1583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Insurance &amp; Guarantee Phase 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Force starting now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federal Insuranc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Non-Loan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all programs are captured in updated standards/disclo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easurement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to Credit Reform 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FASB Insurance Contracts Exposure Draft Sta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measur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consistent reporting by all Insurance and Guarantee progr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EA56-2333-4B35-BEA1-8C6EE7465A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83520" cy="1298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all leases financing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310E-8347-4F96-AF48-D0CC79A4BE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Annual Report and Three-Year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and Overs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Projects and Potenti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of Current Proje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Reporting 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E7AB-98FC-45CD-A553-2E083F986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8316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is partnering with GASB to develop standards for governmental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e decision to establish a single model (with exceptions for short-term arrangement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assets consisting of the “right to use” a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liabilities consisting of the obligation to pay for th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us may be on the interest cost associated with le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6ACD-9818-433C-980A-5AD20E9E0A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ublic-Private Partner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16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7000"/>
          </a:bodyPr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budget pressures, federal agencies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ly turned to 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.g., PPPs, P3s) to accomplish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cy of the full costs and risks of such partnerships  is the overall 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objectives inclu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 terms (e.g., service concession arrangements, P3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ing guidance for the recognition and measurement of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ts and liab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and expen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implications for other arrangements related to P3s (sale-leaseback or other long-term arrangemen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BACC-0B60-4FC6-BBA1-3787931527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1835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5CA1-AA2B-4AFF-B715-2491264B6D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Contact and Websit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quiries can be directed to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erv (sign up for emai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Projects – assign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paynew@fasab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512-73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481C-72AF-4DC7-B694-7E1EBA0D87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594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4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FEDER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CCOUNTING STANDARD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DVISORY BOAR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Annual Report</a:t>
            </a:r>
            <a:r>
              <a:rPr b="0" i="1" lang="en-US" sz="8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 Ended September 30, 2013</a:t>
            </a:r>
            <a:r>
              <a:rPr b="0" lang="en-US" sz="51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Three-Year Plan</a:t>
            </a:r>
            <a:r>
              <a:rPr b="0" i="1" lang="en-US" sz="8000" spc="-1" strike="noStrike">
                <a:solidFill>
                  <a:srgbClr val="0070c0"/>
                </a:solidFill>
                <a:latin typeface="Albertus MT L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s 2014-2016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Comments Requested by January 31, 20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A698-E954-47D1-A8EE-D8047A1E31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FASAB Annual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in 2010 FASAB was asked to issue an annual report to facilitate overs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9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fasab.gov/about/our-annual-reports/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gress upda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feedback on continued conformance to the criteria for a GAAP-standards setting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with our Three-year pl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ECF7-A1A6-4D68-AF86-23EC7F893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Three-Year 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2" descr="C:\Documents and Settings\paynew\Local Settings\Temporary Internet Files\Content.IE5\PI92ZBAH\MC900383284[1].wmf"/>
          <p:cNvPicPr/>
          <p:nvPr/>
        </p:nvPicPr>
        <p:blipFill>
          <a:blip r:embed="rId1"/>
          <a:stretch/>
        </p:blipFill>
        <p:spPr>
          <a:xfrm>
            <a:off x="1447920" y="1676520"/>
            <a:ext cx="4506480" cy="35049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5181480" y="4724280"/>
            <a:ext cx="3123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We need your in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0A90-3477-4C68-A646-8547DF3795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Cost Accounting and Linking Cost to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k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504960" cy="570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696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 provisions are often obscure and hard for citizens to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s on tax expenditures are not made annually – so the performance of tax provisions is not monitor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gone revenue – is it the same as spend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60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2000"/>
          </a:bodyPr>
          <a:p>
            <a:pPr marL="234720" indent="-234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Oil and Gas Resource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FY2013 - required supplemental information (R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SI should transition to recognition in FY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- consider the results of the three-year RSI effort and provide guidance for the trans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ransition - The value of petroleum resources under lease would be recognized as an as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293</TotalTime>
  <Application>LibreOffice/7.4.7.2$Linux_X86_64 LibreOffice_project/40$Build-2</Application>
  <AppVersion>15.0000</AppVersion>
  <Words>1491</Words>
  <Paragraphs>312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1:02:55Z</dcterms:created>
  <dc:creator>Wendy Payne</dc:creator>
  <dc:description/>
  <dc:language>en-US</dc:language>
  <cp:lastModifiedBy>Wendy Payne</cp:lastModifiedBy>
  <dcterms:modified xsi:type="dcterms:W3CDTF">2014-04-11T15:19:00Z</dcterms:modified>
  <cp:revision>215</cp:revision>
  <dc:subject/>
  <dc:title>Baltimore Chapter of the Association of Government Account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3</vt:r8>
  </property>
</Properties>
</file>