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A2CF69-D919-4425-AC28-714515042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Num" idx="29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E424C2-1452-48B2-B363-A180074BE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Num" idx="30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3F8084-F166-4C81-A1BF-588483D07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Num" idx="31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68B5F8-3DCA-4F90-8753-D3FF8F02B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Num" idx="32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C76F82-850B-48B5-9A9D-4BE1F3407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Num" idx="33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56F8FA-9975-42B1-A4DC-CB378619C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Num" idx="34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F5F39C-4F8D-4FA6-A92D-0D6DDF399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5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404237-305C-4123-BA13-EB899D859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goals change over time even if programs do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goals are broad and analysis for decision making is not done at that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rograms relate to multiple strategic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cost and output (and eventually outcome) is still quite challen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are reported each period but outputs may not relate to the same period or occur immedi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are often external to the organization but still contribute to the 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gets are not structured with cost accounting in m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6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EB12E2-E544-4221-B4FC-E8625703E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Num" idx="37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B63E0B-6093-4E19-A4D6-CC1B0BA3D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38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28D136-56FB-4EA8-94EB-43BFD23B7BF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EBE-D757-414B-B32D-161F9169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4ED-D5D3-4A41-8640-E0D039ED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B65-BA6F-4536-AB6E-FBA0EA55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B71-8290-42CB-BEA2-20F2EB6E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9F98-CEB0-48F2-8A60-6697D728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0938-6F6A-486F-8567-DC478D7B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AC4D-A018-4F88-8AE9-2E2B62CE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142D-E11D-4ABC-AB6E-701BE015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DF19-1DC0-4202-B703-98887184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7351-20D5-4C21-B760-410A0118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99AC-C4BA-4110-B933-7D8002B5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37B-5C10-4854-A096-06B8B73F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E47C-4B22-4599-9D5B-DBC81181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8B74-2009-4A39-9ECB-CDCBC22A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F00B-496A-409C-996A-D5E25331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CEAA-23A3-45D4-971C-DD3647EB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515F-068A-4841-B14D-9D332AF4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6A70-5C22-4037-8BED-88D7DD9D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D3B6D-3CA3-4A4D-A352-AD113730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56520-FDEC-418E-BC6A-54B99507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DCD7-0AAC-4FF3-AD2B-4A764CA1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3847-A040-49B8-87D4-7073DD26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8AA-0AE6-4A41-821C-32576885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9F985-1701-4DD3-A319-8D506933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DC9A-AD42-4D95-AC56-616E8D86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636AD-A6A3-41AC-8023-7A83497C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CDB5-C04F-4A57-B801-36702569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E304-9A30-4C75-ADB0-508F3ADB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4A10-A3C1-46C7-89AA-A88560E1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0718-9215-4FC6-A098-B328DED6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6501-5706-4882-9B6D-C6371A89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E332-8B5E-465A-ABB0-9D7AE21D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58721-94F0-400C-9428-CF1810CA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B27-9E99-4824-B780-F86F8F8C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D16C0-5175-4967-84A1-0DE55D5C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D2692-E16A-4BE6-A1DB-DB5F9C64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A830-9028-40FB-8921-B9CA27F1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90E42-A516-4369-8A5E-6B078EC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EEDC8-277E-4749-859D-3AF1C035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8CAC6-26EE-4C8B-B704-0221D580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9C52B-94DE-4359-B579-DCC3366C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FC7F2-C1AA-44B9-AC6A-FA979317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1956A-9CC7-43DD-891F-A4618F0B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7AFE9-F58F-47BD-B947-14AE30CB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602-7261-47C6-8A93-EF89F165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FFBC4-04E9-4202-8984-3391F44C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5E540-2B4F-4323-A17B-8D2F99A9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4C964-B269-4924-95BD-B5F14774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F7B6A-88EF-4226-B823-34587BAD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E34A5-6178-4450-8978-948024D0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CE873-C818-41E0-97A4-F10C768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2175B-17EE-4203-96AF-9BABA61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698DE-97F1-4204-8DEB-E96B94C0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0DC22-DF29-498A-BF2D-8DF7B309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D58E6-B95B-4032-BEA0-C8369BF4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DDD-D653-4D79-8469-5BD1AE02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B8E94-E9E1-4DB2-AF27-70ACCED4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158-38B7-4F21-8C72-104F9D4B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CA2-D11B-4D51-B7E7-A3C0D5A8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020-1FCE-44A3-9A57-48D529E9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Rounded Rectangle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Rounded Rectangle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Rounded Rectangle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4BA3B0-5A9F-4454-BFB2-9BA4C97D7EBB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0F6688-D10D-4ACA-B06B-DC9C222201A1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0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03D7BB-26A5-464A-A15E-B182D3ABA2DB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3" name="Rounded Rectangle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dt" idx="10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11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2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D2728D-737F-449B-A3D6-9E0B6568A4CA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7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body"/>
          </p:nvPr>
        </p:nvSpPr>
        <p:spPr>
          <a:xfrm>
            <a:off x="457200" y="3938760"/>
            <a:ext cx="8229240" cy="2187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3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AEAEBD-3734-4DE6-83B4-C1A97E3E7595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ynew@fasab.gov" TargetMode="External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sab.gov/about/our-annual-reports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AGA - Northern Virginia Chapter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1115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rmAutofit/>
          </a:bodyPr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7c7972"/>
                </a:solidFill>
                <a:latin typeface="Verdana"/>
              </a:rPr>
              <a:t>FASAB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Wendy Payne, CPA, CG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FASAB Blue Logo"/>
          <p:cNvPicPr/>
          <p:nvPr/>
        </p:nvPicPr>
        <p:blipFill>
          <a:blip r:embed="rId1"/>
          <a:stretch/>
        </p:blipFill>
        <p:spPr>
          <a:xfrm>
            <a:off x="380880" y="4876920"/>
            <a:ext cx="1904760" cy="1395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3962520" y="5562720"/>
            <a:ext cx="411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720"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Tuesday, April 1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C08-6859-4994-AE78-E441F0350D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rial Cost Accounting and Linking Cost to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504960" cy="5701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 (cont.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696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 Expendi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x provisions are often obscure and hard for citizens to underst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s on tax expenditures are not made annually – so the performance of tax provisions is not monitor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gone revenue – is it the same as spend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 (cont.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60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2000"/>
          </a:bodyPr>
          <a:p>
            <a:pPr marL="234720" indent="-234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Natural Resources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2057400"/>
            <a:ext cx="8229240" cy="406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FY2013 - required supplemental information (RS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SI should transition to recognition in FY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- consider the results of the three-year RSI effort and provide guidance for the trans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transition - The value of petroleum resources under lease would be recognized as an as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45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 </a:t>
            </a:r>
            <a:r>
              <a:rPr b="1" lang="en-US" sz="16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nciling Budget and Accrual Inform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-wide Reconcilia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t Cost to the Surplus(Defici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-26532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nent Entity Reconcili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758880" indent="-182880">
              <a:lnSpc>
                <a:spcPct val="100000"/>
              </a:lnSpc>
              <a:buClr>
                <a:srgbClr val="ea3a45"/>
              </a:buClr>
              <a:buSzPct val="112000"/>
              <a:buFont typeface="Verdana"/>
              <a:buChar char="◦"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‘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t Cost’ to ‘Obligations Incurred and Other Resources’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C3B8-836C-4035-8EAA-CE0CA317B4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Other Potential Pro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Retirement Oblig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angi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 or Popular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WHICH PROJECTS DO YOU THINK ARE MOST IMPORTAN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4B0-8C65-4420-8CAA-6AC066D3C1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040" cy="10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ff9257"/>
                </a:solidFill>
                <a:latin typeface="Verdana"/>
              </a:rPr>
              <a:t>Current Project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5B5-7AA0-4604-B01B-F32AF58E07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Federal Reporting Ent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SAB established concepts in mid-90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s now being develo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20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E7E3CE-6704-4E2C-91CE-BA12814E1C01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81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2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in General Purpose Federal Financial Reports (GPFFR) all organiz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dgeted for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with potential for risk or reward, o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w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not specifically address particular ent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for judgment abo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clos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21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52EE06-5D0E-488B-A0D4-3F527B54B7EE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inguish between consolidation entiti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disclosure organiz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nsolidation entiti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rted by general taxes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-going decision making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 more clearly linked to elected official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for consolidation entities is to be consolidated in financial state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Num" idx="22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43B72A-F103-4D5E-B107-6B965743DE9F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457200" y="380880"/>
            <a:ext cx="8381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6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7000"/>
          </a:bodyPr>
          <a:p>
            <a:pPr indent="0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Disclaim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560" cy="406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s expressed are those of the speak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9"/>
          </p:nvPr>
        </p:nvSpPr>
        <p:spPr>
          <a:xfrm>
            <a:off x="6705720" y="601992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12FFC7-8518-42A3-A7CE-000FB908FC3D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isclosure organizatio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what independent from elected officials, and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y be financially self-sustaining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regarding such organizations is to be disclosed in notes with an emphasis on ris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Num" idx="2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344C16-0C62-4099-B504-DFEA4152488A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457200" y="380880"/>
            <a:ext cx="8381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6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40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3000"/>
          </a:bodyPr>
          <a:p>
            <a:pPr marL="258840" indent="-258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addres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entities are subject to SFFAS 34 – the GAAP hierarchy for federal ent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organizations to include in component reporting entity GPFF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deal wit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67520" indent="-17820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SB-basis information for consolidation ent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67520" indent="-17820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fferent year ends for disclosure organiz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ted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endments to SFFAC 2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ntity and Disp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8840" indent="-258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ernative View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ganizations in receivership, conservatorship, or owned/controlled through interventions should not be equated with other disclosure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nterventions should be addressed in a single standard on risk assum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4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281EF2-757A-4E71-9D21-2A65A64519A9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porting Mo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53416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ing to enhance the benefits of accrual basis financial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to the Boar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 needs surveys, focus groups, and roundt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AB Task Force on Government-wide Financial Repor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Dec 201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O Act 20-Year Re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put from task forces focusing on agency level reporting on cost, budget and perform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ment of spending pilo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y of other sovereign government pract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5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DEAEE7-77CE-4864-B158-5869115F817A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2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15292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8000"/>
          </a:bodyPr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nts want particular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ecializ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to meet their nee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derstand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financial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ntralized sourc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obtaining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ve toward real-time dat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 program managers n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ed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nancial and non-financial performance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level cost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ward-look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on in agency re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Num" idx="2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9E3719-AED9-4295-B4C6-5C47B6417AA3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57200" y="380880"/>
            <a:ext cx="8229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71000"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300" spc="-1" strike="noStrike">
                <a:solidFill>
                  <a:srgbClr val="ff9257"/>
                </a:solidFill>
                <a:latin typeface="Verdana"/>
              </a:rPr>
              <a:t>(cont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–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Results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38152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9000"/>
          </a:bodyPr>
          <a:p>
            <a:pPr marL="235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rovement Needed in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ment of Net Co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88160" indent="-1789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- cost by strategic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88160" indent="-1789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prefer to focus on “cost” by organizations, programs, or pro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88160" indent="-1789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ching cost and output (and eventually outcome) is not so easy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88160" indent="-1789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e terms used differently by different disciplines (cost per the budget versus cost per accrual principles versus cost per program evaluato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Num" idx="27"/>
          </p:nvPr>
        </p:nvSpPr>
        <p:spPr>
          <a:xfrm>
            <a:off x="6629400" y="5867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68C799-AE70-418B-AC1B-CAA53005F8C3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4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457200" y="380880"/>
            <a:ext cx="8229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45000"/>
          </a:bodyPr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900" spc="-1" strike="noStrike">
                <a:solidFill>
                  <a:srgbClr val="ff9257"/>
                </a:solidFill>
                <a:latin typeface="Verdana"/>
              </a:rPr>
              <a:t>(cont.)</a:t>
            </a: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– </a:t>
            </a: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Research Results </a:t>
            </a:r>
            <a:r>
              <a:rPr b="1" lang="en-US" sz="6000" spc="-1" strike="noStrike">
                <a:solidFill>
                  <a:srgbClr val="ff9257"/>
                </a:solidFill>
                <a:latin typeface="Verdana"/>
              </a:rPr>
              <a:t>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0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20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–</a:t>
            </a: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ext Steps 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3200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ramework for integrat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ideal frame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we define a roadmap to follow to reach the ideal frame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28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BB88C8-A239-474F-B4FB-4CC938F855F0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5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eed for a Disclosure Frame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183520" cy="1142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7000"/>
          </a:bodyPr>
          <a:p>
            <a:pPr marL="25704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9257"/>
                </a:solidFill>
                <a:latin typeface="Verdana"/>
              </a:rPr>
              <a:t>Is it Disclosed if it’s in a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5704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9257"/>
                </a:solidFill>
                <a:latin typeface="Verdana"/>
              </a:rPr>
              <a:t>Mountain of Paper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2" descr="C:\Documents and Settings\paynew\Local Settings\Temporary Internet Files\Content.IE5\1ORKMLMC\MP900422184[1].jpg"/>
          <p:cNvPicPr/>
          <p:nvPr/>
        </p:nvPicPr>
        <p:blipFill>
          <a:blip r:embed="rId1"/>
          <a:stretch/>
        </p:blipFill>
        <p:spPr>
          <a:xfrm>
            <a:off x="457200" y="1752480"/>
            <a:ext cx="828828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8D7E0-133B-44DB-91E6-BAB0CC1B3B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Disclosure Frameworks 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May be Com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83520" cy="2441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4000"/>
          </a:bodyPr>
          <a:p>
            <a:pPr marL="230760" indent="-230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do standards-setters require disclos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0760" indent="-230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we really mean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0760" indent="-230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dgments about disclosures are costly for preparers and auditors while excessive disclosures are costly to users of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F99DA-44B0-4572-824C-E2B48F074A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rent Standards 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mited to insurance contracts and explicit guarantees (other than loan guarante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implementing policy initiatives to stabilize financial markets and the economy, the federal government explicitly assumed risks previously considered by some to have implied backing of the federal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order to meet the stewardship and operating performance objectives of federal financial report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important that the federal governmen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 all significant risks assum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not just risks related to insurance contracts and explicit guarante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81EF-2DCE-46AA-A208-F1C32DC7FE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8352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 (cont.) 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- Three Phases -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0000"/>
          </a:bodyPr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urance and [Non-Loan]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I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itlement Programs, including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tional Defens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urity and Disaster respon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potential effects on future outf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885600" indent="-15804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gulatory actions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885600" indent="-15804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overnment Sponsored Enterprises (GSEs), etc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II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it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lig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risk are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85E7-0C12-4CE5-B4AA-90EBCD1740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scal Sustain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Annual Report and Three-Year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of Current Projec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l Reporting E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sk Assum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-Private Partnershi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8560-18D6-484A-87CC-BFD2CBF8F8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 </a:t>
            </a:r>
            <a:r>
              <a:rPr b="1" lang="en-US" sz="2000" spc="-1" strike="noStrike">
                <a:solidFill>
                  <a:srgbClr val="ff9257"/>
                </a:solidFill>
                <a:latin typeface="Verdana"/>
              </a:rPr>
              <a:t>(cont.)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- Insurance &amp; Guarantee Phase -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sk Force starting now t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federal Insurance and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Non-Loan]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arantee 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ensure all programs are captured in updated standards/disclos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measurement method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re to Credit Reform accoun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 FASB Insurance Contracts Exposure Draft Stat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measurement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ensure consistent reporting by all Insurance and Guarantee program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0454C-DD52-480A-A2BC-FCF735A5C6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Lea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83520" cy="1298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 all leases financing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C2A6-19CC-4C1F-9461-D7A8F86176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18316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AB is partnering with GASB to develop standards for governmental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tative decision to establish a single model (with exceptions for short-term arrangement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ses create assets consisting of the “right to use” a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ses create liabilities consisting of the obligation to pay for th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ocus may be on the interest cost associated with lea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Leases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B7231-AB61-4004-9A61-6245AA8610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Public-Private Partnershi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8316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7000"/>
          </a:bodyPr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budget pressures, federal agencies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ingly turned to public-private partnershi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e.g., PPPs, P3s) to accomplish go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cy of the full costs and risks of such partnerships  is the overall o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 objectives includ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ing terms (e.g., service concession arrangements, P3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ing guidance for the recognition and measurement of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ts and liabil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nues and expen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implications for other arrangements related to P3s (sale-leaseback or other long-term arrangement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3AA81-9888-4B93-A38B-DB71B825C6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18352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0D652-386A-4675-9459-C2EDC6222A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88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Contact and Websit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7000"/>
          </a:bodyPr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inquiries can be directed to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serv (sign up for emai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Projects – assigned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can be reached 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paynew@fasab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02) 512-735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2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A1CC9-B809-472C-8B49-D372FF41FA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18352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9257"/>
                </a:solidFill>
                <a:latin typeface="Verdana"/>
              </a:rPr>
              <a:t>Fiscal Sustaina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22622-B5C6-4A9A-907C-615CA1BE78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162480" cy="573768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EF22B-5213-4166-9EDA-E0B1134F13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123920" y="361800"/>
            <a:ext cx="6895800" cy="613368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82AF1-9D1B-4330-95D1-419087AF83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594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47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Verdana"/>
              </a:rPr>
              <a:t>FEDERAL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Verdana"/>
              </a:rPr>
              <a:t>ACCOUNTING STANDARD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Verdana"/>
              </a:rPr>
              <a:t>ADVISORY BOARD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i="1" lang="en-US" sz="9800" spc="-1" strike="noStrike">
                <a:solidFill>
                  <a:srgbClr val="0070c0"/>
                </a:solidFill>
                <a:latin typeface="Albertus MT Lt"/>
              </a:rPr>
              <a:t>Annual Report</a:t>
            </a:r>
            <a:r>
              <a:rPr b="0" i="1" lang="en-US" sz="80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Verdana"/>
              </a:rPr>
              <a:t>Fiscal Year Ended September 30, 2013</a:t>
            </a:r>
            <a:r>
              <a:rPr b="0" lang="en-US" sz="51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i="1" lang="en-US" sz="9800" spc="-1" strike="noStrike">
                <a:solidFill>
                  <a:srgbClr val="0070c0"/>
                </a:solidFill>
                <a:latin typeface="Albertus MT Lt"/>
              </a:rPr>
              <a:t>Three-Year Plan</a:t>
            </a:r>
            <a:r>
              <a:rPr b="0" i="1" lang="en-US" sz="8000" spc="-1" strike="noStrike">
                <a:solidFill>
                  <a:srgbClr val="0070c0"/>
                </a:solidFill>
                <a:latin typeface="Albertus MT L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Verdana"/>
              </a:rPr>
              <a:t>Fiscal Years 2014-2016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Verdana"/>
              </a:rPr>
              <a:t>Comments Requested by January 31, 20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F9F6-E8E7-4A6A-BE39-97EECF2175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FASAB Annual Re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inning in 2010 FASAB was asked to issue an annual report to facilitate oversigh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19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fasab.gov/about/our-annual-reports/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ogress upda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 feedback on continued conformance to the criteria for a GAAP-standards setting 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ed with our Three-year pl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9072-5A31-452D-ACD7-1744600CD5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Three-Year Pl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C:\Documents and Settings\paynew\Local Settings\Temporary Internet Files\Content.IE5\PI92ZBAH\MC900383284[1].wmf"/>
          <p:cNvPicPr/>
          <p:nvPr/>
        </p:nvPicPr>
        <p:blipFill>
          <a:blip r:embed="rId1"/>
          <a:stretch/>
        </p:blipFill>
        <p:spPr>
          <a:xfrm>
            <a:off x="1447920" y="1676520"/>
            <a:ext cx="4506480" cy="35049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5181480" y="4724280"/>
            <a:ext cx="3123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We need your in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2F84-808E-4874-B86F-BCCEAA0475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1282</TotalTime>
  <Application>LibreOffice/7.4.7.2$Linux_X86_64 LibreOffice_project/40$Build-2</Application>
  <AppVersion>15.0000</AppVersion>
  <Words>1431</Words>
  <Paragraphs>295</Paragraphs>
  <Company>GA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21:02:55Z</dcterms:created>
  <dc:creator>Wendy Payne</dc:creator>
  <dc:description/>
  <dc:language>en-US</dc:language>
  <cp:lastModifiedBy> GAO</cp:lastModifiedBy>
  <dcterms:modified xsi:type="dcterms:W3CDTF">2014-04-01T10:18:58Z</dcterms:modified>
  <cp:revision>213</cp:revision>
  <dc:subject/>
  <dc:title>Baltimore Chapter of the Association of Government Account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On-screen Show (4:3)</vt:lpwstr>
  </property>
  <property fmtid="{D5CDD505-2E9C-101B-9397-08002B2CF9AE}" pid="4" name="Slides">
    <vt:r8>35</vt:r8>
  </property>
</Properties>
</file>