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dt" idx="1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ftr" idx="1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 type="sldNum" idx="1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0FCF190-A35F-4A8B-9DB7-0C8BF4CF4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Num" idx="29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344459E-FBFD-45B7-8E80-8712E6DCD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Num" idx="30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B7BEC5-4383-4DEA-951F-687E5B396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Num" idx="31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AF3B4C-F285-42A4-89B0-54CA699FA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Num" idx="32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8D6835-6C7F-4F8D-A623-01FBD7C647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Num" idx="33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AE3BD1-DE38-4AB5-8366-2AE635B03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Num" idx="34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992CA8-0079-4C5A-AA24-E0A994611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individuals appeared to seek data from a variety of perspectives, i.e. a Congressional staff member may seek data by function while another staff member may seek the data by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sldNum" idx="35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A98B336-E363-452D-A9C1-5BC426E66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individuals appeared to seek data from a variety of perspectives, i.e. a Congressional staff member may seek data by function while another staff member may seek the data by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ic goals change over time even if programs do 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ic goals are broad and analysis for decision making is not done at that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programs relate to multiple strategic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cost and output (and eventually outcome) is still quite challen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are reported each period but outputs may not relate to the same period or occur immedi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are often external to the organization but still contribute to the out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dgets are not structured with cost accounting in m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36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2E4253-C710-4B3B-914E-6CC5C2030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Num" idx="37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B50F01-2FF3-4C52-9257-320505C49F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sldNum" idx="38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CF90E6-5DC9-472D-B116-AC1F5277D7E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8C52-023B-4F7A-A034-76E1CB384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629B-0E6A-40B9-8410-140BFFF6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FFE6-6AD0-4795-957E-3EFCD97EA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40F-2EED-4FA2-B7A5-D47F55F9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9CCE5-EC28-42D5-B825-DC9B92814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B44B-A41E-412F-B9C9-F8C3C3AC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68C8-EDCF-4A28-802A-B60FA9509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5DA1-6A0F-4C0A-B792-2AF2A7FD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0399-DD0B-4DEF-B31C-E91034A08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70B10-D685-4AFA-A364-0ECF15CAA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DAC7-7CD1-42B7-89ED-C99862BE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502-B1DC-44D7-98B9-9E0F39BF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C7CD-06C6-484A-A374-8F9E1A779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0DBF5-91FB-41A0-B346-691E9138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262A-3365-4169-AB44-45893A8C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233F-B20F-4990-A8C9-637A7C44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4697-5AAC-4CA4-8050-B7E22A9F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3B4BF-4978-4373-8F09-5C85DA840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34B0A-B03B-43CE-B276-D3144B3C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F293B-1DC2-4E2A-93AC-1E29D220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71C6D-D57F-40AF-9898-3615A101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0F2A7-B0C5-491F-B3CD-CFBBC9A9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288-9717-44C2-8BAC-6874B609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E76BB-210A-4099-9C04-76945AB9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952DD-0686-4D84-AEF9-BA46BB7B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E0BFE-B5A7-48A5-AA01-033132E0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879F1-4C5F-42BB-8684-4B594D15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283C2-0872-4BAA-8B91-6586E5C7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942D3-C6CC-4107-A089-085C03DE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FF15C-2581-4DDC-A34A-ABF01D0A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1BF01-C192-4D4C-A85B-9DD388106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E48E5-D6F6-49CA-A218-E592F639D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7EB9E-AF88-4CEE-A87B-07B6E23C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625-DABD-4D3A-91B9-578CEA51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8A945-9456-4DC7-BDC6-8D8F091F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CB216-A55A-4037-96FA-3C5EAD67E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A528D-487E-4E3C-9140-3483BE865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AFE57-4CFE-433E-B0D6-7AA9E0FF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14352-3823-4623-A9C0-B765FBE1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D6440-377A-4C01-A7B8-6BE44E73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65B34-65CD-47DE-93FB-CEF4D9EE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00740-0877-4B4B-86E5-59C951D5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39932-5D41-4927-9079-7346F796B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AA90E-566B-4A27-B8F0-5118E83A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8196-7808-4965-BE0E-91929DBA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A32D8-06AE-4B18-B5F9-F8114C77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C4F05-662F-4A5F-8314-C687869F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11D97-AC85-4276-8F30-008D4245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0497F-B022-46E0-BFB0-2F607FD4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EE77A-ABB6-41C2-B7A4-13AE5A9D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F748E-0226-48B1-9FF7-7FD8A2E0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BE443-8FB6-4B91-B4D1-8415DC01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5F7B6-1313-410F-951E-9080E1F4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39C2D1-1F2E-4559-9169-19EEF334E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20609-E0F8-4591-A5DA-FC17C931F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521-60B5-49DE-849D-FD58CDAB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1AB16-E690-4346-BD26-CED3F305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1352-6EBE-48EA-AF4A-810AC327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0B5D-7208-4FA2-91D1-3D8DDA9A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7947-05F7-42EF-B353-43766952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Rounded Rectangle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Rounded Rectangle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Rounded Rectangle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5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54B935-FFF3-4E72-A435-8CD89F4417AC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CA6319-51E2-4CE7-BABC-63FCC4223804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0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0B1934-FB61-47C9-AB71-7C300C5BF900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3" name="Rounded Rectangle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4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dt" idx="10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ftr" idx="11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2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176EE5-177D-43FD-B15A-6EF932330C8A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7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body"/>
          </p:nvPr>
        </p:nvSpPr>
        <p:spPr>
          <a:xfrm>
            <a:off x="457200" y="3938760"/>
            <a:ext cx="8229240" cy="2187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3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4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5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339B27-ECB0-44A1-877F-1FDD3CC8FB41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fasab@fasab.gov" TargetMode="External"/><Relationship Id="rId2" Type="http://schemas.openxmlformats.org/officeDocument/2006/relationships/hyperlink" Target="http://www.fasab.gov/" TargetMode="External"/><Relationship Id="rId3" Type="http://schemas.openxmlformats.org/officeDocument/2006/relationships/hyperlink" Target="mailto:paynew@fasab.gov" TargetMode="External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asab.gov/about/our-annual-reports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500" spc="-1" strike="noStrike">
                <a:solidFill>
                  <a:srgbClr val="ff9257"/>
                </a:solidFill>
                <a:latin typeface="Verdana"/>
              </a:rPr>
              <a:t>AGA - Northern Virginia Chapter 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722520" y="3684960"/>
            <a:ext cx="7772040" cy="1115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rmAutofit/>
          </a:bodyPr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7c7972"/>
                </a:solidFill>
                <a:latin typeface="Verdana"/>
              </a:rPr>
              <a:t>FASAB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7c7972"/>
                </a:solidFill>
                <a:latin typeface="Verdana"/>
              </a:rPr>
              <a:t>Wendy Payne, CPA, CG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FASAB Blue Logo"/>
          <p:cNvPicPr/>
          <p:nvPr/>
        </p:nvPicPr>
        <p:blipFill>
          <a:blip r:embed="rId1"/>
          <a:stretch/>
        </p:blipFill>
        <p:spPr>
          <a:xfrm>
            <a:off x="380880" y="4876920"/>
            <a:ext cx="1904760" cy="139500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3962520" y="5562720"/>
            <a:ext cx="41144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6720"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7c7972"/>
                </a:solidFill>
                <a:latin typeface="Verdana"/>
              </a:rPr>
              <a:t>Tuesday, April 1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DC60-598B-4432-914D-4CE7CEEB4E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Pro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rial Cost Accounting and Linking Cost to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504960" cy="5701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Projects (cont.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696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x Expendi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x provisions are often obscure and hard for citizens to underst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s on tax expenditures are not made annually – so the performance of tax provisions is not monitor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gone revenue – is it the same as spend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Projects (cont.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60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62000"/>
          </a:bodyPr>
          <a:p>
            <a:pPr marL="234720" indent="-234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Natural Resources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2057400"/>
            <a:ext cx="8229240" cy="4068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FY2013 - required supplemental information (RS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SI should transition to recognition in FY2016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- consider the results of the three-year RSI effort and provide guidance for the trans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transition - The value of petroleum resources under lease would be recognized as an as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45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Projects </a:t>
            </a:r>
            <a:r>
              <a:rPr b="1" lang="en-US" sz="16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nciling Budget and Accrual Inform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ment-wide Reconcilia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t Cost to the Surplus(Defici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-26532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onent Entity Reconcili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758880" indent="-182880">
              <a:lnSpc>
                <a:spcPct val="100000"/>
              </a:lnSpc>
              <a:buClr>
                <a:srgbClr val="ea3a45"/>
              </a:buClr>
              <a:buSzPct val="112000"/>
              <a:buFont typeface="Verdana"/>
              <a:buChar char="◦"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‘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t Cost’ to ‘Obligations Incurred and Other Resources’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579E2-2B49-4956-8A3E-04C32C410E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Other Potential Pro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Retirement Oblig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angi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 or Popular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and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WHICH PROJECTS DO YOU THINK ARE MOST IMPORTAN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E2F1-3E94-481D-873C-2C88155459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040" cy="10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ff9257"/>
                </a:solidFill>
                <a:latin typeface="Verdana"/>
              </a:rPr>
              <a:t>Current Project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7269-7BB2-489E-B24C-DD3B722B4D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Federal Reporting Ent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SAB established concepts in mid-90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s now being develo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20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927151-24A0-4042-A5BF-BDB4C9A01CE3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1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81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32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 in General Purpose Federal Financial Reports (GPFFR) all organiz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dgeted for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with potential for risk or reward, o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w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es not specifically address particular enti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for judgment abo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closu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21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4803E3-B6A4-4D76-9C71-85ED5F3018C9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1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inguish between consolidation entiti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disclosure organiz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nsolidation entiti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ported by general taxes,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-going decision making,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 more clearly linked to elected official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for consolidation entities is to be consolidated in financial statem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Num" idx="22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7D02077-0B4F-442F-9FDB-4D028747985F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1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457200" y="380880"/>
            <a:ext cx="838152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36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7000"/>
          </a:bodyPr>
          <a:p>
            <a:pPr indent="0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Disclaim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560" cy="4068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s expressed are those of the speak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oard expresses its views in official pub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9"/>
          </p:nvPr>
        </p:nvSpPr>
        <p:spPr>
          <a:xfrm>
            <a:off x="6705720" y="601992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BFF6EB-C4A6-4CFD-8AB9-1434B45B7035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isclosure organization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what independent from elected officials, and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y be financially self-sustaining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regarding such organizations is to be disclosed in notes with an emphasis on ris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ldNum" idx="2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54DCFF-E6B0-4C43-B01D-AC7A7011F26F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457200" y="380880"/>
            <a:ext cx="838152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36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40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0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3000"/>
          </a:bodyPr>
          <a:p>
            <a:pPr marL="258840" indent="-258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addres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entities are subject to SFFAS 34 – the GAAP hierarchy for federal ent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organizations to include in component reporting entity GPFF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to deal wit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67520" indent="-17820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SB-basis information for consolidation ent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67520" indent="-17820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fferent year ends for disclosure organiz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ated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endments to SFFAC 2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ntity and Disp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8840" indent="-258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ernative View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ganizations in receivership, conservatorship, or owned/controlled through interventions should not be equated with other disclosure organiz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nterventions should be addressed in a single standard on risk assum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24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47BEE8E-5188-408F-A112-9531394C31E8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porting Mod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53416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ing to enhance the benefits of accrual basis financial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 to the Boar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 needs surveys, focus groups, and roundt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SAB Task Force on Government-wide Financial Repor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Dec 201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FO Act 20-Year Re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put from task forces focusing on agency level reporting on cost, budget and perform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ment of spending pilo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y of other sovereign government pract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25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20A1C36-FAA1-440D-9A54-9AC8D396FBE7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2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152920" cy="411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8000"/>
          </a:bodyPr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nts want particular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ecializ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to meet their nee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derstanda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financial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ntralized sourc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obtaining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ve toward real-time dat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ress program managers nee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ted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nancial and non-financial performance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level cost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ward-look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on in agency re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Num" idx="26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E8988B-15F0-4E11-BF5D-AD728DADE1F8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457200" y="380880"/>
            <a:ext cx="8229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71000"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300" spc="-1" strike="noStrike">
                <a:solidFill>
                  <a:srgbClr val="ff9257"/>
                </a:solidFill>
                <a:latin typeface="Verdana"/>
              </a:rPr>
              <a:t>(cont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–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Results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38152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9000"/>
          </a:bodyPr>
          <a:p>
            <a:pPr marL="235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rovement Needed in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ement of Net Co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88160" indent="-1789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- cost by strategic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88160" indent="-1789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prefer to focus on “cost” by organizations, programs, or proje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88160" indent="-1789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ching cost and output (and eventually outcome) is not so easy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88160" indent="-1789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me terms used differently by different disciplines (cost per the budget versus cost per accrual principles versus cost per program evaluato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Num" idx="27"/>
          </p:nvPr>
        </p:nvSpPr>
        <p:spPr>
          <a:xfrm>
            <a:off x="6629400" y="5867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5BCB541-826C-4481-82F7-E2CAC8CB8A83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4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"/>
          <p:cNvSpPr/>
          <p:nvPr/>
        </p:nvSpPr>
        <p:spPr>
          <a:xfrm>
            <a:off x="457200" y="380880"/>
            <a:ext cx="8229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45000"/>
          </a:bodyPr>
          <a:p>
            <a:pPr>
              <a:lnSpc>
                <a:spcPct val="100000"/>
              </a:lnSpc>
            </a:pP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900" spc="-1" strike="noStrike">
                <a:solidFill>
                  <a:srgbClr val="ff9257"/>
                </a:solidFill>
                <a:latin typeface="Verdana"/>
              </a:rPr>
              <a:t>(cont.)</a:t>
            </a: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– </a:t>
            </a: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Research Results </a:t>
            </a:r>
            <a:r>
              <a:rPr b="1" lang="en-US" sz="6000" spc="-1" strike="noStrike">
                <a:solidFill>
                  <a:srgbClr val="ff9257"/>
                </a:solidFill>
                <a:latin typeface="Verdana"/>
              </a:rPr>
              <a:t>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24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0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20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–</a:t>
            </a: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ext Steps 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3200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ramework for integrat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ideal frame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we define a roadmap to follow to reach the ideal frame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28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4D10F2-4794-4B5E-82DE-C7F8E236894B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5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eed for a Disclosure Frame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183520" cy="1142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7000"/>
          </a:bodyPr>
          <a:p>
            <a:pPr marL="25704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300" spc="-1" strike="noStrike">
                <a:solidFill>
                  <a:srgbClr val="ff9257"/>
                </a:solidFill>
                <a:latin typeface="Verdana"/>
              </a:rPr>
              <a:t>Is it Disclosed if it’s in a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5704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300" spc="-1" strike="noStrike">
                <a:solidFill>
                  <a:srgbClr val="ff9257"/>
                </a:solidFill>
                <a:latin typeface="Verdana"/>
              </a:rPr>
              <a:t>Mountain of Paper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2" descr="C:\Documents and Settings\paynew\Local Settings\Temporary Internet Files\Content.IE5\1ORKMLMC\MP900422184[1].jpg"/>
          <p:cNvPicPr/>
          <p:nvPr/>
        </p:nvPicPr>
        <p:blipFill>
          <a:blip r:embed="rId1"/>
          <a:stretch/>
        </p:blipFill>
        <p:spPr>
          <a:xfrm>
            <a:off x="457200" y="1752480"/>
            <a:ext cx="828828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BB439-E697-4EA3-89F5-DD4960147F3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Disclosure Frameworks </a:t>
            </a: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May be Com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83520" cy="2441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4000"/>
          </a:bodyPr>
          <a:p>
            <a:pPr marL="230760" indent="-230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do standards-setters require disclos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0760" indent="-230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we really mean i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0760" indent="-230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dgments about disclosures are costly for preparers and auditors while excessive disclosures are costly to users of in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828B0-8953-4476-92EC-CAA96B14D6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rrent Standards 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imited to insurance contracts and explicit guarantees (other than loan guarante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implementing policy initiatives to stabilize financial markets and the economy, the federal government explicitly assumed risks previously considered by some to have implied backing of the federal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order to meet the stewardship and operating performance objectives of federal financial report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important that the federal governmen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 all significant risks assum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not just risks related to insurance contracts and explicit guarante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EA386-FB1B-47D0-88A2-8B30C3F78AB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8352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9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 (cont.) </a:t>
            </a: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- Three Phases -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0000"/>
          </a:bodyPr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urance and [Non-Loan] Guarant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I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titlement Programs, including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tional Defense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urity and Disaster respon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 potential effects on future outf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885600" indent="-15804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gulatory actions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885600" indent="-15804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overnment Sponsored Enterprises (GSEs), etc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II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it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lig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 risk are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B912F6-FD00-4A9D-BE63-F607C84B92D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scal Sustaina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r Annual Report and Three-Year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of Current Projec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l Reporting E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sk Assum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-Private Partnershi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AFD03-14A0-4AA6-8E24-DF713F7A77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 </a:t>
            </a:r>
            <a:r>
              <a:rPr b="1" lang="en-US" sz="2000" spc="-1" strike="noStrike">
                <a:solidFill>
                  <a:srgbClr val="ff9257"/>
                </a:solidFill>
                <a:latin typeface="Verdana"/>
              </a:rPr>
              <a:t>(cont.)</a:t>
            </a: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- Insurance &amp; Guarantee Phase -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sk Force starting now to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federal Insurance and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Non-Loan]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arantee pro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ensure all programs are captured in updated standards/disclos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measurement method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re to Credit Reform accoun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itor FASB Insurance Contracts Exposure Draft Stat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measurement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ensure consistent reporting by all Insurance and Guarantee program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FA521-F0AD-4356-81E5-546515F5308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Lea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83520" cy="1298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 all leases financing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D2030-5052-4F3A-ACDE-09558A781B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18316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SAB is partnering with GASB to develop standards for governmental organiz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tative decision to establish a single model (with exceptions for short-term arrangement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ases create assets consisting of the “right to use” a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ases create liabilities consisting of the obligation to pay for th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ocus may be on the interest cost associated with leas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Leases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07723-AAA0-411E-B34D-B6055F63053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Public-Private Partnershi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8316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7000"/>
          </a:bodyPr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budget pressures, federal agencies h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ingly turned to public-private partnershi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e.g., PPPs, P3s) to accomplish go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cy of the full costs and risks of such partnerships  is the overall obj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 objectives includ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ing terms (e.g., service concession arrangements, P3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ing guidance for the recognition and measurement of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ts and liabilit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nues and expens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k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implications for other arrangements related to P3s (sale-leaseback or other long-term arrangement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1B454-7514-48F3-AAC6-DD5CDA1340E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18352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8B58E-895B-4D3F-BEFD-57AEFE2DA9B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88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Contact and Websit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7000"/>
          </a:bodyPr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inquiries can be directed to 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fasab@fasab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202 512-73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www.FASAB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serv (sign up for emai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sure Draf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Projects – assigned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can be reached 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paynew@fasab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02) 512-735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2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E2FBF-0783-4DB5-BAAA-53D0CD0BF05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752480"/>
            <a:ext cx="8183520" cy="15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f9257"/>
                </a:solidFill>
                <a:latin typeface="Verdana"/>
              </a:rPr>
              <a:t>Fiscal Sustainabil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F238E-E92D-4799-82FD-0603BF4F69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162480" cy="573768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59CBF-2DDD-43A2-9337-A2BFD1EA7B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1123920" y="361800"/>
            <a:ext cx="6895800" cy="6133680"/>
          </a:xfrm>
          <a:prstGeom prst="rect">
            <a:avLst/>
          </a:prstGeom>
          <a:ln w="9525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EE9F8-AE7B-4476-95C3-45056C148B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594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47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262626"/>
                </a:solidFill>
                <a:latin typeface="Verdana"/>
              </a:rPr>
              <a:t>FEDERAL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262626"/>
                </a:solidFill>
                <a:latin typeface="Verdana"/>
              </a:rPr>
              <a:t>ACCOUNTING STANDARD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262626"/>
                </a:solidFill>
                <a:latin typeface="Verdana"/>
              </a:rPr>
              <a:t>ADVISORY BOARD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i="1" lang="en-US" sz="9800" spc="-1" strike="noStrike">
                <a:solidFill>
                  <a:srgbClr val="0070c0"/>
                </a:solidFill>
                <a:latin typeface="Albertus MT Lt"/>
              </a:rPr>
              <a:t>Annual Report</a:t>
            </a:r>
            <a:r>
              <a:rPr b="0" i="1" lang="en-US" sz="80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Verdana"/>
              </a:rPr>
              <a:t>Fiscal Year Ended September 30, 2013</a:t>
            </a:r>
            <a:r>
              <a:rPr b="0" lang="en-US" sz="51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i="1" lang="en-US" sz="9800" spc="-1" strike="noStrike">
                <a:solidFill>
                  <a:srgbClr val="0070c0"/>
                </a:solidFill>
                <a:latin typeface="Albertus MT Lt"/>
              </a:rPr>
              <a:t>Three-Year Plan</a:t>
            </a:r>
            <a:r>
              <a:rPr b="0" i="1" lang="en-US" sz="8000" spc="-1" strike="noStrike">
                <a:solidFill>
                  <a:srgbClr val="0070c0"/>
                </a:solidFill>
                <a:latin typeface="Albertus MT L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Verdana"/>
              </a:rPr>
              <a:t>Fiscal Years 2014-2016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Verdana"/>
              </a:rPr>
              <a:t>Comments Requested by January 31, 20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D9245-D131-4098-BC42-B82160E61A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FASAB Annual Re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ginning in 2010 FASAB was asked to issue an annual report to facilitate oversigh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19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fasab.gov/about/our-annual-reports/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rogress upda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 feedback on continued conformance to the criteria for a GAAP-standards setting 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ed with our Three-year pl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16F8D-60F7-41E2-84DD-DAB74013B6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Three-Year Pl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2" descr="C:\Documents and Settings\paynew\Local Settings\Temporary Internet Files\Content.IE5\PI92ZBAH\MC900383284[1].wmf"/>
          <p:cNvPicPr/>
          <p:nvPr/>
        </p:nvPicPr>
        <p:blipFill>
          <a:blip r:embed="rId1"/>
          <a:stretch/>
        </p:blipFill>
        <p:spPr>
          <a:xfrm>
            <a:off x="1447920" y="1676520"/>
            <a:ext cx="4506480" cy="35049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4"/>
          <p:cNvSpPr/>
          <p:nvPr/>
        </p:nvSpPr>
        <p:spPr>
          <a:xfrm>
            <a:off x="5181480" y="4724280"/>
            <a:ext cx="3123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We need your inp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E619B-1008-493F-80EE-540B342D38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1282</TotalTime>
  <Application>LibreOffice/7.4.7.2$Linux_X86_64 LibreOffice_project/40$Build-2</Application>
  <AppVersion>15.0000</AppVersion>
  <Words>1431</Words>
  <Paragraphs>295</Paragraphs>
  <Company>GA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21:02:55Z</dcterms:created>
  <dc:creator>Wendy Payne</dc:creator>
  <dc:description/>
  <dc:language>en-US</dc:language>
  <cp:lastModifiedBy> GAO</cp:lastModifiedBy>
  <dcterms:modified xsi:type="dcterms:W3CDTF">2014-04-01T10:18:58Z</dcterms:modified>
  <cp:revision>213</cp:revision>
  <dc:subject/>
  <dc:title>Baltimore Chapter of the Association of Government Account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On-screen Show (4:3)</vt:lpwstr>
  </property>
  <property fmtid="{D5CDD505-2E9C-101B-9397-08002B2CF9AE}" pid="4" name="Slides">
    <vt:r8>35</vt:r8>
  </property>
</Properties>
</file>