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2EE-BF20-4AED-B2FA-3267B759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8BA-F1DB-4467-A411-3F523355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E8E-8376-40D2-B82A-63D350C0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633-F329-474C-B48C-BD9E23B3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E0C3-70F6-4899-8512-4426C821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1999-EE21-4172-82CC-D2B119AD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2092-56ED-4F53-A656-B8F108F9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5EA7-B727-4C3C-BE65-6ED0958A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29FE-FC9B-4A9C-9ABB-DE48B298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FE52-30FB-4516-BEF8-52FC9457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F5BE-0895-4A47-B57C-1FBEC75E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98E-BF57-4A75-9356-74A12482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BDE1-0645-4C94-9D9D-5FEA30F9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50FD-E5CB-4A19-B7B3-823D440D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8323-28C1-4404-AF5B-C4E0D30A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2FF2-6EB3-42E9-B5D2-A8E75E1F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C497-C022-47AA-A65A-76FEA309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AB5EC-AFCA-4AAF-A65C-CEC066CB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63E99-7408-45F4-8252-F537A882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6E53E-2FCD-4D61-A1AC-11F1331B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BAF4E-FD1F-4B6E-818E-6FF8CAA1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1A7F6-41BD-4E04-98D3-A870AD9F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51F-6F4F-4FE6-84DE-C3188A6D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F4243-EE3C-4BE6-8ECD-AE54721A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07987-9A20-413F-8357-0E0B892B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DF1B3-6118-4F7D-A4BB-4C2C62AA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18CD3-0FE4-4DDD-A516-3CB41D95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F0C62-FD5D-4817-81A8-2DF8195F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3B0F-D0C4-499F-B0B4-63413472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19221-CDAA-4762-9725-7F95FFB6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4DE-10F0-49E4-892B-68678910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65F-0D2E-4820-95E2-CEDDAAE8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AF0-C9C8-4C84-B772-7E656D26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266-2BC6-4011-B7FA-B5AE4DAB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710-2BCF-4A7C-AE26-11C02A17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26B-D942-447A-A1AF-47236E08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ECEAC5-DAB0-4830-AB9F-98F9D33C8306}" type="slidenum"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B4F946-2130-429D-98F6-A8D225F16BD7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1D67D0-0D43-4F02-93CE-4D46315E0EE7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IC Financial Action Committee 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rch 27, 20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endy Pay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ASAB Executive Dir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sclaimer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ews expressed are my own. The Board’s views are only expressed in official public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erview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SAB Three Year Plan and Annual Report – provide an update and/or decisions resulting from respondent comments and next steps, and DoD/IC impa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Y 2014 Auditor Roundtable Feedback - Based on the roundtable, what decisions on project priorities will be changed or consider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ing Entity Standard – decisions regarding changes resulting from respondent com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nal use Software – brief of IUS Task Force Report and prog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ASAB Three-year Plan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52360" indent="-2523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n recognizes effects of resource constrai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2360" indent="-2523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urrent Projec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600" indent="-2271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orting E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600" indent="-2271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orting Mod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600" indent="-2271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600" indent="-2271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sk Assum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600" indent="-2271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blic-Private Partnershi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2360" indent="-2523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olunteer Effort – Review and Improve I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earch Projec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nking cost to performance and managerial cost accoun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onciling budget to accrua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x expendi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atural re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ree-year Plan, Continued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260640" indent="-260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pondent commen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8760" indent="-23472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orsed completing current projec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8760" indent="-23472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suggest lease standards simply follow FASB resu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8760" indent="-23472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often mentione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9400" indent="-23472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agerial cost account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9400" indent="-23472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9400" indent="-23472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ax expenditu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8760" indent="-23472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D Request for Guid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xt Ste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7880" indent="-22644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ource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7880" indent="-22644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orities mostly endor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D/IC impa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7880" indent="-22644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ility of FASAB/AAPC to support audit readiness by resolving long-standing and emerg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7880" indent="-22644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39880" indent="-22644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und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39880" indent="-22644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7000"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Y 2014 Auditor Roundtable Feedback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y Them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ustomization adds value to reports but is not se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tement of Net Cost and Cost Accoun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lue from aud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cision of estim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rols in right pla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act of the Roundtab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pends on FFMC 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wo Studi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APA FASAB Stu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GA potential pilo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porting Entity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78280" indent="-2782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sa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50160" indent="-250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 organiza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28800" indent="-2505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budg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28800" indent="-2505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trolled by elected offici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28800" indent="-2505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wn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50160" indent="-250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olidation entities or disclosure organiz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50160" indent="-250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ministrative Assign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50160" indent="-250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par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66400" indent="-2664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gnificant chang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2440" indent="-2397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arify, clarify, clarif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9200" indent="-2397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clusion decision is from the perspective of the government as a who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9200" indent="-2397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exception for “in the budget”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9200" indent="-2397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rminolog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9200" indent="-2397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mporary relationship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2440" indent="-2397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deral Reserve required disclos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2440" indent="-2397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tential for adding illustr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rnal Use Softwar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ank you for the leadership and hard wor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ed to the Board in Mar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mbers want to know how to improve the value of information and minority of vocal members leaned toward expensing IUS if value cannot be shown or enhanc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xt ste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utreach to decision makers (OMB, Project Managers and the Hil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inue work on implementation guid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26</TotalTime>
  <Application>LibreOffice/7.4.7.2$Linux_X86_64 LibreOffice_project/40$Build-2</Application>
  <AppVersion>15.0000</AppVersion>
  <Words>387</Words>
  <Paragraphs>78</Paragraphs>
  <Company>GA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2:29:29Z</dcterms:created>
  <dc:creator>Wendy Payne</dc:creator>
  <dc:description/>
  <dc:language>en-US</dc:language>
  <cp:lastModifiedBy>Wendy Payne</cp:lastModifiedBy>
  <dcterms:modified xsi:type="dcterms:W3CDTF">2014-03-26T12:56:13Z</dcterms:modified>
  <cp:revision>3</cp:revision>
  <dc:subject/>
  <dc:title>IC Financial Action Committe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