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DFE4-4ADC-4E5E-B58F-FC7A2CD34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903C-9064-44BC-89D6-D1C9C1C29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ECE-A7B6-44F6-ABE4-C0EEAAFB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47F8-1C7B-46CF-8C37-26169C4B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DD476-98D8-4575-899B-CECCD63EB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7F840-9531-4D28-A842-2ED85B04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6A30-6161-4958-9862-BE8533EC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19C6-13B0-4906-9FC6-BEA5DA48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06DC-9E9F-451F-9C90-B1F3D3F2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5D0C5-D9BA-4DF1-9CB1-86B76E95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4F7F-BB81-40F8-973A-C9BFBDE9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8823-F89A-4046-A2B9-4F5B64D2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54C3-DD37-44CD-9C93-C3F4307F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3980-010B-45AB-9168-136E986F6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AC2FB-9B0B-4C12-9BCB-CD5B129D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A9342-B7C1-449C-815E-4193E15D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68F8-400A-42EF-BC59-E90CDABE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2D061-656F-4FB8-B287-BBE67B62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77D49-6F7D-4B1A-B751-1EC899E9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8E308-C45F-4A26-AB38-D61A6C7EC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9A86C-6D56-4908-81BE-917A262D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31E11-84F5-4C47-89AD-B5E06B7C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B4C8-120D-4F74-A2B3-B6202C468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B9584-3DBA-4720-AFA0-9F2B21D8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B1E62-0A01-41F7-9613-48C305E2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FE8DF-38B6-4F4B-8A12-F3F1EE16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CE1EB-6114-4123-9B18-C64EC508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433A3-A02B-45B5-ACC0-5D5C21F9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7D688-0EB6-4CA6-9458-AF63E1B1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93536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E24A3-5D20-47BE-9750-A1AA0B73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7D50-0ADE-42A3-91BC-8F1659A5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C0AF-9286-4E71-AEF1-F30B079E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70416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E1CA-06BD-4882-9D1E-CDE4DEAC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77FE-35DD-466D-A321-C4015AB1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438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A616-6EE6-4B47-9C54-45BC873F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5360"/>
            <a:ext cx="401580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240" cy="209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24B6-2D0C-49D6-9D09-0D2FF42D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aa2d6"/>
            </a:gs>
            <a:gs pos="100000">
              <a:srgbClr val="002b36"/>
            </a:gs>
          </a:gsLst>
          <a:path path="circle">
            <a:fillToRect l="50000" t="55000" r="50000" b="45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2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3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  <p:sp>
          <p:nvSpPr>
            <p:cNvPr id="4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onstantia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50e0ea"/>
                </a:solidFill>
                <a:latin typeface="Calibri"/>
              </a:rPr>
              <a:t>Click to edit Master title style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d1eaed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d1eaed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50F511-3F15-4D11-90A3-B8EE86F44878}" type="slidenum">
              <a:rPr b="0" lang="en-US" sz="1200" spc="-1" strike="noStrike">
                <a:solidFill>
                  <a:srgbClr val="d1eaed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49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Master title style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2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ird level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40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43CCE4-C167-4434-9146-41348890FC25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64772" sy="64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reeform 6"/>
          <p:cNvSpPr/>
          <p:nvPr/>
        </p:nvSpPr>
        <p:spPr>
          <a:xfrm>
            <a:off x="-9360" y="-7200"/>
            <a:ext cx="9162720" cy="1041120"/>
          </a:xfrm>
          <a:custGeom>
            <a:avLst/>
            <a:gdLst/>
            <a:ahLst/>
            <a:rect l="l" t="t" r="r" b="b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4a0">
                  <a:alpha val="45098"/>
                </a:srgbClr>
              </a:gs>
              <a:gs pos="100000">
                <a:srgbClr val="00c4cd">
                  <a:alpha val="55294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Freeform 7"/>
          <p:cNvSpPr/>
          <p:nvPr/>
        </p:nvSpPr>
        <p:spPr>
          <a:xfrm>
            <a:off x="4381560" y="-7200"/>
            <a:ext cx="4762080" cy="637920"/>
          </a:xfrm>
          <a:custGeom>
            <a:avLst/>
            <a:gdLst/>
            <a:ahLst/>
            <a:rect l="l" t="t" r="r" b="b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20000">
                <a:srgbClr val="008abf">
                  <a:alpha val="45098"/>
                </a:srgbClr>
              </a:gs>
              <a:gs pos="100000">
                <a:srgbClr val="00a0a8">
                  <a:alpha val="30196"/>
                </a:srgbClr>
              </a:gs>
            </a:gsLst>
            <a:lin ang="162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94" name="Group 1"/>
          <p:cNvGrpSpPr/>
          <p:nvPr/>
        </p:nvGrpSpPr>
        <p:grpSpPr>
          <a:xfrm>
            <a:off x="-29160" y="-16560"/>
            <a:ext cx="9197640" cy="1086120"/>
            <a:chOff x="-29160" y="-16560"/>
            <a:chExt cx="9197640" cy="1086120"/>
          </a:xfrm>
        </p:grpSpPr>
        <p:sp>
          <p:nvSpPr>
            <p:cNvPr id="95" name="Freeform 11"/>
            <p:cNvSpPr/>
            <p:nvPr/>
          </p:nvSpPr>
          <p:spPr>
            <a:xfrm rot="21435600">
              <a:off x="-18720" y="201960"/>
              <a:ext cx="9162720" cy="648720"/>
            </a:xfrm>
            <a:custGeom>
              <a:avLst/>
              <a:gdLst/>
              <a:ahLst/>
              <a:rect l="l" t="t" r="r" b="b"/>
              <a:pathLst>
                <a:path w="5772" h="1055">
                  <a:moveTo>
                    <a:pt x="0" y="966"/>
                  </a:moveTo>
                  <a:cubicBezTo>
                    <a:pt x="282" y="738"/>
                    <a:pt x="923" y="275"/>
                    <a:pt x="1608" y="282"/>
                  </a:cubicBezTo>
                  <a:cubicBezTo>
                    <a:pt x="2293" y="289"/>
                    <a:pt x="3416" y="1055"/>
                    <a:pt x="4110" y="1008"/>
                  </a:cubicBezTo>
                  <a:cubicBezTo>
                    <a:pt x="4804" y="961"/>
                    <a:pt x="5426" y="210"/>
                    <a:pt x="5772" y="0"/>
                  </a:cubicBezTo>
                </a:path>
              </a:pathLst>
            </a:custGeom>
            <a:noFill/>
            <a:ln w="10795">
              <a:solidFill>
                <a:srgbClr val="09b7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96" name="Freeform 12"/>
            <p:cNvSpPr/>
            <p:nvPr/>
          </p:nvSpPr>
          <p:spPr>
            <a:xfrm rot="21435600">
              <a:off x="-14040" y="275400"/>
              <a:ext cx="9175320" cy="529920"/>
            </a:xfrm>
            <a:custGeom>
              <a:avLst/>
              <a:gdLst/>
              <a:ahLst/>
              <a:rect l="l" t="t" r="r" b="b"/>
              <a:pathLst>
                <a:path w="5766" h="854">
                  <a:moveTo>
                    <a:pt x="0" y="732"/>
                  </a:moveTo>
                  <a:cubicBezTo>
                    <a:pt x="273" y="647"/>
                    <a:pt x="951" y="214"/>
                    <a:pt x="1638" y="228"/>
                  </a:cubicBezTo>
                  <a:cubicBezTo>
                    <a:pt x="2325" y="242"/>
                    <a:pt x="3434" y="854"/>
                    <a:pt x="4122" y="816"/>
                  </a:cubicBezTo>
                  <a:cubicBezTo>
                    <a:pt x="4810" y="778"/>
                    <a:pt x="5424" y="170"/>
                    <a:pt x="5766" y="0"/>
                  </a:cubicBezTo>
                </a:path>
              </a:pathLst>
            </a:custGeom>
            <a:noFill/>
            <a:ln w="9525">
              <a:solidFill>
                <a:srgbClr val="0f6fc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Master title style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body"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Master text sty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9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marL="1188720" indent="-210240">
              <a:lnSpc>
                <a:spcPct val="100000"/>
              </a:lnSpc>
              <a:spcBef>
                <a:spcPts val="360"/>
              </a:spcBef>
              <a:buClr>
                <a:srgbClr val="0bd0d9"/>
              </a:buClr>
              <a:buSzPct val="6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4" marL="1463040" indent="-210240">
              <a:lnSpc>
                <a:spcPct val="100000"/>
              </a:lnSpc>
              <a:spcBef>
                <a:spcPts val="360"/>
              </a:spcBef>
              <a:buClr>
                <a:srgbClr val="10cf9b"/>
              </a:buClr>
              <a:buSzPct val="65000"/>
              <a:buFont typeface="Wingdings 2" charset="2"/>
              <a:buChar char=""/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23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7924680" y="635652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3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C1B0F1-441E-42C3-8BF1-5954F2A6A738}" type="slidenum">
              <a:rPr b="0" lang="en-US" sz="1200" spc="-1" strike="noStrike">
                <a:solidFill>
                  <a:srgbClr val="03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240" cy="18284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0" bIns="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5600" spc="-1" strike="noStrike">
                <a:solidFill>
                  <a:srgbClr val="50e0ea"/>
                </a:solidFill>
                <a:latin typeface="Calibri"/>
              </a:rPr>
              <a:t>IC Financial Action Committee </a:t>
            </a:r>
            <a:endParaRPr b="0" lang="en-US" sz="5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33520" y="3228480"/>
            <a:ext cx="7854480" cy="17521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March 27, 201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Wendy Pay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ASAB Executive Dire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sclaimer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ews expressed are my own. The Board’s views are only expressed in official public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verview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57760" indent="-2577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ASAB Three Year Plan and Annual Report – provide an update and/or decisions resulting from respondent comments and next steps, and DoD/IC impa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-2577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Y 2014 Auditor Roundtable Feedback - Based on the roundtable, what decisions on project priorities will be changed or consider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-2577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ing Entity Standard – decisions regarding changes resulting from respondent com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-2577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rnal use Software – brief of IUS Task Force Report and progre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ASAB Three-year Plan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2000"/>
          </a:bodyPr>
          <a:p>
            <a:pPr marL="252360" indent="-2523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an recognizes effects of resource constrai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2360" indent="-2523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urrent Projec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8600" indent="-2271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porting Ent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600" indent="-2271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porting Mod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600" indent="-2271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e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600" indent="-2271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sk Assum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8600" indent="-2271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ublic-Private Partnershi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2360" indent="-25236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olunteer Effort – Review and Improve IU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earch Projec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nking cost to performance and managerial cost accoun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conciling budget to accrual inform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ax expendit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atural re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ree-year Plan, Continued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8000"/>
          </a:bodyPr>
          <a:p>
            <a:pPr marL="260640" indent="-260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spondent comment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8760" indent="-23472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ndorsed completing current projec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8760" indent="-23472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ome suggest lease standards simply follow FASB resul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8760" indent="-23472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ost often mentioned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69400" indent="-23472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anagerial cost account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9400" indent="-23472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69400" indent="-23472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ax expenditu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8760" indent="-23472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D Request for Guid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5000"/>
          </a:bodyPr>
          <a:p>
            <a:pPr marL="251640" indent="-251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xt Ste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7880" indent="-22644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ource iss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7880" indent="-22644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iorities mostly endors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1640" indent="-25164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oD/IC impa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587880" indent="-22644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bility of FASAB/AAPC to support audit readiness by resolving long-standing and emerging issu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587880" indent="-22644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39880" indent="-22644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und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39880" indent="-22644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Peop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rmAutofit fontScale="77000"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Y 2014 Auditor Roundtable Feedback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Key Them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ustomization adds value to reports but is not see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atement of Net Cost and Cost Account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alue from audi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cision of estimat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rols in right pla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00000"/>
              </a:lnSpc>
              <a:spcBef>
                <a:spcPts val="519"/>
              </a:spcBef>
              <a:buNone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mpact of the Roundtab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pends on FFMC ac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wo Studi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APA FASAB Stu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GA potential pilo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eporting Entity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4000"/>
          </a:bodyPr>
          <a:p>
            <a:pPr marL="278280" indent="-27828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posal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50160" indent="-250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clude organizatio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28800" indent="-2505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 the budge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28800" indent="-2505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ontrolled by elected official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28800" indent="-2505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Owne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50160" indent="-250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solidation entities or disclosure organiz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50160" indent="-250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dministrative Assignmen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50160" indent="-2505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lated par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48320" y="1920240"/>
            <a:ext cx="4038120" cy="443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0000"/>
          </a:bodyPr>
          <a:p>
            <a:pPr marL="266400" indent="-26640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gnificant chang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2440" indent="-2397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larify, clarify, clarify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889200" indent="-2397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Inclusion decision is from the perspective of the government as a who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89200" indent="-2397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exception for “in the budget”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89200" indent="-2397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rminology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889200" indent="-239760">
              <a:lnSpc>
                <a:spcPct val="100000"/>
              </a:lnSpc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emporary relationship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2440" indent="-2397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ederal Reserve required disclosur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2440" indent="-2397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tential for adding illustra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1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nternal Use Software</a:t>
            </a:r>
            <a:endParaRPr b="0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5360"/>
            <a:ext cx="8229240" cy="43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ank you for the leadership and hard wor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orted to the Board in Mar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embers want to know how to improve the value of information and minority of vocal members leaned toward expensing IUS if value cannot be shown or enhanc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519"/>
              </a:spcBef>
              <a:buClr>
                <a:srgbClr val="0bd0d9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ext ste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utreach to decision makers (OMB, Project Managers and the Hill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46960">
              <a:lnSpc>
                <a:spcPct val="100000"/>
              </a:lnSpc>
              <a:spcBef>
                <a:spcPts val="479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inue work on implementation guida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Flow">
  <a:themeElements>
    <a:clrScheme name="Flow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Flow</Template>
  <TotalTime>26</TotalTime>
  <Application>LibreOffice/7.4.7.2$Linux_X86_64 LibreOffice_project/40$Build-2</Application>
  <AppVersion>15.0000</AppVersion>
  <Words>387</Words>
  <Paragraphs>78</Paragraphs>
  <Company>GAO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2:29:29Z</dcterms:created>
  <dc:creator>Wendy Payne</dc:creator>
  <dc:description/>
  <dc:language>en-US</dc:language>
  <cp:lastModifiedBy>Wendy Payne</cp:lastModifiedBy>
  <dcterms:modified xsi:type="dcterms:W3CDTF">2014-03-26T12:56:13Z</dcterms:modified>
  <cp:revision>3</cp:revision>
  <dc:subject/>
  <dc:title>IC Financial Action Committe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On-screen Show (4:3)</vt:lpwstr>
  </property>
  <property fmtid="{D5CDD505-2E9C-101B-9397-08002B2CF9AE}" pid="3" name="Slides">
    <vt:r8>8</vt:r8>
  </property>
</Properties>
</file>